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523038" cy="99901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72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4074840"/>
            <a:ext cx="8572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4183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73240" y="1447920"/>
            <a:ext cx="4183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4074840"/>
            <a:ext cx="4183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73240" y="4074840"/>
            <a:ext cx="4183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2760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8880" y="1447920"/>
            <a:ext cx="2760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77600" y="1447920"/>
            <a:ext cx="2760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4074840"/>
            <a:ext cx="2760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8880" y="4074840"/>
            <a:ext cx="2760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77600" y="4074840"/>
            <a:ext cx="2760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520" y="1447920"/>
            <a:ext cx="85726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72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4183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73240" y="1447920"/>
            <a:ext cx="4183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520" y="687240"/>
            <a:ext cx="8572680" cy="246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4183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73240" y="1447920"/>
            <a:ext cx="4183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520" y="4074840"/>
            <a:ext cx="4183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1447920"/>
            <a:ext cx="85726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4183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73240" y="1447920"/>
            <a:ext cx="4183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73240" y="4074840"/>
            <a:ext cx="4183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4183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73240" y="1447920"/>
            <a:ext cx="4183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520" y="4074840"/>
            <a:ext cx="8572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72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520" y="4074840"/>
            <a:ext cx="8572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4183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73240" y="1447920"/>
            <a:ext cx="4183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520" y="4074840"/>
            <a:ext cx="4183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73240" y="4074840"/>
            <a:ext cx="4183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2760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78880" y="1447920"/>
            <a:ext cx="2760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7600" y="1447920"/>
            <a:ext cx="2760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520" y="4074840"/>
            <a:ext cx="2760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78880" y="4074840"/>
            <a:ext cx="2760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7600" y="4074840"/>
            <a:ext cx="2760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72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4183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73240" y="1447920"/>
            <a:ext cx="4183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520" y="687240"/>
            <a:ext cx="8572680" cy="246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4183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73240" y="1447920"/>
            <a:ext cx="4183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4074840"/>
            <a:ext cx="4183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4183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73240" y="1447920"/>
            <a:ext cx="4183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73240" y="4074840"/>
            <a:ext cx="4183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4183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73240" y="1447920"/>
            <a:ext cx="4183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4074840"/>
            <a:ext cx="8572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2540160" y="1295280"/>
            <a:ext cx="6603840" cy="100080"/>
            <a:chOff x="2540160" y="1295280"/>
            <a:chExt cx="6603840" cy="100080"/>
          </a:xfrm>
        </p:grpSpPr>
        <p:sp>
          <p:nvSpPr>
            <p:cNvPr id="3" name=""/>
            <p:cNvSpPr/>
            <p:nvPr/>
          </p:nvSpPr>
          <p:spPr>
            <a:xfrm>
              <a:off x="2540160" y="1295280"/>
              <a:ext cx="6603840" cy="76320"/>
            </a:xfrm>
            <a:prstGeom prst="rect">
              <a:avLst/>
            </a:prstGeom>
            <a:gradFill rotWithShape="0">
              <a:gsLst>
                <a:gs pos="0">
                  <a:srgbClr val="999933"/>
                </a:gs>
                <a:gs pos="100000">
                  <a:srgbClr val="ff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540160" y="1319040"/>
              <a:ext cx="6603840" cy="76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380520" y="1447920"/>
            <a:ext cx="8572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30492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118920" y="-76320"/>
            <a:ext cx="337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bcd8f6"/>
                </a:solidFill>
                <a:latin typeface="Times New Roman"/>
              </a:rPr>
              <a:t>CT-UFES – Pag. </a:t>
            </a:r>
            <a:fld id="{56A58F5A-B132-4C98-BCDA-E26196D14C82}" type="slidenum">
              <a:rPr b="0" lang="pt-BR" sz="2000" spc="-1" strike="noStrike">
                <a:solidFill>
                  <a:srgbClr val="bcd8f6"/>
                </a:solidFill>
                <a:latin typeface="Times New Roman"/>
              </a:rPr>
              <a:t>&lt;number&gt;</a:t>
            </a:fld>
            <a:r>
              <a:rPr b="0" lang="pt-BR" sz="2000" spc="-1" strike="noStrike">
                <a:solidFill>
                  <a:srgbClr val="bcd8f6"/>
                </a:solidFill>
                <a:latin typeface="Times New Roman"/>
              </a:rPr>
              <a:t>/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30492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2540160" y="3657600"/>
            <a:ext cx="6603840" cy="100080"/>
            <a:chOff x="2540160" y="3657600"/>
            <a:chExt cx="6603840" cy="100080"/>
          </a:xfrm>
        </p:grpSpPr>
        <p:sp>
          <p:nvSpPr>
            <p:cNvPr id="49" name=""/>
            <p:cNvSpPr/>
            <p:nvPr/>
          </p:nvSpPr>
          <p:spPr>
            <a:xfrm>
              <a:off x="2540160" y="3657600"/>
              <a:ext cx="6603840" cy="76320"/>
            </a:xfrm>
            <a:prstGeom prst="rect">
              <a:avLst/>
            </a:prstGeom>
            <a:gradFill rotWithShape="0">
              <a:gsLst>
                <a:gs pos="0">
                  <a:srgbClr val="999933"/>
                </a:gs>
                <a:gs pos="100000">
                  <a:srgbClr val="ff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40160" y="3681360"/>
              <a:ext cx="6603840" cy="76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33720" y="2209320"/>
            <a:ext cx="6781680" cy="10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rossy@faesa.br" TargetMode="External"/><Relationship Id="rId2" Type="http://schemas.openxmlformats.org/officeDocument/2006/relationships/hyperlink" Target="mailto:togneri@zaz.com.br" TargetMode="External"/><Relationship Id="rId3" Type="http://schemas.openxmlformats.org/officeDocument/2006/relationships/hyperlink" Target="mailto:tavares@inf.ufes.br" TargetMode="External"/><Relationship Id="rId4" Type="http://schemas.openxmlformats.org/officeDocument/2006/relationships/hyperlink" Target="mailto:credine@inf.ufes.br" TargetMode="External"/><Relationship Id="rId5" Type="http://schemas.openxmlformats.org/officeDocument/2006/relationships/hyperlink" Target="mailto:falbo@inf.ufes.br" TargetMode="External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76520" y="1038240"/>
            <a:ext cx="7238880" cy="22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m Sistema Multiagente para Gerência de Reuniões em Ambientes de Aprendizagem Cooperativa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657600" y="3657600"/>
            <a:ext cx="5486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lvana R. Br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1"/>
              </a:rPr>
              <a:t>srossy@faesa.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ise F. Togne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2"/>
              </a:rPr>
              <a:t>togneri@zaz.com.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ivaldo L.  Tav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3"/>
              </a:rPr>
              <a:t>tavares@inf.ufes.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diné S. Menez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4"/>
              </a:rPr>
              <a:t>credine@inf.ufes.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ardo Fal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5"/>
              </a:rPr>
              <a:t>falbo@inf.ufes.br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delo de Papei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72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80880" y="1371600"/>
            <a:ext cx="8458200" cy="5181120"/>
            <a:chOff x="380880" y="1371600"/>
            <a:chExt cx="8458200" cy="5181120"/>
          </a:xfrm>
        </p:grpSpPr>
        <p:sp>
          <p:nvSpPr>
            <p:cNvPr id="128" name=""/>
            <p:cNvSpPr/>
            <p:nvPr/>
          </p:nvSpPr>
          <p:spPr>
            <a:xfrm>
              <a:off x="556920" y="6056280"/>
              <a:ext cx="8030520" cy="49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Times New Roman"/>
                </a:rPr>
                <a:t>Fig. 5. </a:t>
              </a:r>
              <a:r>
                <a:rPr b="0" lang="pt-BR" sz="1000" spc="-1" strike="noStrike">
                  <a:solidFill>
                    <a:srgbClr val="000000"/>
                  </a:solidFill>
                  <a:latin typeface="Times New Roman"/>
                </a:rPr>
                <a:t>Esquema do Papel Gerente do Cha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380880" y="1371600"/>
              <a:ext cx="8458200" cy="4684680"/>
              <a:chOff x="380880" y="1371600"/>
              <a:chExt cx="8458200" cy="4684680"/>
            </a:xfrm>
          </p:grpSpPr>
          <p:sp>
            <p:nvSpPr>
              <p:cNvPr id="130" name=""/>
              <p:cNvSpPr/>
              <p:nvPr/>
            </p:nvSpPr>
            <p:spPr>
              <a:xfrm>
                <a:off x="380880" y="1371600"/>
                <a:ext cx="8458200" cy="4684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Times New Roman"/>
                  </a:rPr>
                  <a:t>Esquema do Papel: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Times New Roman"/>
                  </a:rPr>
                  <a:t>GerenteCha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Times New Roman"/>
                  </a:rPr>
                  <a:t>Descrição: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Times New Roman"/>
                  </a:rPr>
                  <a:t>Este papel envolve receber e validar as informações do projeto. Se a prioridade da reunião for alta, agenda a reunião para todos os participantes, incondicionalmente, caso contrário, consulta as agendas verificando a disponibilidade dos participantes do projeto. Caso a agenda de todos os participantes esteja livre, agenda a reunião; senão, informa conflitos ao atendente do gerente do projeto.  Quando qualquer reunião for marcada/alterada , informa os participantes e registra a reunião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Times New Roman"/>
                  </a:rPr>
                  <a:t>Protocolos:</a:t>
                </a:r>
                <a:r>
                  <a:rPr b="0" i="1" lang="pt-BR" sz="1800" spc="-1" strike="noStrike">
                    <a:solidFill>
                      <a:srgbClr val="000000"/>
                    </a:solidFill>
                    <a:latin typeface="Times New Roman"/>
                  </a:rPr>
                  <a:t>ChecaValidadeChat, ChecaConflitos, AgendaChat, EnviaEmail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Times New Roman"/>
                  </a:rPr>
                  <a:t>Permissões: 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Times New Roman"/>
                  </a:rPr>
                  <a:t>LerParticChat, AgPesso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Times New Roman"/>
                  </a:rPr>
                  <a:t>GeraAgChat, ParticCha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Times New Roman"/>
                  </a:rPr>
                  <a:t>Responsabilidad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pt-BR" sz="1800" spc="-1" strike="noStrike">
                    <a:solidFill>
                      <a:srgbClr val="000000"/>
                    </a:solidFill>
                    <a:latin typeface="Times New Roman"/>
                  </a:rPr>
                  <a:t>Liveness:</a:t>
                </a:r>
                <a:r>
                  <a:rPr b="0" i="1" lang="pt-BR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Times New Roman"/>
                  </a:rPr>
                  <a:t>GerenteChat   </a:t>
                </a:r>
                <a:r>
                  <a:rPr b="0" i="1" lang="pt-BR" sz="1800" spc="-1" strike="noStrike">
                    <a:solidFill>
                      <a:srgbClr val="000000"/>
                    </a:solidFill>
                    <a:latin typeface="Times New Roman"/>
                  </a:rPr>
                  <a:t>=( 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Times New Roman"/>
                  </a:rPr>
                  <a:t>ChecaValidadeChat | ChecaValidadeChat.ChecaConflito|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Times New Roman"/>
                  </a:rPr>
                  <a:t>ChecaValidadeChat.ChecaConflito.AgendaChat.EnviaMail)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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pt-BR" sz="1800" spc="-1" strike="noStrike">
                    <a:solidFill>
                      <a:srgbClr val="000000"/>
                    </a:solidFill>
                    <a:latin typeface="Times New Roman"/>
                  </a:rPr>
                  <a:t>Segurança: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Times New Roman"/>
                  </a:rPr>
                  <a:t>RelacaoParticProbl = ni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Times New Roman"/>
                  </a:rPr>
                  <a:t>RelaçãoParticChat &gt; 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880" y="1778760"/>
                <a:ext cx="8458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delo de Papei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72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0880" y="1447920"/>
            <a:ext cx="8458200" cy="5104080"/>
            <a:chOff x="380880" y="1447920"/>
            <a:chExt cx="8458200" cy="5104080"/>
          </a:xfrm>
        </p:grpSpPr>
        <p:grpSp>
          <p:nvGrpSpPr>
            <p:cNvPr id="135" name=""/>
            <p:cNvGrpSpPr/>
            <p:nvPr/>
          </p:nvGrpSpPr>
          <p:grpSpPr>
            <a:xfrm>
              <a:off x="380880" y="1447920"/>
              <a:ext cx="8458200" cy="5104080"/>
              <a:chOff x="380880" y="1447920"/>
              <a:chExt cx="8458200" cy="5104080"/>
            </a:xfrm>
          </p:grpSpPr>
          <p:sp>
            <p:nvSpPr>
              <p:cNvPr id="136" name=""/>
              <p:cNvSpPr/>
              <p:nvPr/>
            </p:nvSpPr>
            <p:spPr>
              <a:xfrm>
                <a:off x="556920" y="5914440"/>
                <a:ext cx="803052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000" spc="-1" strike="noStrike">
                    <a:solidFill>
                      <a:srgbClr val="000000"/>
                    </a:solidFill>
                    <a:latin typeface="Times New Roman"/>
                  </a:rPr>
                  <a:t>Fig. 6.</a:t>
                </a:r>
                <a:r>
                  <a:rPr b="0" lang="pt-BR" sz="1000" spc="-1" strike="noStrike">
                    <a:solidFill>
                      <a:srgbClr val="000000"/>
                    </a:solidFill>
                    <a:latin typeface="Times New Roman"/>
                  </a:rPr>
                  <a:t> Esquema do Papel Gravador de Cha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80880" y="1447920"/>
                <a:ext cx="8458200" cy="4466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800" spc="-1" strike="noStrike">
                    <a:solidFill>
                      <a:srgbClr val="000000"/>
                    </a:solidFill>
                    <a:latin typeface="Times New Roman"/>
                  </a:rPr>
                  <a:t>Esquema do Papel:</a:t>
                </a:r>
                <a:r>
                  <a:rPr b="0" lang="pt-BR" sz="2800" spc="-1" strike="noStrike">
                    <a:solidFill>
                      <a:srgbClr val="000000"/>
                    </a:solidFill>
                    <a:latin typeface="Times New Roman"/>
                  </a:rPr>
                  <a:t>GravadorCha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800" spc="-1" strike="noStrike">
                    <a:solidFill>
                      <a:srgbClr val="000000"/>
                    </a:solidFill>
                    <a:latin typeface="Times New Roman"/>
                  </a:rPr>
                  <a:t>Descrição:</a:t>
                </a:r>
                <a:r>
                  <a:rPr b="0" lang="pt-BR" sz="2800" spc="-1" strike="noStrike">
                    <a:solidFill>
                      <a:srgbClr val="000000"/>
                    </a:solidFill>
                    <a:latin typeface="Times New Roman"/>
                  </a:rPr>
                  <a:t>Este papel envolve receber todas as mensagens com a informação se devem ser gravadas ou não.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800" spc="-1" strike="noStrike">
                    <a:solidFill>
                      <a:srgbClr val="000000"/>
                    </a:solidFill>
                    <a:latin typeface="Times New Roman"/>
                  </a:rPr>
                  <a:t>Protocolos:</a:t>
                </a:r>
                <a:r>
                  <a:rPr b="0" i="1" lang="pt-BR" sz="2800" spc="-1" strike="noStrike">
                    <a:solidFill>
                      <a:srgbClr val="000000"/>
                    </a:solidFill>
                    <a:latin typeface="Times New Roman"/>
                  </a:rPr>
                  <a:t>GravaMsgCha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800" spc="-1" strike="noStrike">
                    <a:solidFill>
                      <a:srgbClr val="000000"/>
                    </a:solidFill>
                    <a:latin typeface="Times New Roman"/>
                  </a:rPr>
                  <a:t>Permissões: </a:t>
                </a:r>
                <a:r>
                  <a:rPr b="0" lang="pt-BR" sz="2800" spc="-1" strike="noStrike">
                    <a:solidFill>
                      <a:srgbClr val="000000"/>
                    </a:solidFill>
                    <a:latin typeface="Times New Roman"/>
                  </a:rPr>
                  <a:t>Grava MsgCha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800" spc="-1" strike="noStrike">
                    <a:solidFill>
                      <a:srgbClr val="000000"/>
                    </a:solidFill>
                    <a:latin typeface="Times New Roman"/>
                  </a:rPr>
                  <a:t>Responsabilidade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pt-BR" sz="2800" spc="-1" strike="noStrike">
                    <a:solidFill>
                      <a:srgbClr val="000000"/>
                    </a:solidFill>
                    <a:latin typeface="Times New Roman"/>
                  </a:rPr>
                  <a:t>Liveness:</a:t>
                </a:r>
                <a:r>
                  <a:rPr b="0" i="1" lang="pt-BR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800" spc="-1" strike="noStrike">
                    <a:solidFill>
                      <a:srgbClr val="000000"/>
                    </a:solidFill>
                    <a:latin typeface="Times New Roman"/>
                  </a:rPr>
                  <a:t>GravadorChat   </a:t>
                </a:r>
                <a:r>
                  <a:rPr b="0" i="1" lang="pt-BR" sz="2800" spc="-1" strike="noStrike">
                    <a:solidFill>
                      <a:srgbClr val="000000"/>
                    </a:solidFill>
                    <a:latin typeface="Times New Roman"/>
                  </a:rPr>
                  <a:t>=(GravaMsgChat)</a:t>
                </a:r>
                <a:r>
                  <a:rPr b="0" lang="pt-BR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pt-BR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</a:t>
                </a:r>
                <a:r>
                  <a:rPr b="0" lang="pt-BR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pt-BR" sz="2800" spc="-1" strike="noStrike">
                    <a:solidFill>
                      <a:srgbClr val="000000"/>
                    </a:solidFill>
                    <a:latin typeface="Times New Roman"/>
                  </a:rPr>
                  <a:t>Segurança: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380880" y="2086200"/>
              <a:ext cx="845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delo de Interaçõ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72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457200" y="1447920"/>
            <a:ext cx="8229600" cy="4876200"/>
            <a:chOff x="457200" y="1447920"/>
            <a:chExt cx="8229600" cy="4876200"/>
          </a:xfrm>
        </p:grpSpPr>
        <p:sp>
          <p:nvSpPr>
            <p:cNvPr id="142" name=""/>
            <p:cNvSpPr/>
            <p:nvPr/>
          </p:nvSpPr>
          <p:spPr>
            <a:xfrm>
              <a:off x="457200" y="1447920"/>
              <a:ext cx="7403040" cy="412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931360" y="4119480"/>
              <a:ext cx="2220480" cy="10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RelacaoParticPro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61680" y="2235600"/>
              <a:ext cx="5269320" cy="296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ChecaConflit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GerenteChat                 AtendenteGerPro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Checar conflitos na agenda individual de cada participan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9800" y="2948040"/>
              <a:ext cx="5281200" cy="4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543480" y="2948040"/>
              <a:ext cx="0" cy="78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124320" y="2243880"/>
              <a:ext cx="2562480" cy="13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InformValidad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49800" y="5199120"/>
              <a:ext cx="7516800" cy="112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imes New Roman"/>
                </a:rPr>
                <a:t>Fig. 7.  </a:t>
              </a: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Definição do protocolo ChecaConflit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49800" y="3683880"/>
              <a:ext cx="663192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delo de Interaçõ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72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57200" y="1447920"/>
            <a:ext cx="8305560" cy="5028480"/>
            <a:chOff x="457200" y="1447920"/>
            <a:chExt cx="8305560" cy="5028480"/>
          </a:xfrm>
        </p:grpSpPr>
        <p:sp>
          <p:nvSpPr>
            <p:cNvPr id="153" name=""/>
            <p:cNvSpPr/>
            <p:nvPr/>
          </p:nvSpPr>
          <p:spPr>
            <a:xfrm>
              <a:off x="457200" y="1447920"/>
              <a:ext cx="7890840" cy="4254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56120" y="4002840"/>
              <a:ext cx="2390040" cy="110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ReuniãoAgenda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77520" y="2260080"/>
              <a:ext cx="4762800" cy="305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AgendaCh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GerenteChat                   AtendenteGerProj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Agendar chat para cada um dos participan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741400" y="3059280"/>
              <a:ext cx="0" cy="81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856120" y="1682280"/>
              <a:ext cx="2906640" cy="17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Projeto, CtIni, DtFim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HrIni, HrFim, RelacaoParticCha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64560" y="5315760"/>
              <a:ext cx="809136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imes New Roman"/>
                </a:rPr>
                <a:t>Fig. 8.  </a:t>
              </a: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Definição do protocolo AgendaCh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64560" y="2971080"/>
              <a:ext cx="477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4560" y="3787920"/>
              <a:ext cx="622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delo de Serviço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28480" y="1371600"/>
            <a:ext cx="86155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3886200"/>
            <a:ext cx="1666800" cy="12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AtendenteGerPro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2057400"/>
            <a:ext cx="18352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AgInterfaceGerPro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752480" y="1981080"/>
            <a:ext cx="18338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AgGerCh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57400" y="3962520"/>
            <a:ext cx="1833480" cy="12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GerenteCh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895480" y="3809880"/>
            <a:ext cx="1166760" cy="12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nsagei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819520" y="1905120"/>
            <a:ext cx="18334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AgMensagei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86200" y="3809880"/>
            <a:ext cx="18352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AtendenteParticCh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62520" y="1905120"/>
            <a:ext cx="216684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AgInterfacePar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81480" y="3886200"/>
            <a:ext cx="183384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CompositorGru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257800" y="1981080"/>
            <a:ext cx="216684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AgCompGru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96080" y="3733920"/>
            <a:ext cx="1833840" cy="8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GravadorC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29400" y="3809880"/>
            <a:ext cx="183348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ClonePar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553080" y="1981080"/>
            <a:ext cx="216540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AgClonePar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824040" y="2589120"/>
            <a:ext cx="0" cy="12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495520" y="2595240"/>
            <a:ext cx="0" cy="12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3182760" y="2595240"/>
            <a:ext cx="0" cy="12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4510080" y="2459160"/>
            <a:ext cx="0" cy="12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5689440" y="2558520"/>
            <a:ext cx="0" cy="12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8048520" y="2319480"/>
            <a:ext cx="0" cy="12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7015320" y="2424240"/>
            <a:ext cx="0" cy="12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24040" y="2589120"/>
            <a:ext cx="49824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630760" y="2589120"/>
            <a:ext cx="50004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56240" y="2990880"/>
            <a:ext cx="50004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989840" y="2584440"/>
            <a:ext cx="50004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44760" y="2995560"/>
            <a:ext cx="5014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25880" y="2990880"/>
            <a:ext cx="49824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15320" y="2589120"/>
            <a:ext cx="5014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28480" y="5024520"/>
            <a:ext cx="76662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ig. 9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o de ag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691040" y="198108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gGravaC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delo de Conhecimento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1447920"/>
            <a:ext cx="8458200" cy="324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719360" y="1447920"/>
            <a:ext cx="2166840" cy="8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gInterfaceGerPro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828800"/>
            <a:ext cx="221004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gInterfacePar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149560" y="3468600"/>
            <a:ext cx="183996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gGerC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91320" y="3657600"/>
            <a:ext cx="183996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gClonePar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657600" y="3468600"/>
            <a:ext cx="167004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gMensagei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989520" y="2244600"/>
            <a:ext cx="15048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gGravaC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77720" y="3468600"/>
            <a:ext cx="183996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gCompGru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54200" y="23162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400800" y="23162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2986200" y="3876840"/>
            <a:ext cx="668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2819520" y="2652840"/>
            <a:ext cx="1003320" cy="815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815840" y="3876840"/>
            <a:ext cx="501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44400" y="5100480"/>
            <a:ext cx="75265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g. 10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odelo de Conhec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992840" y="3876840"/>
            <a:ext cx="836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estões de Projeto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72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ssa etapa, algumas questões de projeto devem ser observada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nto à arquitetura: agentes são, tipicamente, processos separados, que podem estar processando no mesmo espaço ou em máquinas diferentes. Neste caso, as máquinas estão acessíveis  via Internet e os agentes podem estar distribuídos na rede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nto ao modo de comunicação:  o sistema suporta mensagens de um agente para um conjunto de agentes. O sistema também suporta comunicação de forma explícita, ponto a ponto (um-para-um), através de endereço da rede ou número da por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520" y="247320"/>
            <a:ext cx="8572680" cy="9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rquitetura do Gerenciador Inteligente de Reuniõ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46680" y="2646360"/>
            <a:ext cx="1139760" cy="341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261040" y="2016000"/>
            <a:ext cx="3135240" cy="404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49280" y="1576440"/>
            <a:ext cx="8112240" cy="475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17760" y="2286000"/>
            <a:ext cx="2350800" cy="377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ttendants of   Particip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ttendant of Project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655560" y="3635280"/>
          <a:ext cx="37476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3635280"/>
                    <a:ext cx="37476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7" name=""/>
          <p:cNvGrpSpPr/>
          <p:nvPr/>
        </p:nvGrpSpPr>
        <p:grpSpPr>
          <a:xfrm>
            <a:off x="2328840" y="2556000"/>
            <a:ext cx="723960" cy="809640"/>
            <a:chOff x="2328840" y="2556000"/>
            <a:chExt cx="723960" cy="809640"/>
          </a:xfrm>
        </p:grpSpPr>
        <p:sp>
          <p:nvSpPr>
            <p:cNvPr id="218" name=""/>
            <p:cNvSpPr/>
            <p:nvPr/>
          </p:nvSpPr>
          <p:spPr>
            <a:xfrm>
              <a:off x="2328840" y="2556000"/>
              <a:ext cx="723960" cy="809640"/>
            </a:xfrm>
            <a:custGeom>
              <a:avLst/>
              <a:gdLst>
                <a:gd name="textAreaLeft" fmla="*/ 35280 w 723960"/>
                <a:gd name="textAreaRight" fmla="*/ 688680 w 723960"/>
                <a:gd name="textAreaTop" fmla="*/ 35280 h 809640"/>
                <a:gd name="textAreaBottom" fmla="*/ 774360 h 809640"/>
              </a:gdLst>
              <a:ahLst/>
              <a:rect l="textAreaLeft" t="textAreaTop" r="textAreaRight" b="textAreaBottom"/>
              <a:pathLst>
                <a:path w="21600" h="24155">
                  <a:moveTo>
                    <a:pt x="3600" y="0"/>
                  </a:moveTo>
                  <a:arcTo wR="3600" hR="3600" stAng="16200000" swAng="-5400000"/>
                  <a:lnTo>
                    <a:pt x="0" y="20555"/>
                  </a:lnTo>
                  <a:arcTo wR="3600" hR="3600" stAng="10800000" swAng="-5400000"/>
                  <a:lnTo>
                    <a:pt x="18000" y="241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9" name=""/>
            <p:cNvGrpSpPr/>
            <p:nvPr/>
          </p:nvGrpSpPr>
          <p:grpSpPr>
            <a:xfrm>
              <a:off x="2432160" y="2717640"/>
              <a:ext cx="173880" cy="496440"/>
              <a:chOff x="2432160" y="2717640"/>
              <a:chExt cx="173880" cy="496440"/>
            </a:xfrm>
          </p:grpSpPr>
          <p:sp>
            <p:nvSpPr>
              <p:cNvPr id="220" name=""/>
              <p:cNvSpPr/>
              <p:nvPr/>
            </p:nvSpPr>
            <p:spPr>
              <a:xfrm>
                <a:off x="2466360" y="2717640"/>
                <a:ext cx="106920" cy="172080"/>
              </a:xfrm>
              <a:prstGeom prst="ellips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1" name=""/>
              <p:cNvGrpSpPr/>
              <p:nvPr/>
            </p:nvGrpSpPr>
            <p:grpSpPr>
              <a:xfrm>
                <a:off x="2432160" y="2905560"/>
                <a:ext cx="173880" cy="308520"/>
                <a:chOff x="2432160" y="2905560"/>
                <a:chExt cx="173880" cy="30852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2459520" y="2905560"/>
                  <a:ext cx="116640" cy="88920"/>
                </a:xfrm>
                <a:prstGeom prst="rect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2432160" y="2964600"/>
                  <a:ext cx="173880" cy="249480"/>
                </a:xfrm>
                <a:prstGeom prst="rect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2432160" y="2905560"/>
                  <a:ext cx="60480" cy="117360"/>
                </a:xfrm>
                <a:prstGeom prst="ellips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2541960" y="2905560"/>
                  <a:ext cx="64080" cy="112680"/>
                </a:xfrm>
                <a:prstGeom prst="ellips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6" name=""/>
            <p:cNvGrpSpPr/>
            <p:nvPr/>
          </p:nvGrpSpPr>
          <p:grpSpPr>
            <a:xfrm>
              <a:off x="2742480" y="2717640"/>
              <a:ext cx="173880" cy="496440"/>
              <a:chOff x="2742480" y="2717640"/>
              <a:chExt cx="173880" cy="496440"/>
            </a:xfrm>
          </p:grpSpPr>
          <p:sp>
            <p:nvSpPr>
              <p:cNvPr id="227" name=""/>
              <p:cNvSpPr/>
              <p:nvPr/>
            </p:nvSpPr>
            <p:spPr>
              <a:xfrm>
                <a:off x="2776680" y="2717640"/>
                <a:ext cx="106920" cy="172080"/>
              </a:xfrm>
              <a:prstGeom prst="ellips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8" name=""/>
              <p:cNvGrpSpPr/>
              <p:nvPr/>
            </p:nvGrpSpPr>
            <p:grpSpPr>
              <a:xfrm>
                <a:off x="2742480" y="2905560"/>
                <a:ext cx="173880" cy="308520"/>
                <a:chOff x="2742480" y="2905560"/>
                <a:chExt cx="173880" cy="3085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2769840" y="2905560"/>
                  <a:ext cx="116640" cy="88920"/>
                </a:xfrm>
                <a:prstGeom prst="rect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2742480" y="2964600"/>
                  <a:ext cx="173880" cy="249480"/>
                </a:xfrm>
                <a:prstGeom prst="rect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2742480" y="2905560"/>
                  <a:ext cx="60480" cy="117360"/>
                </a:xfrm>
                <a:prstGeom prst="ellips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2852280" y="2905560"/>
                  <a:ext cx="64080" cy="112680"/>
                </a:xfrm>
                <a:prstGeom prst="ellips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33" name=""/>
          <p:cNvSpPr/>
          <p:nvPr/>
        </p:nvSpPr>
        <p:spPr>
          <a:xfrm>
            <a:off x="1192320" y="2825640"/>
            <a:ext cx="1012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192320" y="4443480"/>
            <a:ext cx="885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380880" y="2286000"/>
            <a:ext cx="1393920" cy="1515600"/>
            <a:chOff x="380880" y="2286000"/>
            <a:chExt cx="1393920" cy="1515600"/>
          </a:xfrm>
        </p:grpSpPr>
        <p:grpSp>
          <p:nvGrpSpPr>
            <p:cNvPr id="236" name=""/>
            <p:cNvGrpSpPr/>
            <p:nvPr/>
          </p:nvGrpSpPr>
          <p:grpSpPr>
            <a:xfrm>
              <a:off x="504360" y="2286000"/>
              <a:ext cx="211680" cy="644760"/>
              <a:chOff x="504360" y="2286000"/>
              <a:chExt cx="211680" cy="644760"/>
            </a:xfrm>
          </p:grpSpPr>
          <p:sp>
            <p:nvSpPr>
              <p:cNvPr id="237" name=""/>
              <p:cNvSpPr/>
              <p:nvPr/>
            </p:nvSpPr>
            <p:spPr>
              <a:xfrm>
                <a:off x="545760" y="2286000"/>
                <a:ext cx="130320" cy="223560"/>
              </a:xfrm>
              <a:prstGeom prst="ellips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8" name=""/>
              <p:cNvGrpSpPr/>
              <p:nvPr/>
            </p:nvGrpSpPr>
            <p:grpSpPr>
              <a:xfrm>
                <a:off x="504360" y="2530080"/>
                <a:ext cx="211680" cy="400680"/>
                <a:chOff x="504360" y="2530080"/>
                <a:chExt cx="211680" cy="40068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537840" y="2530080"/>
                  <a:ext cx="141840" cy="115200"/>
                </a:xfrm>
                <a:prstGeom prst="rect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504360" y="2606760"/>
                  <a:ext cx="211680" cy="324000"/>
                </a:xfrm>
                <a:prstGeom prst="rect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504360" y="2530080"/>
                  <a:ext cx="73440" cy="152280"/>
                </a:xfrm>
                <a:prstGeom prst="ellips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37920" y="2530080"/>
                  <a:ext cx="77760" cy="146160"/>
                </a:xfrm>
                <a:prstGeom prst="ellips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3" name=""/>
            <p:cNvGrpSpPr/>
            <p:nvPr/>
          </p:nvGrpSpPr>
          <p:grpSpPr>
            <a:xfrm>
              <a:off x="883800" y="2286000"/>
              <a:ext cx="213840" cy="644760"/>
              <a:chOff x="883800" y="2286000"/>
              <a:chExt cx="213840" cy="644760"/>
            </a:xfrm>
          </p:grpSpPr>
          <p:sp>
            <p:nvSpPr>
              <p:cNvPr id="244" name=""/>
              <p:cNvSpPr/>
              <p:nvPr/>
            </p:nvSpPr>
            <p:spPr>
              <a:xfrm>
                <a:off x="925560" y="2286000"/>
                <a:ext cx="131400" cy="223560"/>
              </a:xfrm>
              <a:prstGeom prst="ellips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5" name=""/>
              <p:cNvGrpSpPr/>
              <p:nvPr/>
            </p:nvGrpSpPr>
            <p:grpSpPr>
              <a:xfrm>
                <a:off x="883800" y="2530080"/>
                <a:ext cx="213840" cy="400680"/>
                <a:chOff x="883800" y="2530080"/>
                <a:chExt cx="213840" cy="40068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917640" y="2530080"/>
                  <a:ext cx="143280" cy="115200"/>
                </a:xfrm>
                <a:prstGeom prst="rect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883800" y="2606760"/>
                  <a:ext cx="213840" cy="324000"/>
                </a:xfrm>
                <a:prstGeom prst="rect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883800" y="2530080"/>
                  <a:ext cx="74160" cy="152280"/>
                </a:xfrm>
                <a:prstGeom prst="ellips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18800" y="2530080"/>
                  <a:ext cx="78840" cy="146160"/>
                </a:xfrm>
                <a:prstGeom prst="ellips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0" name=""/>
            <p:cNvSpPr/>
            <p:nvPr/>
          </p:nvSpPr>
          <p:spPr>
            <a:xfrm>
              <a:off x="380880" y="2964240"/>
              <a:ext cx="1393920" cy="83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Times New Roman"/>
                </a:rPr>
                <a:t>Participan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457200" y="4952880"/>
            <a:ext cx="1393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roject Manager</a:t>
            </a: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51360" y="4983120"/>
            <a:ext cx="128592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mmun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4267080" y="3048120"/>
          <a:ext cx="465120" cy="133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3048120"/>
                    <a:ext cx="46512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3259080" y="3203640"/>
            <a:ext cx="993960" cy="26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3276720" y="4190760"/>
            <a:ext cx="99036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1752480"/>
            <a:ext cx="25336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Attendance Di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5576760" y="2414520"/>
            <a:ext cx="887400" cy="1046160"/>
            <a:chOff x="5576760" y="2414520"/>
            <a:chExt cx="887400" cy="1046160"/>
          </a:xfrm>
        </p:grpSpPr>
        <p:sp>
          <p:nvSpPr>
            <p:cNvPr id="259" name=""/>
            <p:cNvSpPr/>
            <p:nvPr/>
          </p:nvSpPr>
          <p:spPr>
            <a:xfrm>
              <a:off x="5576760" y="2414520"/>
              <a:ext cx="887400" cy="1046160"/>
            </a:xfrm>
            <a:custGeom>
              <a:avLst/>
              <a:gdLst>
                <a:gd name="textAreaLeft" fmla="*/ 43200 w 887400"/>
                <a:gd name="textAreaRight" fmla="*/ 844200 w 887400"/>
                <a:gd name="textAreaTop" fmla="*/ 43200 h 1046160"/>
                <a:gd name="textAreaBottom" fmla="*/ 1002960 h 1046160"/>
              </a:gdLst>
              <a:ahLst/>
              <a:rect l="textAreaLeft" t="textAreaTop" r="textAreaRight" b="textAreaBottom"/>
              <a:pathLst>
                <a:path w="21600" h="25463">
                  <a:moveTo>
                    <a:pt x="3600" y="0"/>
                  </a:moveTo>
                  <a:arcTo wR="3600" hR="3600" stAng="16200000" swAng="-5400000"/>
                  <a:lnTo>
                    <a:pt x="0" y="21863"/>
                  </a:lnTo>
                  <a:arcTo wR="3600" hR="3600" stAng="10800000" swAng="-5400000"/>
                  <a:lnTo>
                    <a:pt x="18000" y="254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5703480" y="2623680"/>
              <a:ext cx="213120" cy="641520"/>
              <a:chOff x="5703480" y="2623680"/>
              <a:chExt cx="213120" cy="641520"/>
            </a:xfrm>
          </p:grpSpPr>
          <p:sp>
            <p:nvSpPr>
              <p:cNvPr id="261" name=""/>
              <p:cNvSpPr/>
              <p:nvPr/>
            </p:nvSpPr>
            <p:spPr>
              <a:xfrm>
                <a:off x="5745240" y="2623680"/>
                <a:ext cx="131040" cy="222120"/>
              </a:xfrm>
              <a:prstGeom prst="ellips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5703480" y="2866680"/>
                <a:ext cx="213120" cy="398520"/>
                <a:chOff x="5703480" y="2866680"/>
                <a:chExt cx="213120" cy="39852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5736960" y="2866680"/>
                  <a:ext cx="142920" cy="114480"/>
                </a:xfrm>
                <a:prstGeom prst="rect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5703480" y="2943000"/>
                  <a:ext cx="213120" cy="322200"/>
                </a:xfrm>
                <a:prstGeom prst="rect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5703480" y="2866680"/>
                  <a:ext cx="73800" cy="151200"/>
                </a:xfrm>
                <a:prstGeom prst="ellips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5838120" y="2866680"/>
                  <a:ext cx="78480" cy="145440"/>
                </a:xfrm>
                <a:prstGeom prst="ellips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7" name=""/>
            <p:cNvGrpSpPr/>
            <p:nvPr/>
          </p:nvGrpSpPr>
          <p:grpSpPr>
            <a:xfrm>
              <a:off x="6084000" y="2623680"/>
              <a:ext cx="213120" cy="641520"/>
              <a:chOff x="6084000" y="2623680"/>
              <a:chExt cx="213120" cy="641520"/>
            </a:xfrm>
          </p:grpSpPr>
          <p:sp>
            <p:nvSpPr>
              <p:cNvPr id="268" name=""/>
              <p:cNvSpPr/>
              <p:nvPr/>
            </p:nvSpPr>
            <p:spPr>
              <a:xfrm>
                <a:off x="6125760" y="2623680"/>
                <a:ext cx="131040" cy="222120"/>
              </a:xfrm>
              <a:prstGeom prst="ellips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9" name=""/>
              <p:cNvGrpSpPr/>
              <p:nvPr/>
            </p:nvGrpSpPr>
            <p:grpSpPr>
              <a:xfrm>
                <a:off x="6084000" y="2866680"/>
                <a:ext cx="213120" cy="398520"/>
                <a:chOff x="6084000" y="2866680"/>
                <a:chExt cx="213120" cy="39852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6117480" y="2866680"/>
                  <a:ext cx="142920" cy="114480"/>
                </a:xfrm>
                <a:prstGeom prst="rect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6084000" y="2943000"/>
                  <a:ext cx="213120" cy="322200"/>
                </a:xfrm>
                <a:prstGeom prst="rect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6084000" y="2866680"/>
                  <a:ext cx="73800" cy="151200"/>
                </a:xfrm>
                <a:prstGeom prst="ellips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6218640" y="2866680"/>
                  <a:ext cx="78480" cy="145440"/>
                </a:xfrm>
                <a:prstGeom prst="ellips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74" name=""/>
          <p:cNvSpPr/>
          <p:nvPr/>
        </p:nvSpPr>
        <p:spPr>
          <a:xfrm>
            <a:off x="5767560" y="2019240"/>
            <a:ext cx="128412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on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4749840" y="3203640"/>
            <a:ext cx="765000" cy="26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4749840" y="3203640"/>
            <a:ext cx="2411280" cy="52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7232760" y="2678040"/>
            <a:ext cx="214200" cy="642240"/>
            <a:chOff x="7232760" y="2678040"/>
            <a:chExt cx="214200" cy="642240"/>
          </a:xfrm>
        </p:grpSpPr>
        <p:sp>
          <p:nvSpPr>
            <p:cNvPr id="278" name=""/>
            <p:cNvSpPr/>
            <p:nvPr/>
          </p:nvSpPr>
          <p:spPr>
            <a:xfrm>
              <a:off x="7274880" y="2678040"/>
              <a:ext cx="131760" cy="222480"/>
            </a:xfrm>
            <a:prstGeom prst="ellips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7232760" y="2921400"/>
              <a:ext cx="214200" cy="398880"/>
              <a:chOff x="7232760" y="2921400"/>
              <a:chExt cx="214200" cy="398880"/>
            </a:xfrm>
          </p:grpSpPr>
          <p:sp>
            <p:nvSpPr>
              <p:cNvPr id="280" name=""/>
              <p:cNvSpPr/>
              <p:nvPr/>
            </p:nvSpPr>
            <p:spPr>
              <a:xfrm>
                <a:off x="7266600" y="2921400"/>
                <a:ext cx="143640" cy="11484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232760" y="2997720"/>
                <a:ext cx="214200" cy="32256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232760" y="2921400"/>
                <a:ext cx="74160" cy="151560"/>
              </a:xfrm>
              <a:prstGeom prst="ellips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368120" y="2921400"/>
                <a:ext cx="78840" cy="145440"/>
              </a:xfrm>
              <a:prstGeom prst="ellips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4" name=""/>
          <p:cNvSpPr/>
          <p:nvPr/>
        </p:nvSpPr>
        <p:spPr>
          <a:xfrm>
            <a:off x="6735600" y="3467160"/>
            <a:ext cx="240840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6570720" y="3467160"/>
            <a:ext cx="212760" cy="645480"/>
            <a:chOff x="6570720" y="3467160"/>
            <a:chExt cx="212760" cy="645480"/>
          </a:xfrm>
        </p:grpSpPr>
        <p:sp>
          <p:nvSpPr>
            <p:cNvPr id="286" name=""/>
            <p:cNvSpPr/>
            <p:nvPr/>
          </p:nvSpPr>
          <p:spPr>
            <a:xfrm>
              <a:off x="6612480" y="3467160"/>
              <a:ext cx="130680" cy="223560"/>
            </a:xfrm>
            <a:prstGeom prst="ellips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6570720" y="3711600"/>
              <a:ext cx="212760" cy="401040"/>
              <a:chOff x="6570720" y="3711600"/>
              <a:chExt cx="212760" cy="401040"/>
            </a:xfrm>
          </p:grpSpPr>
          <p:sp>
            <p:nvSpPr>
              <p:cNvPr id="288" name=""/>
              <p:cNvSpPr/>
              <p:nvPr/>
            </p:nvSpPr>
            <p:spPr>
              <a:xfrm>
                <a:off x="6604200" y="3711600"/>
                <a:ext cx="142560" cy="11520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570720" y="3788280"/>
                <a:ext cx="212760" cy="32436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570720" y="3711600"/>
                <a:ext cx="73800" cy="152280"/>
              </a:xfrm>
              <a:prstGeom prst="ellips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705000" y="3711600"/>
                <a:ext cx="78120" cy="146160"/>
              </a:xfrm>
              <a:prstGeom prst="ellips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2" name=""/>
          <p:cNvSpPr/>
          <p:nvPr/>
        </p:nvSpPr>
        <p:spPr>
          <a:xfrm>
            <a:off x="4749840" y="3994200"/>
            <a:ext cx="1576440" cy="66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749840" y="4521240"/>
            <a:ext cx="2122560" cy="191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843520" y="5048280"/>
            <a:ext cx="214560" cy="642240"/>
            <a:chOff x="5843520" y="5048280"/>
            <a:chExt cx="214560" cy="642240"/>
          </a:xfrm>
        </p:grpSpPr>
        <p:sp>
          <p:nvSpPr>
            <p:cNvPr id="295" name=""/>
            <p:cNvSpPr/>
            <p:nvPr/>
          </p:nvSpPr>
          <p:spPr>
            <a:xfrm>
              <a:off x="5885640" y="5048280"/>
              <a:ext cx="132120" cy="222480"/>
            </a:xfrm>
            <a:prstGeom prst="ellips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5843520" y="5291640"/>
              <a:ext cx="214560" cy="398880"/>
              <a:chOff x="5843520" y="5291640"/>
              <a:chExt cx="214560" cy="398880"/>
            </a:xfrm>
          </p:grpSpPr>
          <p:sp>
            <p:nvSpPr>
              <p:cNvPr id="297" name=""/>
              <p:cNvSpPr/>
              <p:nvPr/>
            </p:nvSpPr>
            <p:spPr>
              <a:xfrm>
                <a:off x="5877360" y="5291640"/>
                <a:ext cx="143640" cy="11484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843520" y="5367960"/>
                <a:ext cx="214560" cy="32256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843520" y="5291640"/>
                <a:ext cx="74520" cy="151560"/>
              </a:xfrm>
              <a:prstGeom prst="ellips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978880" y="5291640"/>
                <a:ext cx="78840" cy="145440"/>
              </a:xfrm>
              <a:prstGeom prst="ellips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1" name=""/>
          <p:cNvSpPr/>
          <p:nvPr/>
        </p:nvSpPr>
        <p:spPr>
          <a:xfrm>
            <a:off x="6862680" y="5257800"/>
            <a:ext cx="22813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Group Compo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2328840" y="4175280"/>
            <a:ext cx="723960" cy="807840"/>
            <a:chOff x="2328840" y="4175280"/>
            <a:chExt cx="723960" cy="807840"/>
          </a:xfrm>
        </p:grpSpPr>
        <p:sp>
          <p:nvSpPr>
            <p:cNvPr id="303" name=""/>
            <p:cNvSpPr/>
            <p:nvPr/>
          </p:nvSpPr>
          <p:spPr>
            <a:xfrm>
              <a:off x="2328840" y="4175280"/>
              <a:ext cx="723960" cy="807840"/>
            </a:xfrm>
            <a:custGeom>
              <a:avLst/>
              <a:gdLst>
                <a:gd name="textAreaLeft" fmla="*/ 35280 w 723960"/>
                <a:gd name="textAreaRight" fmla="*/ 688680 w 723960"/>
                <a:gd name="textAreaTop" fmla="*/ 35280 h 807840"/>
                <a:gd name="textAreaBottom" fmla="*/ 772560 h 807840"/>
              </a:gdLst>
              <a:ahLst/>
              <a:rect l="textAreaLeft" t="textAreaTop" r="textAreaRight" b="textAreaBottom"/>
              <a:pathLst>
                <a:path w="21600" h="24101">
                  <a:moveTo>
                    <a:pt x="3600" y="0"/>
                  </a:moveTo>
                  <a:arcTo wR="3600" hR="3600" stAng="16200000" swAng="-5400000"/>
                  <a:lnTo>
                    <a:pt x="0" y="20501"/>
                  </a:lnTo>
                  <a:arcTo wR="3600" hR="3600" stAng="10800000" swAng="-5400000"/>
                  <a:lnTo>
                    <a:pt x="18000" y="2410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2432160" y="4336560"/>
              <a:ext cx="173880" cy="495720"/>
              <a:chOff x="2432160" y="4336560"/>
              <a:chExt cx="173880" cy="495720"/>
            </a:xfrm>
          </p:grpSpPr>
          <p:sp>
            <p:nvSpPr>
              <p:cNvPr id="305" name=""/>
              <p:cNvSpPr/>
              <p:nvPr/>
            </p:nvSpPr>
            <p:spPr>
              <a:xfrm>
                <a:off x="2466360" y="4336560"/>
                <a:ext cx="106920" cy="171720"/>
              </a:xfrm>
              <a:prstGeom prst="ellips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6" name=""/>
              <p:cNvGrpSpPr/>
              <p:nvPr/>
            </p:nvGrpSpPr>
            <p:grpSpPr>
              <a:xfrm>
                <a:off x="2432160" y="4524120"/>
                <a:ext cx="173880" cy="308160"/>
                <a:chOff x="2432160" y="4524120"/>
                <a:chExt cx="173880" cy="30816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2459520" y="4524120"/>
                  <a:ext cx="116640" cy="88560"/>
                </a:xfrm>
                <a:prstGeom prst="rect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2432160" y="4583160"/>
                  <a:ext cx="173880" cy="249120"/>
                </a:xfrm>
                <a:prstGeom prst="rect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2432160" y="4524120"/>
                  <a:ext cx="60480" cy="117000"/>
                </a:xfrm>
                <a:prstGeom prst="ellips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2541960" y="4524120"/>
                  <a:ext cx="64080" cy="112320"/>
                </a:xfrm>
                <a:prstGeom prst="ellips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1" name=""/>
            <p:cNvGrpSpPr/>
            <p:nvPr/>
          </p:nvGrpSpPr>
          <p:grpSpPr>
            <a:xfrm>
              <a:off x="2742480" y="4336560"/>
              <a:ext cx="173880" cy="495720"/>
              <a:chOff x="2742480" y="4336560"/>
              <a:chExt cx="173880" cy="495720"/>
            </a:xfrm>
          </p:grpSpPr>
          <p:sp>
            <p:nvSpPr>
              <p:cNvPr id="312" name=""/>
              <p:cNvSpPr/>
              <p:nvPr/>
            </p:nvSpPr>
            <p:spPr>
              <a:xfrm>
                <a:off x="2776680" y="4336560"/>
                <a:ext cx="106920" cy="171720"/>
              </a:xfrm>
              <a:prstGeom prst="ellips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3" name=""/>
              <p:cNvGrpSpPr/>
              <p:nvPr/>
            </p:nvGrpSpPr>
            <p:grpSpPr>
              <a:xfrm>
                <a:off x="2742480" y="4524120"/>
                <a:ext cx="173880" cy="308160"/>
                <a:chOff x="2742480" y="4524120"/>
                <a:chExt cx="173880" cy="30816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2769840" y="4524120"/>
                  <a:ext cx="116640" cy="88560"/>
                </a:xfrm>
                <a:prstGeom prst="rect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2742480" y="4583160"/>
                  <a:ext cx="173880" cy="249120"/>
                </a:xfrm>
                <a:prstGeom prst="rect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2742480" y="4524120"/>
                  <a:ext cx="60480" cy="117000"/>
                </a:xfrm>
                <a:prstGeom prst="ellips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2852280" y="4524120"/>
                  <a:ext cx="64080" cy="112320"/>
                </a:xfrm>
                <a:prstGeom prst="ellips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18" name=""/>
          <p:cNvSpPr/>
          <p:nvPr/>
        </p:nvSpPr>
        <p:spPr>
          <a:xfrm>
            <a:off x="5410080" y="1600200"/>
            <a:ext cx="304020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Administration Di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733920" y="1600200"/>
            <a:ext cx="1654200" cy="17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Communication   Di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7034040" y="4175280"/>
            <a:ext cx="887760" cy="1047600"/>
            <a:chOff x="7034040" y="4175280"/>
            <a:chExt cx="887760" cy="1047600"/>
          </a:xfrm>
        </p:grpSpPr>
        <p:sp>
          <p:nvSpPr>
            <p:cNvPr id="321" name=""/>
            <p:cNvSpPr/>
            <p:nvPr/>
          </p:nvSpPr>
          <p:spPr>
            <a:xfrm>
              <a:off x="7034040" y="4175280"/>
              <a:ext cx="887760" cy="1047600"/>
            </a:xfrm>
            <a:custGeom>
              <a:avLst/>
              <a:gdLst>
                <a:gd name="textAreaLeft" fmla="*/ 43200 w 887760"/>
                <a:gd name="textAreaRight" fmla="*/ 844560 w 887760"/>
                <a:gd name="textAreaTop" fmla="*/ 43200 h 1047600"/>
                <a:gd name="textAreaBottom" fmla="*/ 1004400 h 1047600"/>
              </a:gdLst>
              <a:ahLst/>
              <a:rect l="textAreaLeft" t="textAreaTop" r="textAreaRight" b="textAreaBottom"/>
              <a:pathLst>
                <a:path w="21600" h="25487">
                  <a:moveTo>
                    <a:pt x="3600" y="0"/>
                  </a:moveTo>
                  <a:arcTo wR="3600" hR="3600" stAng="16200000" swAng="-5400000"/>
                  <a:lnTo>
                    <a:pt x="0" y="21887"/>
                  </a:lnTo>
                  <a:arcTo wR="3600" hR="3600" stAng="10800000" swAng="-5400000"/>
                  <a:lnTo>
                    <a:pt x="18000" y="254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7160760" y="4384440"/>
              <a:ext cx="213480" cy="642600"/>
              <a:chOff x="7160760" y="4384440"/>
              <a:chExt cx="213480" cy="642600"/>
            </a:xfrm>
          </p:grpSpPr>
          <p:sp>
            <p:nvSpPr>
              <p:cNvPr id="323" name=""/>
              <p:cNvSpPr/>
              <p:nvPr/>
            </p:nvSpPr>
            <p:spPr>
              <a:xfrm>
                <a:off x="7202520" y="4384440"/>
                <a:ext cx="131400" cy="222480"/>
              </a:xfrm>
              <a:prstGeom prst="ellips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4" name=""/>
              <p:cNvGrpSpPr/>
              <p:nvPr/>
            </p:nvGrpSpPr>
            <p:grpSpPr>
              <a:xfrm>
                <a:off x="7160760" y="4627800"/>
                <a:ext cx="213480" cy="399240"/>
                <a:chOff x="7160760" y="4627800"/>
                <a:chExt cx="213480" cy="39924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7194600" y="4627800"/>
                  <a:ext cx="142920" cy="114840"/>
                </a:xfrm>
                <a:prstGeom prst="rect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7160760" y="4704120"/>
                  <a:ext cx="213480" cy="322920"/>
                </a:xfrm>
                <a:prstGeom prst="rect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7160760" y="4627800"/>
                  <a:ext cx="74160" cy="151560"/>
                </a:xfrm>
                <a:prstGeom prst="ellips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7295400" y="4627800"/>
                  <a:ext cx="78480" cy="145800"/>
                </a:xfrm>
                <a:prstGeom prst="ellips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9" name=""/>
            <p:cNvGrpSpPr/>
            <p:nvPr/>
          </p:nvGrpSpPr>
          <p:grpSpPr>
            <a:xfrm>
              <a:off x="7541280" y="4384440"/>
              <a:ext cx="213480" cy="642600"/>
              <a:chOff x="7541280" y="4384440"/>
              <a:chExt cx="213480" cy="642600"/>
            </a:xfrm>
          </p:grpSpPr>
          <p:sp>
            <p:nvSpPr>
              <p:cNvPr id="330" name=""/>
              <p:cNvSpPr/>
              <p:nvPr/>
            </p:nvSpPr>
            <p:spPr>
              <a:xfrm>
                <a:off x="7583040" y="4384440"/>
                <a:ext cx="131400" cy="222480"/>
              </a:xfrm>
              <a:prstGeom prst="ellips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1" name=""/>
              <p:cNvGrpSpPr/>
              <p:nvPr/>
            </p:nvGrpSpPr>
            <p:grpSpPr>
              <a:xfrm>
                <a:off x="7541280" y="4627800"/>
                <a:ext cx="213480" cy="399240"/>
                <a:chOff x="7541280" y="4627800"/>
                <a:chExt cx="213480" cy="39924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7575120" y="4627800"/>
                  <a:ext cx="142920" cy="114840"/>
                </a:xfrm>
                <a:prstGeom prst="rect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7541280" y="4704120"/>
                  <a:ext cx="213480" cy="322920"/>
                </a:xfrm>
                <a:prstGeom prst="rect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7541280" y="4627800"/>
                  <a:ext cx="74160" cy="151560"/>
                </a:xfrm>
                <a:prstGeom prst="ellips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7675920" y="4627800"/>
                  <a:ext cx="78480" cy="145800"/>
                </a:xfrm>
                <a:prstGeom prst="ellips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36" name=""/>
          <p:cNvSpPr/>
          <p:nvPr/>
        </p:nvSpPr>
        <p:spPr>
          <a:xfrm>
            <a:off x="6008760" y="5048280"/>
            <a:ext cx="132552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Ch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749840" y="4784760"/>
            <a:ext cx="985680" cy="738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323120" y="2414520"/>
            <a:ext cx="993960" cy="10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Messen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siderações Finais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72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Reuniões baseadas em tex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Metodologia utilizada: orientação a papé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Implementação em 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rojeto O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Vantagens da implementação em JAVA: reusabilidade, redução do custo de desenvolvimento, flexibilidade, manutenibilidade, extensibilidade e  portabilidad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 uso de um projeto e implementação orientados a objetos não elimina as vantagens da adoção da noção de papel na modelagem dos agent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siderações Finais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72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 noção de papel está em nível de abstração superior aos objetos  = redução do gap semânt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 modelagem do Gerenciador de Reuniões utilizando esta metodologia apresentou menor complexidade do que o modelo O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rocesso com qual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Técnicas de Inteligência Artificial tornam a aplicação mais atrativa, adequada e adaptável às necessidades do usuá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presentação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72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x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uniões baseadas em textos no contexto da aprendizagem cooperativ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m sistema multiagente para gerência de reuniõ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odologia adot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quitetura para o Gerenciador Inteligente de Reuniõ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ações fin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ferências Bibliográfica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72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OLDRIDGE, M., JENNINGS, N. R., KINNY, D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ethodology for agent-oriented analysis and desig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In: O. Etzioni, J. P. Muller, and J. Bradshaw, editors: Agents '99: Proceedings on.. Autonomous Agents, Seattle, WA, 1999, Pag. 69 - 76.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texto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CW: auxiliar grupos na comunicação, colaboração e coordenação de suas atividad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rendizagem coopera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ientação a pro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cessidade de ferramentas computacionais (inteligentes) capazes de integrar processamento de informação e atividades de comunic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uniões baseadas em tex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xto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72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biente de apoio à mediação de aprendizagem: Uma abordagem orientada por processos e pro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riência com o Curso de Especialização em Informática Educativa do PROINFO [Menezes, 1999-2] utilizando o ambiente AmCorA [Menezes, 1999] e a orientação a pro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uniões baseadas em textos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72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 pedagogia de projet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m um curso orientado a projeto, os alunos são divididos em grupos e cada uma dessas equipes desenvolve um projeto sobre um tema de seu interess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Reuniões baseadas em text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ode-se integrar um sistema de correio eletrônico para notificar os usuários sobre novas mensage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post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72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m sistema multiagente para apoiar o gerenciamento de reuniões, síncronas ou assíncronas em ambientes de aprendizagem cooperativa orientados a projet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endário de grup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da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iguração das reuni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o das interaçõ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quisito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72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romover suporte ao agendamento de reuniõ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ermitir configurar reuni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companhar e registrar as participações e interações nas reuni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nciliar as agendas dos participan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Definir automaticamente quais serão os participantes da reunião baseando-se na configuração da mesm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ermitir a definição de papéis e responsabilidad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ermitir a configuração da reunião automaticamente, de acordo com questões de quorum, conflitos nas agenda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247320"/>
            <a:ext cx="8572680" cy="9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ma metodologia para análise e projeto orientados a agente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72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oldridge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t al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,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73520" y="2203560"/>
            <a:ext cx="1743120" cy="5601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73520" y="3184560"/>
            <a:ext cx="1743120" cy="561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pé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4187880"/>
            <a:ext cx="2159280" cy="558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miss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81680" y="4187880"/>
            <a:ext cx="2143080" cy="558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5334120"/>
            <a:ext cx="426708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riedades de seguranç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86400" y="5334120"/>
            <a:ext cx="3073320" cy="547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riedades vit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64080" y="2763720"/>
            <a:ext cx="0" cy="420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419360" y="3746520"/>
            <a:ext cx="14436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2293920" y="3746520"/>
            <a:ext cx="226872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64080" y="3746520"/>
            <a:ext cx="283032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3146040" y="4735440"/>
            <a:ext cx="1335240" cy="5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46520" y="4735440"/>
            <a:ext cx="1503360" cy="5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1600" y="2057400"/>
            <a:ext cx="8672400" cy="42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55920" y="4191120"/>
            <a:ext cx="2816280" cy="542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abil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delo de Papei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72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457200" y="1523880"/>
            <a:ext cx="8381880" cy="4952880"/>
            <a:chOff x="457200" y="1523880"/>
            <a:chExt cx="8381880" cy="4952880"/>
          </a:xfrm>
        </p:grpSpPr>
        <p:sp>
          <p:nvSpPr>
            <p:cNvPr id="122" name=""/>
            <p:cNvSpPr/>
            <p:nvPr/>
          </p:nvSpPr>
          <p:spPr>
            <a:xfrm>
              <a:off x="631800" y="5692320"/>
              <a:ext cx="7957800" cy="78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Times New Roman"/>
                </a:rPr>
                <a:t>Fig. 3. </a:t>
              </a:r>
              <a:r>
                <a:rPr b="0" lang="pt-BR" sz="1000" spc="-1" strike="noStrike">
                  <a:solidFill>
                    <a:srgbClr val="000000"/>
                  </a:solidFill>
                  <a:latin typeface="Times New Roman"/>
                </a:rPr>
                <a:t>Esquema do Papel </a:t>
              </a:r>
              <a:r>
                <a:rPr b="0" lang="pt-BR" sz="1000" spc="-1" strike="noStrike">
                  <a:solidFill>
                    <a:srgbClr val="000000"/>
                  </a:solidFill>
                  <a:latin typeface="Times New Roman"/>
                </a:rPr>
                <a:t>Atendente do Participante do Cha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7200" y="1523880"/>
              <a:ext cx="8381880" cy="416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imes New Roman"/>
                </a:rPr>
                <a:t>Esquema do Papel:</a:t>
              </a: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AtendenteParticCh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imes New Roman"/>
                </a:rPr>
                <a:t>Descrição:</a:t>
              </a: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Este papel envolve receber o usuário, alem de convocações para as reuniões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imes New Roman"/>
                </a:rPr>
                <a:t>Protocolos:</a:t>
              </a:r>
              <a:r>
                <a:rPr b="0" i="1" lang="pt-BR" sz="2000" spc="-1" strike="noStrike">
                  <a:solidFill>
                    <a:srgbClr val="000000"/>
                  </a:solidFill>
                  <a:latin typeface="Times New Roman"/>
                </a:rPr>
                <a:t>ChecaDados, EnviaMail, LembraCh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imes New Roman"/>
                </a:rPr>
                <a:t>Permissões: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imes New Roman"/>
                </a:rPr>
                <a:t>Responsabilidad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00"/>
                  </a:solidFill>
                  <a:latin typeface="Times New Roman"/>
                </a:rPr>
                <a:t>Liveness:</a:t>
              </a:r>
              <a:r>
                <a:rPr b="0" i="1" lang="pt-BR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AtendenteParticChat   </a:t>
              </a:r>
              <a:r>
                <a:rPr b="0" i="1" lang="pt-BR" sz="2000" spc="-1" strike="noStrike">
                  <a:solidFill>
                    <a:srgbClr val="000000"/>
                  </a:solidFill>
                  <a:latin typeface="Times New Roman"/>
                </a:rPr>
                <a:t>=ChecaDados | EnviaMail* ||  LembraChat</a:t>
              </a:r>
              <a:r>
                <a:rPr b="0" lang="pt-B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 |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00"/>
                  </a:solidFill>
                  <a:latin typeface="Times New Roman"/>
                </a:rPr>
                <a:t>Segurança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7200" y="207972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5T13:37:20Z</dcterms:created>
  <dc:creator>Silvana Rossy de Brito</dc:creator>
  <dc:description/>
  <dc:language>en-US</dc:language>
  <cp:lastModifiedBy>Silvana Rossy de Brito</cp:lastModifiedBy>
  <dcterms:modified xsi:type="dcterms:W3CDTF">2000-11-14T10:32:13Z</dcterms:modified>
  <cp:revision>42</cp:revision>
  <dc:subject/>
  <dc:title>Ambiente de apoio à mediação da aprendizagem: Uma abordagem orientada por processos e projetos</dc:title>
</cp:coreProperties>
</file>