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523038" cy="9990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407484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324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888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760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888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760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687240"/>
            <a:ext cx="8572680" cy="24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7324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520" y="407484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7324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888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7600" y="144792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52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888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7600" y="4074840"/>
            <a:ext cx="2760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687240"/>
            <a:ext cx="8572680" cy="24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3240" y="407484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3240" y="1447920"/>
            <a:ext cx="4183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074840"/>
            <a:ext cx="85726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540160" y="1295280"/>
            <a:ext cx="6603840" cy="100080"/>
            <a:chOff x="2540160" y="1295280"/>
            <a:chExt cx="6603840" cy="100080"/>
          </a:xfrm>
        </p:grpSpPr>
        <p:sp>
          <p:nvSpPr>
            <p:cNvPr id="3" name=""/>
            <p:cNvSpPr/>
            <p:nvPr/>
          </p:nvSpPr>
          <p:spPr>
            <a:xfrm>
              <a:off x="2540160" y="129528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9999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540160" y="131904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118920" y="-76320"/>
            <a:ext cx="33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bcd8f6"/>
                </a:solidFill>
                <a:latin typeface="Times New Roman"/>
              </a:rPr>
              <a:t>CT-UFES – Pag. </a:t>
            </a:r>
            <a:fld id="{B05A5D9D-BF69-4EBA-A557-D5C9ACCAB455}" type="slidenum">
              <a:rPr b="0" lang="pt-BR" sz="2000" spc="-1" strike="noStrike">
                <a:solidFill>
                  <a:srgbClr val="bcd8f6"/>
                </a:solidFill>
                <a:latin typeface="Times New Roman"/>
              </a:rPr>
              <a:t>&lt;number&gt;</a:t>
            </a:fld>
            <a:r>
              <a:rPr b="0" lang="pt-BR" sz="2000" spc="-1" strike="noStrike">
                <a:solidFill>
                  <a:srgbClr val="bcd8f6"/>
                </a:solidFill>
                <a:latin typeface="Times New Roman"/>
              </a:rPr>
              <a:t>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30492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540160" y="3657600"/>
            <a:ext cx="6603840" cy="100080"/>
            <a:chOff x="2540160" y="3657600"/>
            <a:chExt cx="6603840" cy="100080"/>
          </a:xfrm>
        </p:grpSpPr>
        <p:sp>
          <p:nvSpPr>
            <p:cNvPr id="49" name=""/>
            <p:cNvSpPr/>
            <p:nvPr/>
          </p:nvSpPr>
          <p:spPr>
            <a:xfrm>
              <a:off x="2540160" y="3657600"/>
              <a:ext cx="6603840" cy="76320"/>
            </a:xfrm>
            <a:prstGeom prst="rect">
              <a:avLst/>
            </a:prstGeom>
            <a:gradFill rotWithShape="0">
              <a:gsLst>
                <a:gs pos="0">
                  <a:srgbClr val="999933"/>
                </a:gs>
                <a:gs pos="100000">
                  <a:srgbClr val="ff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40160" y="3681360"/>
              <a:ext cx="6603840" cy="76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3720" y="2209320"/>
            <a:ext cx="678168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rossy@faesa.br" TargetMode="External"/><Relationship Id="rId2" Type="http://schemas.openxmlformats.org/officeDocument/2006/relationships/hyperlink" Target="mailto:togneri@zaz.com.br" TargetMode="External"/><Relationship Id="rId3" Type="http://schemas.openxmlformats.org/officeDocument/2006/relationships/hyperlink" Target="mailto:tavares@inf.ufes.br" TargetMode="External"/><Relationship Id="rId4" Type="http://schemas.openxmlformats.org/officeDocument/2006/relationships/hyperlink" Target="mailto:credine@inf.ufes.br" TargetMode="External"/><Relationship Id="rId5" Type="http://schemas.openxmlformats.org/officeDocument/2006/relationships/hyperlink" Target="mailto:falbo@inf.ufes.br" TargetMode="External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1038240"/>
            <a:ext cx="7238880" cy="22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 Sistema Multiagente para Gerência de Reuniões em Ambientes de Aprendizagem Cooperativ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3657600"/>
            <a:ext cx="5486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ana R. Br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"/>
              </a:rPr>
              <a:t>srossy@faesa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se F. Tog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togneri@zaz.com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valdo L.  Tav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tavares@inf.ufes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diné S. Mene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credine@inf.ufes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ardo Fal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5"/>
              </a:rPr>
              <a:t>falbo@inf.ufes.br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Pape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80880" y="1371600"/>
            <a:ext cx="8458200" cy="5181120"/>
            <a:chOff x="380880" y="1371600"/>
            <a:chExt cx="8458200" cy="5181120"/>
          </a:xfrm>
        </p:grpSpPr>
        <p:sp>
          <p:nvSpPr>
            <p:cNvPr id="128" name=""/>
            <p:cNvSpPr/>
            <p:nvPr/>
          </p:nvSpPr>
          <p:spPr>
            <a:xfrm>
              <a:off x="556920" y="6056280"/>
              <a:ext cx="8030520" cy="4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Fig. 5. </a:t>
              </a: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Esquema do Papel Gerente do C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80880" y="1371600"/>
              <a:ext cx="8458200" cy="4684680"/>
              <a:chOff x="380880" y="1371600"/>
              <a:chExt cx="8458200" cy="4684680"/>
            </a:xfrm>
          </p:grpSpPr>
          <p:sp>
            <p:nvSpPr>
              <p:cNvPr id="130" name=""/>
              <p:cNvSpPr/>
              <p:nvPr/>
            </p:nvSpPr>
            <p:spPr>
              <a:xfrm>
                <a:off x="380880" y="1371600"/>
                <a:ext cx="8458200" cy="46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Esquema do Papel: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enteCh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Descrição: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Este papel envolve receber e validar as informações do projeto. Se a prioridade da reunião for alta, agenda a reunião para todos os participantes, incondicionalmente, caso contrário, consulta as agendas verificando a disponibilidade dos participantes do projeto. Caso a agenda de todos os participantes esteja livre, agenda a reunião; senão, informa conflitos ao atendente do gerente do projeto.  Quando qualquer reunião for marcada/alterada , informa os participantes e registra a reunião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Protocolos: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ChecaValidadeChat, ChecaConflitos, AgendaChat, EnviaEmail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Permissões: 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LerParticChat, AgPesso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aAgChat, ParticCh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Responsabilidad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Liveness: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GerenteChat   </a:t>
                </a:r>
                <a:r>
                  <a:rPr b="0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=( 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ChecaValidadeChat | ChecaValidadeChat.ChecaConflito|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ChecaValidadeChat.ChecaConflito.AgendaChat.EnviaMail)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1800" spc="-1" strike="noStrike">
                    <a:solidFill>
                      <a:srgbClr val="000000"/>
                    </a:solidFill>
                    <a:latin typeface="Times New Roman"/>
                  </a:rPr>
                  <a:t>Segurança: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RelacaoParticProbl = ni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RelaçãoParticChat &gt;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880" y="1778760"/>
                <a:ext cx="845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Pape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0880" y="1447920"/>
            <a:ext cx="8458200" cy="5104080"/>
            <a:chOff x="380880" y="1447920"/>
            <a:chExt cx="8458200" cy="5104080"/>
          </a:xfrm>
        </p:grpSpPr>
        <p:grpSp>
          <p:nvGrpSpPr>
            <p:cNvPr id="135" name=""/>
            <p:cNvGrpSpPr/>
            <p:nvPr/>
          </p:nvGrpSpPr>
          <p:grpSpPr>
            <a:xfrm>
              <a:off x="380880" y="1447920"/>
              <a:ext cx="8458200" cy="5104080"/>
              <a:chOff x="380880" y="1447920"/>
              <a:chExt cx="8458200" cy="5104080"/>
            </a:xfrm>
          </p:grpSpPr>
          <p:sp>
            <p:nvSpPr>
              <p:cNvPr id="136" name=""/>
              <p:cNvSpPr/>
              <p:nvPr/>
            </p:nvSpPr>
            <p:spPr>
              <a:xfrm>
                <a:off x="556920" y="5914440"/>
                <a:ext cx="80305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Times New Roman"/>
                  </a:rPr>
                  <a:t>Fig. 6.</a:t>
                </a:r>
                <a:r>
                  <a:rPr b="0" lang="pt-BR" sz="1000" spc="-1" strike="noStrike">
                    <a:solidFill>
                      <a:srgbClr val="000000"/>
                    </a:solidFill>
                    <a:latin typeface="Times New Roman"/>
                  </a:rPr>
                  <a:t> Esquema do Papel Gravador de Cha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0880" y="1447920"/>
                <a:ext cx="8458200" cy="446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Esquema do Papel: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GravadorCha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Descrição: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Este papel envolve receber todas as mensagens com a informação se devem ser gravadas ou não.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Protocolos:</a:t>
                </a:r>
                <a:r>
                  <a:rPr b="0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GravaMsgCha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Permissões: 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Grava MsgCha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Responsabilidade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Liveness:</a:t>
                </a:r>
                <a:r>
                  <a:rPr b="0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GravadorChat   </a:t>
                </a:r>
                <a:r>
                  <a:rPr b="0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=(GravaMsgChat)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</a:t>
                </a:r>
                <a:r>
                  <a:rPr b="0" lang="pt-BR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2800" spc="-1" strike="noStrike">
                    <a:solidFill>
                      <a:srgbClr val="000000"/>
                    </a:solidFill>
                    <a:latin typeface="Times New Roman"/>
                  </a:rPr>
                  <a:t>Segurança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80880" y="2086200"/>
              <a:ext cx="845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Interaçõ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7200" y="1447920"/>
            <a:ext cx="8229600" cy="4876200"/>
            <a:chOff x="457200" y="1447920"/>
            <a:chExt cx="8229600" cy="4876200"/>
          </a:xfrm>
        </p:grpSpPr>
        <p:sp>
          <p:nvSpPr>
            <p:cNvPr id="142" name=""/>
            <p:cNvSpPr/>
            <p:nvPr/>
          </p:nvSpPr>
          <p:spPr>
            <a:xfrm>
              <a:off x="457200" y="1447920"/>
              <a:ext cx="7403040" cy="412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31360" y="4119480"/>
              <a:ext cx="2220480" cy="10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RelacaoParticPro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1680" y="2235600"/>
              <a:ext cx="5269320" cy="296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hecaConfl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GerenteChat                 AtendenteGerPro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hecar conflitos na agenda individual de cada particip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9800" y="2948040"/>
              <a:ext cx="5281200" cy="4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43480" y="2948040"/>
              <a:ext cx="0" cy="78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24320" y="2243880"/>
              <a:ext cx="256248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InformValida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9800" y="5199120"/>
              <a:ext cx="7516800" cy="11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Fig. 7.  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efinição do protocolo ChecaConfli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9800" y="3683880"/>
              <a:ext cx="66319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Interaçõ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7200" y="1447920"/>
            <a:ext cx="8305560" cy="5028480"/>
            <a:chOff x="457200" y="1447920"/>
            <a:chExt cx="8305560" cy="5028480"/>
          </a:xfrm>
        </p:grpSpPr>
        <p:sp>
          <p:nvSpPr>
            <p:cNvPr id="153" name=""/>
            <p:cNvSpPr/>
            <p:nvPr/>
          </p:nvSpPr>
          <p:spPr>
            <a:xfrm>
              <a:off x="457200" y="1447920"/>
              <a:ext cx="7890840" cy="425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6120" y="4002840"/>
              <a:ext cx="2390040" cy="110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ReuniãoAgend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7520" y="2260080"/>
              <a:ext cx="4762800" cy="30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genda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GerenteChat                   AtendenteGerPro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gendar chat para cada um dos particip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41400" y="3059280"/>
              <a:ext cx="0" cy="81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56120" y="1682280"/>
              <a:ext cx="2906640" cy="17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Projeto, CtIni, DtFim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HrIni, HrFim, RelacaoParticCh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4560" y="5315760"/>
              <a:ext cx="809136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Fig. 8.  </a:t>
              </a: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efinição do protocolo AgendaC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4560" y="2971080"/>
              <a:ext cx="477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4560" y="3787920"/>
              <a:ext cx="622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Serviç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8480" y="1371600"/>
            <a:ext cx="86155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886200"/>
            <a:ext cx="16668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tendenteGer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057400"/>
            <a:ext cx="1835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InterfaceGer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1981080"/>
            <a:ext cx="1833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Ger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3962520"/>
            <a:ext cx="183348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Gerente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3809880"/>
            <a:ext cx="116676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nsage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1905120"/>
            <a:ext cx="18334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Mensage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809880"/>
            <a:ext cx="18352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tendentePartic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1905120"/>
            <a:ext cx="2166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InterfacePar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886200"/>
            <a:ext cx="18338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ompositorGru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1981080"/>
            <a:ext cx="216684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CompGru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3733920"/>
            <a:ext cx="183384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ravador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3809880"/>
            <a:ext cx="1833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lonePar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1981080"/>
            <a:ext cx="21654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gClonePar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24040" y="2589120"/>
            <a:ext cx="0" cy="12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495520" y="25952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182760" y="259524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510080" y="245916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689440" y="255852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8048520" y="2319480"/>
            <a:ext cx="0" cy="12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015320" y="2424240"/>
            <a:ext cx="0" cy="12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4040" y="2589120"/>
            <a:ext cx="4982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0760" y="2589120"/>
            <a:ext cx="50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56240" y="2990880"/>
            <a:ext cx="50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89840" y="2584440"/>
            <a:ext cx="50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44760" y="2995560"/>
            <a:ext cx="501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5880" y="2990880"/>
            <a:ext cx="4982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5320" y="2589120"/>
            <a:ext cx="501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8480" y="5024520"/>
            <a:ext cx="7666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g. 9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o de ag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91040" y="198108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Grava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Conhecimen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447920"/>
            <a:ext cx="8458200" cy="324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19360" y="1447920"/>
            <a:ext cx="216684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InterfaceGerPr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828800"/>
            <a:ext cx="221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gInterfacePar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49560" y="3468600"/>
            <a:ext cx="18399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Ger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3657600"/>
            <a:ext cx="18399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ClonePar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3468600"/>
            <a:ext cx="167004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Mensag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89520" y="2244600"/>
            <a:ext cx="1504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GravaC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7720" y="3468600"/>
            <a:ext cx="18399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gCompGru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4200" y="23162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23162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986200" y="3876840"/>
            <a:ext cx="668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819520" y="2652840"/>
            <a:ext cx="1003320" cy="815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815840" y="3876840"/>
            <a:ext cx="50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4400" y="5100480"/>
            <a:ext cx="75265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. 1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delo de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992840" y="3876840"/>
            <a:ext cx="83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stões de Proje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sa etapa, algumas questões de projeto devem ser observad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o à arquitetura: agentes são, tipicamente, processos separados, que podem estar processando no mesmo espaço ou em máquinas diferentes. Neste caso, as máquinas estão acessíveis  via Internet e os agentes podem estar distribuídos na red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o ao modo de comunicação:  o sistema suporta mensagens de um agente para um conjunto de agentes. O sistema também suporta comunicação de forma explícita, ponto a ponto (um-para-um), através de endereço da rede ou número da por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247320"/>
            <a:ext cx="8572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quitetura do Gerenciador Inteligente de Reuniõ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46680" y="2646360"/>
            <a:ext cx="113976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61040" y="2016000"/>
            <a:ext cx="3135240" cy="404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280" y="1576440"/>
            <a:ext cx="8112240" cy="475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17760" y="2286000"/>
            <a:ext cx="2350800" cy="377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tendants of  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ttendant of Project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55560" y="3635280"/>
          <a:ext cx="3747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3635280"/>
                    <a:ext cx="3747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7" name=""/>
          <p:cNvGrpSpPr/>
          <p:nvPr/>
        </p:nvGrpSpPr>
        <p:grpSpPr>
          <a:xfrm>
            <a:off x="2328840" y="2556000"/>
            <a:ext cx="723960" cy="809640"/>
            <a:chOff x="2328840" y="2556000"/>
            <a:chExt cx="723960" cy="809640"/>
          </a:xfrm>
        </p:grpSpPr>
        <p:sp>
          <p:nvSpPr>
            <p:cNvPr id="218" name=""/>
            <p:cNvSpPr/>
            <p:nvPr/>
          </p:nvSpPr>
          <p:spPr>
            <a:xfrm>
              <a:off x="2328840" y="2556000"/>
              <a:ext cx="723960" cy="809640"/>
            </a:xfrm>
            <a:custGeom>
              <a:avLst/>
              <a:gdLst>
                <a:gd name="textAreaLeft" fmla="*/ 35280 w 723960"/>
                <a:gd name="textAreaRight" fmla="*/ 688680 w 723960"/>
                <a:gd name="textAreaTop" fmla="*/ 35280 h 809640"/>
                <a:gd name="textAreaBottom" fmla="*/ 774360 h 809640"/>
              </a:gdLst>
              <a:ahLst/>
              <a:rect l="textAreaLeft" t="textAreaTop" r="textAreaRight" b="textAreaBottom"/>
              <a:pathLst>
                <a:path w="21600" h="24155">
                  <a:moveTo>
                    <a:pt x="3600" y="0"/>
                  </a:moveTo>
                  <a:arcTo wR="3600" hR="3600" stAng="16200000" swAng="-5400000"/>
                  <a:lnTo>
                    <a:pt x="0" y="20555"/>
                  </a:lnTo>
                  <a:arcTo wR="3600" hR="3600" stAng="10800000" swAng="-5400000"/>
                  <a:lnTo>
                    <a:pt x="18000" y="241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432160" y="2717640"/>
              <a:ext cx="173880" cy="496440"/>
              <a:chOff x="2432160" y="2717640"/>
              <a:chExt cx="173880" cy="496440"/>
            </a:xfrm>
          </p:grpSpPr>
          <p:sp>
            <p:nvSpPr>
              <p:cNvPr id="220" name=""/>
              <p:cNvSpPr/>
              <p:nvPr/>
            </p:nvSpPr>
            <p:spPr>
              <a:xfrm>
                <a:off x="2466360" y="2717640"/>
                <a:ext cx="106920" cy="1720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2432160" y="2905560"/>
                <a:ext cx="173880" cy="308520"/>
                <a:chOff x="2432160" y="2905560"/>
                <a:chExt cx="173880" cy="3085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459520" y="2905560"/>
                  <a:ext cx="116640" cy="88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432160" y="2964600"/>
                  <a:ext cx="173880" cy="2494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432160" y="2905560"/>
                  <a:ext cx="60480" cy="1173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541960" y="2905560"/>
                  <a:ext cx="64080" cy="1126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2742480" y="2717640"/>
              <a:ext cx="173880" cy="496440"/>
              <a:chOff x="2742480" y="2717640"/>
              <a:chExt cx="173880" cy="496440"/>
            </a:xfrm>
          </p:grpSpPr>
          <p:sp>
            <p:nvSpPr>
              <p:cNvPr id="227" name=""/>
              <p:cNvSpPr/>
              <p:nvPr/>
            </p:nvSpPr>
            <p:spPr>
              <a:xfrm>
                <a:off x="2776680" y="2717640"/>
                <a:ext cx="106920" cy="1720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2742480" y="2905560"/>
                <a:ext cx="173880" cy="308520"/>
                <a:chOff x="2742480" y="2905560"/>
                <a:chExt cx="173880" cy="3085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769840" y="2905560"/>
                  <a:ext cx="116640" cy="88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742480" y="2964600"/>
                  <a:ext cx="173880" cy="2494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742480" y="2905560"/>
                  <a:ext cx="60480" cy="1173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852280" y="2905560"/>
                  <a:ext cx="64080" cy="1126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1192320" y="2825640"/>
            <a:ext cx="101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92320" y="4443480"/>
            <a:ext cx="885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80880" y="2286000"/>
            <a:ext cx="1393920" cy="1515600"/>
            <a:chOff x="380880" y="2286000"/>
            <a:chExt cx="1393920" cy="1515600"/>
          </a:xfrm>
        </p:grpSpPr>
        <p:grpSp>
          <p:nvGrpSpPr>
            <p:cNvPr id="236" name=""/>
            <p:cNvGrpSpPr/>
            <p:nvPr/>
          </p:nvGrpSpPr>
          <p:grpSpPr>
            <a:xfrm>
              <a:off x="504360" y="2286000"/>
              <a:ext cx="211680" cy="644760"/>
              <a:chOff x="504360" y="2286000"/>
              <a:chExt cx="211680" cy="644760"/>
            </a:xfrm>
          </p:grpSpPr>
          <p:sp>
            <p:nvSpPr>
              <p:cNvPr id="237" name=""/>
              <p:cNvSpPr/>
              <p:nvPr/>
            </p:nvSpPr>
            <p:spPr>
              <a:xfrm>
                <a:off x="545760" y="2286000"/>
                <a:ext cx="130320" cy="2235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504360" y="2530080"/>
                <a:ext cx="211680" cy="400680"/>
                <a:chOff x="504360" y="2530080"/>
                <a:chExt cx="211680" cy="4006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37840" y="2530080"/>
                  <a:ext cx="141840" cy="115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04360" y="2606760"/>
                  <a:ext cx="211680" cy="3240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4360" y="2530080"/>
                  <a:ext cx="73440" cy="1522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37920" y="2530080"/>
                  <a:ext cx="77760" cy="1461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3" name=""/>
            <p:cNvGrpSpPr/>
            <p:nvPr/>
          </p:nvGrpSpPr>
          <p:grpSpPr>
            <a:xfrm>
              <a:off x="883800" y="2286000"/>
              <a:ext cx="213840" cy="644760"/>
              <a:chOff x="883800" y="2286000"/>
              <a:chExt cx="213840" cy="644760"/>
            </a:xfrm>
          </p:grpSpPr>
          <p:sp>
            <p:nvSpPr>
              <p:cNvPr id="244" name=""/>
              <p:cNvSpPr/>
              <p:nvPr/>
            </p:nvSpPr>
            <p:spPr>
              <a:xfrm>
                <a:off x="925560" y="2286000"/>
                <a:ext cx="131400" cy="2235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883800" y="2530080"/>
                <a:ext cx="213840" cy="400680"/>
                <a:chOff x="883800" y="2530080"/>
                <a:chExt cx="213840" cy="4006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917640" y="2530080"/>
                  <a:ext cx="143280" cy="115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83800" y="2606760"/>
                  <a:ext cx="213840" cy="3240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883800" y="2530080"/>
                  <a:ext cx="74160" cy="15228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18800" y="2530080"/>
                  <a:ext cx="78840" cy="1461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380880" y="2964240"/>
              <a:ext cx="1393920" cy="8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Participa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57200" y="4952880"/>
            <a:ext cx="139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1360" y="4983120"/>
            <a:ext cx="12859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mun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267080" y="3048120"/>
          <a:ext cx="46512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048120"/>
                    <a:ext cx="46512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259080" y="3203640"/>
            <a:ext cx="993960" cy="26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419076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1752480"/>
            <a:ext cx="2533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ttendance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576760" y="2414520"/>
            <a:ext cx="887400" cy="1046160"/>
            <a:chOff x="5576760" y="2414520"/>
            <a:chExt cx="887400" cy="1046160"/>
          </a:xfrm>
        </p:grpSpPr>
        <p:sp>
          <p:nvSpPr>
            <p:cNvPr id="259" name=""/>
            <p:cNvSpPr/>
            <p:nvPr/>
          </p:nvSpPr>
          <p:spPr>
            <a:xfrm>
              <a:off x="5576760" y="2414520"/>
              <a:ext cx="887400" cy="1046160"/>
            </a:xfrm>
            <a:custGeom>
              <a:avLst/>
              <a:gdLst>
                <a:gd name="textAreaLeft" fmla="*/ 43200 w 887400"/>
                <a:gd name="textAreaRight" fmla="*/ 844200 w 887400"/>
                <a:gd name="textAreaTop" fmla="*/ 43200 h 1046160"/>
                <a:gd name="textAreaBottom" fmla="*/ 1002960 h 1046160"/>
              </a:gdLst>
              <a:ahLst/>
              <a:rect l="textAreaLeft" t="textAreaTop" r="textAreaRight" b="textAreaBottom"/>
              <a:pathLst>
                <a:path w="21600" h="25463">
                  <a:moveTo>
                    <a:pt x="3600" y="0"/>
                  </a:moveTo>
                  <a:arcTo wR="3600" hR="3600" stAng="16200000" swAng="-5400000"/>
                  <a:lnTo>
                    <a:pt x="0" y="21863"/>
                  </a:lnTo>
                  <a:arcTo wR="3600" hR="3600" stAng="10800000" swAng="-5400000"/>
                  <a:lnTo>
                    <a:pt x="18000" y="254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703480" y="2623680"/>
              <a:ext cx="213120" cy="641520"/>
              <a:chOff x="5703480" y="2623680"/>
              <a:chExt cx="213120" cy="641520"/>
            </a:xfrm>
          </p:grpSpPr>
          <p:sp>
            <p:nvSpPr>
              <p:cNvPr id="261" name=""/>
              <p:cNvSpPr/>
              <p:nvPr/>
            </p:nvSpPr>
            <p:spPr>
              <a:xfrm>
                <a:off x="5745240" y="2623680"/>
                <a:ext cx="131040" cy="2221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5703480" y="2866680"/>
                <a:ext cx="213120" cy="398520"/>
                <a:chOff x="5703480" y="2866680"/>
                <a:chExt cx="213120" cy="3985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736960" y="2866680"/>
                  <a:ext cx="142920" cy="1144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703480" y="2943000"/>
                  <a:ext cx="213120" cy="322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703480" y="2866680"/>
                  <a:ext cx="73800" cy="1512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838120" y="2866680"/>
                  <a:ext cx="78480" cy="14544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6084000" y="2623680"/>
              <a:ext cx="213120" cy="641520"/>
              <a:chOff x="6084000" y="2623680"/>
              <a:chExt cx="213120" cy="641520"/>
            </a:xfrm>
          </p:grpSpPr>
          <p:sp>
            <p:nvSpPr>
              <p:cNvPr id="268" name=""/>
              <p:cNvSpPr/>
              <p:nvPr/>
            </p:nvSpPr>
            <p:spPr>
              <a:xfrm>
                <a:off x="6125760" y="2623680"/>
                <a:ext cx="131040" cy="2221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6084000" y="2866680"/>
                <a:ext cx="213120" cy="398520"/>
                <a:chOff x="6084000" y="2866680"/>
                <a:chExt cx="213120" cy="3985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117480" y="2866680"/>
                  <a:ext cx="142920" cy="11448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084000" y="2943000"/>
                  <a:ext cx="213120" cy="32220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084000" y="2866680"/>
                  <a:ext cx="73800" cy="1512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218640" y="2866680"/>
                  <a:ext cx="78480" cy="14544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4" name=""/>
          <p:cNvSpPr/>
          <p:nvPr/>
        </p:nvSpPr>
        <p:spPr>
          <a:xfrm>
            <a:off x="5767560" y="2019240"/>
            <a:ext cx="12841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749840" y="3203640"/>
            <a:ext cx="765000" cy="26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749840" y="3203640"/>
            <a:ext cx="2411280" cy="52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232760" y="2678040"/>
            <a:ext cx="214200" cy="642240"/>
            <a:chOff x="7232760" y="2678040"/>
            <a:chExt cx="214200" cy="642240"/>
          </a:xfrm>
        </p:grpSpPr>
        <p:sp>
          <p:nvSpPr>
            <p:cNvPr id="278" name=""/>
            <p:cNvSpPr/>
            <p:nvPr/>
          </p:nvSpPr>
          <p:spPr>
            <a:xfrm>
              <a:off x="7274880" y="2678040"/>
              <a:ext cx="131760" cy="22248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7232760" y="2921400"/>
              <a:ext cx="214200" cy="398880"/>
              <a:chOff x="7232760" y="2921400"/>
              <a:chExt cx="214200" cy="398880"/>
            </a:xfrm>
          </p:grpSpPr>
          <p:sp>
            <p:nvSpPr>
              <p:cNvPr id="280" name=""/>
              <p:cNvSpPr/>
              <p:nvPr/>
            </p:nvSpPr>
            <p:spPr>
              <a:xfrm>
                <a:off x="7266600" y="2921400"/>
                <a:ext cx="143640" cy="1148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232760" y="2997720"/>
                <a:ext cx="214200" cy="3225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232760" y="2921400"/>
                <a:ext cx="74160" cy="1515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68120" y="2921400"/>
                <a:ext cx="78840" cy="14544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6735600" y="3467160"/>
            <a:ext cx="24084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570720" y="3467160"/>
            <a:ext cx="212760" cy="645480"/>
            <a:chOff x="6570720" y="3467160"/>
            <a:chExt cx="212760" cy="645480"/>
          </a:xfrm>
        </p:grpSpPr>
        <p:sp>
          <p:nvSpPr>
            <p:cNvPr id="286" name=""/>
            <p:cNvSpPr/>
            <p:nvPr/>
          </p:nvSpPr>
          <p:spPr>
            <a:xfrm>
              <a:off x="6612480" y="3467160"/>
              <a:ext cx="130680" cy="22356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6570720" y="3711600"/>
              <a:ext cx="212760" cy="401040"/>
              <a:chOff x="6570720" y="3711600"/>
              <a:chExt cx="212760" cy="401040"/>
            </a:xfrm>
          </p:grpSpPr>
          <p:sp>
            <p:nvSpPr>
              <p:cNvPr id="288" name=""/>
              <p:cNvSpPr/>
              <p:nvPr/>
            </p:nvSpPr>
            <p:spPr>
              <a:xfrm>
                <a:off x="6604200" y="3711600"/>
                <a:ext cx="142560" cy="1152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70720" y="3788280"/>
                <a:ext cx="212760" cy="3243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70720" y="3711600"/>
                <a:ext cx="73800" cy="1522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705000" y="3711600"/>
                <a:ext cx="78120" cy="1461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2" name=""/>
          <p:cNvSpPr/>
          <p:nvPr/>
        </p:nvSpPr>
        <p:spPr>
          <a:xfrm>
            <a:off x="4749840" y="3994200"/>
            <a:ext cx="1576440" cy="66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49840" y="4521240"/>
            <a:ext cx="2122560" cy="19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843520" y="5048280"/>
            <a:ext cx="214560" cy="642240"/>
            <a:chOff x="5843520" y="5048280"/>
            <a:chExt cx="214560" cy="642240"/>
          </a:xfrm>
        </p:grpSpPr>
        <p:sp>
          <p:nvSpPr>
            <p:cNvPr id="295" name=""/>
            <p:cNvSpPr/>
            <p:nvPr/>
          </p:nvSpPr>
          <p:spPr>
            <a:xfrm>
              <a:off x="5885640" y="5048280"/>
              <a:ext cx="132120" cy="222480"/>
            </a:xfrm>
            <a:prstGeom prst="ellips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843520" y="5291640"/>
              <a:ext cx="214560" cy="398880"/>
              <a:chOff x="5843520" y="5291640"/>
              <a:chExt cx="214560" cy="398880"/>
            </a:xfrm>
          </p:grpSpPr>
          <p:sp>
            <p:nvSpPr>
              <p:cNvPr id="297" name=""/>
              <p:cNvSpPr/>
              <p:nvPr/>
            </p:nvSpPr>
            <p:spPr>
              <a:xfrm>
                <a:off x="5877360" y="5291640"/>
                <a:ext cx="143640" cy="1148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843520" y="5367960"/>
                <a:ext cx="214560" cy="3225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43520" y="5291640"/>
                <a:ext cx="74520" cy="15156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978880" y="5291640"/>
                <a:ext cx="78840" cy="14544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1" name=""/>
          <p:cNvSpPr/>
          <p:nvPr/>
        </p:nvSpPr>
        <p:spPr>
          <a:xfrm>
            <a:off x="6862680" y="5257800"/>
            <a:ext cx="22813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Group Compo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328840" y="4175280"/>
            <a:ext cx="723960" cy="807840"/>
            <a:chOff x="2328840" y="4175280"/>
            <a:chExt cx="723960" cy="807840"/>
          </a:xfrm>
        </p:grpSpPr>
        <p:sp>
          <p:nvSpPr>
            <p:cNvPr id="303" name=""/>
            <p:cNvSpPr/>
            <p:nvPr/>
          </p:nvSpPr>
          <p:spPr>
            <a:xfrm>
              <a:off x="2328840" y="4175280"/>
              <a:ext cx="723960" cy="807840"/>
            </a:xfrm>
            <a:custGeom>
              <a:avLst/>
              <a:gdLst>
                <a:gd name="textAreaLeft" fmla="*/ 35280 w 723960"/>
                <a:gd name="textAreaRight" fmla="*/ 688680 w 723960"/>
                <a:gd name="textAreaTop" fmla="*/ 35280 h 807840"/>
                <a:gd name="textAreaBottom" fmla="*/ 772560 h 807840"/>
              </a:gdLst>
              <a:ahLst/>
              <a:rect l="textAreaLeft" t="textAreaTop" r="textAreaRight" b="textAreaBottom"/>
              <a:pathLst>
                <a:path w="21600" h="24101">
                  <a:moveTo>
                    <a:pt x="3600" y="0"/>
                  </a:moveTo>
                  <a:arcTo wR="3600" hR="3600" stAng="16200000" swAng="-5400000"/>
                  <a:lnTo>
                    <a:pt x="0" y="20501"/>
                  </a:lnTo>
                  <a:arcTo wR="3600" hR="3600" stAng="10800000" swAng="-5400000"/>
                  <a:lnTo>
                    <a:pt x="18000" y="2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2432160" y="4336560"/>
              <a:ext cx="173880" cy="495720"/>
              <a:chOff x="2432160" y="4336560"/>
              <a:chExt cx="173880" cy="495720"/>
            </a:xfrm>
          </p:grpSpPr>
          <p:sp>
            <p:nvSpPr>
              <p:cNvPr id="305" name=""/>
              <p:cNvSpPr/>
              <p:nvPr/>
            </p:nvSpPr>
            <p:spPr>
              <a:xfrm>
                <a:off x="2466360" y="4336560"/>
                <a:ext cx="106920" cy="1717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432160" y="4524120"/>
                <a:ext cx="173880" cy="308160"/>
                <a:chOff x="2432160" y="4524120"/>
                <a:chExt cx="173880" cy="3081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59520" y="4524120"/>
                  <a:ext cx="116640" cy="8856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432160" y="4583160"/>
                  <a:ext cx="173880" cy="2491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432160" y="4524120"/>
                  <a:ext cx="60480" cy="1170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541960" y="4524120"/>
                  <a:ext cx="64080" cy="11232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2742480" y="4336560"/>
              <a:ext cx="173880" cy="495720"/>
              <a:chOff x="2742480" y="4336560"/>
              <a:chExt cx="173880" cy="495720"/>
            </a:xfrm>
          </p:grpSpPr>
          <p:sp>
            <p:nvSpPr>
              <p:cNvPr id="312" name=""/>
              <p:cNvSpPr/>
              <p:nvPr/>
            </p:nvSpPr>
            <p:spPr>
              <a:xfrm>
                <a:off x="2776680" y="4336560"/>
                <a:ext cx="106920" cy="17172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2742480" y="4524120"/>
                <a:ext cx="173880" cy="308160"/>
                <a:chOff x="2742480" y="4524120"/>
                <a:chExt cx="173880" cy="3081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2769840" y="4524120"/>
                  <a:ext cx="116640" cy="8856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742480" y="4583160"/>
                  <a:ext cx="173880" cy="2491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742480" y="4524120"/>
                  <a:ext cx="60480" cy="1170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852280" y="4524120"/>
                  <a:ext cx="64080" cy="11232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8" name=""/>
          <p:cNvSpPr/>
          <p:nvPr/>
        </p:nvSpPr>
        <p:spPr>
          <a:xfrm>
            <a:off x="5410080" y="1600200"/>
            <a:ext cx="30402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dministration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33920" y="1600200"/>
            <a:ext cx="16542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ommunication  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034040" y="4175280"/>
            <a:ext cx="887760" cy="1047600"/>
            <a:chOff x="7034040" y="4175280"/>
            <a:chExt cx="887760" cy="1047600"/>
          </a:xfrm>
        </p:grpSpPr>
        <p:sp>
          <p:nvSpPr>
            <p:cNvPr id="321" name=""/>
            <p:cNvSpPr/>
            <p:nvPr/>
          </p:nvSpPr>
          <p:spPr>
            <a:xfrm>
              <a:off x="7034040" y="4175280"/>
              <a:ext cx="887760" cy="1047600"/>
            </a:xfrm>
            <a:custGeom>
              <a:avLst/>
              <a:gdLst>
                <a:gd name="textAreaLeft" fmla="*/ 43200 w 887760"/>
                <a:gd name="textAreaRight" fmla="*/ 844560 w 887760"/>
                <a:gd name="textAreaTop" fmla="*/ 43200 h 1047600"/>
                <a:gd name="textAreaBottom" fmla="*/ 1004400 h 1047600"/>
              </a:gdLst>
              <a:ahLst/>
              <a:rect l="textAreaLeft" t="textAreaTop" r="textAreaRight" b="textAreaBottom"/>
              <a:pathLst>
                <a:path w="21600" h="25487">
                  <a:moveTo>
                    <a:pt x="3600" y="0"/>
                  </a:moveTo>
                  <a:arcTo wR="3600" hR="3600" stAng="16200000" swAng="-5400000"/>
                  <a:lnTo>
                    <a:pt x="0" y="21887"/>
                  </a:lnTo>
                  <a:arcTo wR="3600" hR="3600" stAng="10800000" swAng="-5400000"/>
                  <a:lnTo>
                    <a:pt x="18000" y="254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160760" y="4384440"/>
              <a:ext cx="213480" cy="642600"/>
              <a:chOff x="7160760" y="4384440"/>
              <a:chExt cx="213480" cy="642600"/>
            </a:xfrm>
          </p:grpSpPr>
          <p:sp>
            <p:nvSpPr>
              <p:cNvPr id="323" name=""/>
              <p:cNvSpPr/>
              <p:nvPr/>
            </p:nvSpPr>
            <p:spPr>
              <a:xfrm>
                <a:off x="7202520" y="4384440"/>
                <a:ext cx="131400" cy="2224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7160760" y="4627800"/>
                <a:ext cx="213480" cy="399240"/>
                <a:chOff x="7160760" y="4627800"/>
                <a:chExt cx="213480" cy="3992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194600" y="4627800"/>
                  <a:ext cx="142920" cy="11484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160760" y="4704120"/>
                  <a:ext cx="213480" cy="322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160760" y="4627800"/>
                  <a:ext cx="74160" cy="1515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295400" y="4627800"/>
                  <a:ext cx="78480" cy="1458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" name=""/>
            <p:cNvGrpSpPr/>
            <p:nvPr/>
          </p:nvGrpSpPr>
          <p:grpSpPr>
            <a:xfrm>
              <a:off x="7541280" y="4384440"/>
              <a:ext cx="213480" cy="642600"/>
              <a:chOff x="7541280" y="4384440"/>
              <a:chExt cx="213480" cy="642600"/>
            </a:xfrm>
          </p:grpSpPr>
          <p:sp>
            <p:nvSpPr>
              <p:cNvPr id="330" name=""/>
              <p:cNvSpPr/>
              <p:nvPr/>
            </p:nvSpPr>
            <p:spPr>
              <a:xfrm>
                <a:off x="7583040" y="4384440"/>
                <a:ext cx="131400" cy="222480"/>
              </a:xfrm>
              <a:prstGeom prst="ellipse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7541280" y="4627800"/>
                <a:ext cx="213480" cy="399240"/>
                <a:chOff x="7541280" y="4627800"/>
                <a:chExt cx="213480" cy="3992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575120" y="4627800"/>
                  <a:ext cx="142920" cy="11484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541280" y="4704120"/>
                  <a:ext cx="213480" cy="322920"/>
                </a:xfrm>
                <a:prstGeom prst="rect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541280" y="4627800"/>
                  <a:ext cx="74160" cy="15156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675920" y="4627800"/>
                  <a:ext cx="78480" cy="1458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6" name=""/>
          <p:cNvSpPr/>
          <p:nvPr/>
        </p:nvSpPr>
        <p:spPr>
          <a:xfrm>
            <a:off x="6008760" y="5048280"/>
            <a:ext cx="13255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C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49840" y="4784760"/>
            <a:ext cx="985680" cy="73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323120" y="2414520"/>
            <a:ext cx="99396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esse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iderações Finai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uniões baseadas em tex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todologia utilizada: orientação a papé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mplementação em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jeto 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antagens da implementação em JAVA: reusabilidade, redução do custo de desenvolvimento, flexibilidade, manutenibilidade, extensibilidade e  portabilida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uso de um projeto e implementação orientados a objetos não elimina as vantagens da adoção da noção de papel na modelagem dos ag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iderações Finai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noção de papel está em nível de abstração superior aos objetos  = redução do gap semân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modelagem do Gerenciador de Reuniões utilizando esta metodologia apresentou menor complexidade do que o modelo 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cesso com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écnicas de Inteligência Artificial tornam a aplicação mais atrativa, adequada e adaptável às necessidades do usuá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resentaçã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uniões baseadas em textos no contexto da aprendizagem coopera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m sistema multiagente para gerência de reuniõ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odologia adot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quitetura para o Gerenciador Inteligente de Reuni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ções fi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ferências Bibliográfica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OLDRIDGE, M., JENNINGS, N. R., KINNY, D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thodology for agent-oriented analysis and desig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n: O. Etzioni, J. P. Muller, and J. Bradshaw, editors: Agents '99: Proceedings on.. Autonomous Agents, Seattle, WA, 1999, Pag. 69 - 76.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CW: auxiliar grupos na comunicação, colaboração e coordenação de suas ativ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endizagem coope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ação a pro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sidade de ferramentas computacionais (inteligentes) capazes de integrar processamento de informação e atividades de comunic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niões baseadas em tex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 de apoio à mediação de aprendizagem: Uma abordagem orientada por processos e pro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ência com o Curso de Especialização em Informática Educativa do PROINFO [Menezes, 1999-2] utilizando o ambiente AmCorA [Menezes, 1999] e a orientação a pro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uniões baseadas em texto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pedagogia de proje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 um curso orientado a projeto, os alunos são divididos em grupos e cada uma dessas equipes desenvolve um projeto sobre um tema de seu interes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uniões baseadas em tex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de-se integrar um sistema de correio eletrônico para notificar os usuários sobre novas mensag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st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 sistema multiagente para apoiar o gerenciamento de reuniões, síncronas ou assíncronas em ambientes de aprendizagem cooperativa orientados a proje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endário de grup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ção das reuni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das interaçõ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mover suporte ao agendamento de reuniõ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mitir configurar reuni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companhar e registrar as participações e interações nas reuni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ciliar as agendas dos particip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finir automaticamente quais serão os participantes da reunião baseando-se na configuração da mes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mitir a definição de papéis e responsabil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ermitir a configuração da reunião automaticamente, de acordo com questões de quorum, conflitos nas agend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47320"/>
            <a:ext cx="8572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a metodologia para análise e projeto orientados a agent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oldridge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73520" y="2203560"/>
            <a:ext cx="1743120" cy="5601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73520" y="3184560"/>
            <a:ext cx="1743120" cy="561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é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187880"/>
            <a:ext cx="2159280" cy="55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4187880"/>
            <a:ext cx="2143080" cy="55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5334120"/>
            <a:ext cx="426708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dades de segu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334120"/>
            <a:ext cx="3073320" cy="5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dades v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64080" y="2763720"/>
            <a:ext cx="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419360" y="3746520"/>
            <a:ext cx="14436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293920" y="3746520"/>
            <a:ext cx="22687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64080" y="3746520"/>
            <a:ext cx="28303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146040" y="4735440"/>
            <a:ext cx="133524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6520" y="4735440"/>
            <a:ext cx="1503360" cy="5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1600" y="2057400"/>
            <a:ext cx="86724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5920" y="4191120"/>
            <a:ext cx="2816280" cy="542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abi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687240"/>
            <a:ext cx="8572680" cy="5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o de Papei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72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57200" y="1523880"/>
            <a:ext cx="8381880" cy="4952880"/>
            <a:chOff x="457200" y="1523880"/>
            <a:chExt cx="8381880" cy="4952880"/>
          </a:xfrm>
        </p:grpSpPr>
        <p:sp>
          <p:nvSpPr>
            <p:cNvPr id="122" name=""/>
            <p:cNvSpPr/>
            <p:nvPr/>
          </p:nvSpPr>
          <p:spPr>
            <a:xfrm>
              <a:off x="631800" y="5692320"/>
              <a:ext cx="795780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Times New Roman"/>
                </a:rPr>
                <a:t>Fig. 3. </a:t>
              </a: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Esquema do Papel </a:t>
              </a:r>
              <a:r>
                <a:rPr b="0" lang="pt-BR" sz="1000" spc="-1" strike="noStrike">
                  <a:solidFill>
                    <a:srgbClr val="000000"/>
                  </a:solidFill>
                  <a:latin typeface="Times New Roman"/>
                </a:rPr>
                <a:t>Atendente do Participante do Ch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1523880"/>
              <a:ext cx="8381880" cy="416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Esquema do Papel: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tendentePartic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Descrição: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Este papel envolve receber o usuário, alem de convocações para as reuniões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Protocolos: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ChecaDados, EnviaMail, Lembra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Permissões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Respons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Times New Roman"/>
                </a:rPr>
                <a:t>Liveness: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AtendenteParticChat   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=ChecaDados | EnviaMail* ||  LembraChat</a:t>
              </a:r>
              <a:r>
                <a:rPr b="0" lang="pt-B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 |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Times New Roman"/>
                </a:rPr>
                <a:t>Seguranç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" y="207972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13:37:20Z</dcterms:created>
  <dc:creator>Silvana Rossy de Brito</dc:creator>
  <dc:description/>
  <dc:language>en-US</dc:language>
  <cp:lastModifiedBy>Silvana Rossy de Brito</cp:lastModifiedBy>
  <dcterms:modified xsi:type="dcterms:W3CDTF">2000-11-14T10:32:13Z</dcterms:modified>
  <cp:revision>42</cp:revision>
  <dc:subject/>
  <dc:title>Ambiente de apoio à mediação da aprendizagem: Uma abordagem orientada por processos e projetos</dc:title>
</cp:coreProperties>
</file>