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52303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5232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826560" y="73944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870120" y="4642920"/>
            <a:ext cx="4782960" cy="439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i="1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59892D5-F18F-42C8-8AA9-A8442AFE41BA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54F1D7E-6C3A-4A47-8004-EEE69D1F7EBF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870120" y="4642920"/>
            <a:ext cx="4781520" cy="4395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>
              <a:lnSpc>
                <a:spcPct val="88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bs: o ambiente pode ser “artificial” ou mesmo simulado mas nem por isso é simples (ex. simulador de vôo, ALIVE do M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D930485-66C3-4E56-B50F-4486526C5970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2CDF8BB-8552-43A1-9C9D-A3AD6BCFCEF6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7859FD-2476-4AF1-82E3-4189B8D968F3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870120" y="4642920"/>
            <a:ext cx="4781520" cy="4395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 ser objetiva, esta medida deve ser imposta do exter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s. aspirador de pó, provador de teoremas, filtragem de mails, policial de trânsito, avaliador de clima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A26973-32BE-4AC5-822D-0095FF091A5D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7665674-CFF7-4B2C-9809-21E02AE56C7C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8EEF74-23C9-41A5-B5BA-C3EED3EAEE91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1B1C66-E3CB-40ED-A8DE-5DC3EC90D4FD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5F63CE-1D23-4498-B73E-72DEB67F6CD0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21F702E-5578-4B57-9047-4038919342FA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2204482-F053-4929-8FA3-6E899D6C54A7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069C5F-E3CC-4725-B3C2-0BDAB8DFF4A8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1B4782B-3AF1-4DB9-B795-B71CC112D347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35FAF73-AA9B-40E2-89E6-EAF66C22101F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9C8A73-7A17-4641-B89D-3A5501FA26BA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8640" y="868320"/>
            <a:ext cx="4525920" cy="3394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697200" y="9284760"/>
            <a:ext cx="282600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CAB5F4-A6E5-4703-9E0A-2D14D7EDDBC6}" type="slidenum"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9284760"/>
            <a:ext cx="2825640" cy="4892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82564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697200" y="0"/>
            <a:ext cx="2826000" cy="4888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97200" y="0"/>
            <a:ext cx="2843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7200" y="9247320"/>
            <a:ext cx="28432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17640" y="9247320"/>
            <a:ext cx="2840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17640" y="0"/>
            <a:ext cx="28400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88920" y="86040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73000" y="4660560"/>
            <a:ext cx="48117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1920-C19D-45EF-9500-E7DEE0C6B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1D1C-134E-4C39-844C-AF5C319E0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6FED-64C5-4B60-9136-EEDD99ACE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B740-19EA-4EDA-9D70-3DC2088C1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3BD63-F5B7-48E4-8B19-FCDE643B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233D-7747-40FD-A1B0-DFD9C30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E5FB8-E6AA-4D8D-A875-D4EF35C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CC481-FAA6-4746-B7F3-8D5BE3F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80404-9539-484A-B45B-69E3F850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A348-4661-4174-A8DB-24D4FC90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883C9-3D7A-4EF4-BB46-4F472B7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3E2E-FCD0-4022-87C1-867EA73E2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E36AF-514D-4BD6-A21E-EAA9F4F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30EC-96D7-441F-9E6C-613425D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41B75-AC61-4516-BBFD-40725D2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DC486-AB4A-488A-BF09-2CA6D8C2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5DCE9-5B86-4D6D-8DCC-588E5C9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06AD-C3AD-47D8-B635-B66884800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F69B-FAE2-4F63-AF0A-BF338A4E0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021A-62F9-46D4-8930-0823C4188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1A5C-308D-416E-BBF1-4D7B6100A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5AC0-42AB-4258-86B9-7B96532E1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4754-ACF5-4B57-8D4D-72EF3AA96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FFEC-0785-491F-A590-478647C7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07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980720"/>
            <a:ext cx="6324840" cy="40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83920" indent="-217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81720" indent="-217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81720" indent="-217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81720" indent="-217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916-AB88-450F-ADFC-B2E8D27C465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 / 47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1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3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7543800" y="6356160"/>
            <a:ext cx="129528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D666-A32B-4F77-B49E-A90C6BB4F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 rot="5400000">
            <a:off x="7455960" y="5510160"/>
            <a:ext cx="939960" cy="24444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Narrow"/>
              </a:rPr>
              <a:t>Agentes Inteligentes</a:t>
            </a:r>
            <a:endParaRPr b="0" lang="en-US" sz="54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809880"/>
            <a:ext cx="815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u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lvana Rossy de Brito - UF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rivaldo L. Tav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62940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Propriedades dos Agent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utono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agentes operam sem a intervenção direta de operadores (humanos ou outros agentes) e possuem algum tipo de controle sobre suas próprias ações e estados intern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acidade de adaptação a situações novas, para as quais não foi fornecido todo o conhecimento necessário com anteced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39F6-4ABB-4B74-AF77-14E6038FC699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62940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Propriedades dos Agent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66"/>
                </a:solidFill>
                <a:latin typeface="Arial"/>
              </a:rPr>
              <a:t>Autono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 as ações do agente forem baseadas completamente no conhecimento incorporado, de forma que ele não necessite prestar atenção nas suas percepções, diz-se que o agente não possui autono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ussell &amp; Norv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780B-2515-4A5F-84C5-C698BBC82B1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57909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Propriedades dos Agent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Habilidade social (cooperação):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agentes interagem com outros agentes(humanos ou não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Reatividade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os agentes percebem seu ambiente  e respondem aos estímulos deles recebid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ró-atividade ("pro-activeness")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os agentes não somente reagem ao seu ambiente, mas possuem habilidades para comportarem-se de acordo com seus objetivos, tomando inicia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108C-72EC-4824-98E5-8E8D3092E71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443640" cy="1179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Agente Racional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agente racional é aquele que faz a melhor coisa </a:t>
            </a: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ssí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576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princípio de racionalidade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ada um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equência perceptiv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 o agente escolhe, segundo os seu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hecimento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,  a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çõe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que satisfazem melhor seu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Agir para obter mais dados perceptivo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304920"/>
          <a:ext cx="56988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304920"/>
                    <a:ext cx="56988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09BF-6D1A-42AD-9388-463414975EA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228960" y="762120"/>
            <a:ext cx="8915040" cy="2881080"/>
            <a:chOff x="228960" y="762120"/>
            <a:chExt cx="8915040" cy="2881080"/>
          </a:xfrm>
        </p:grpSpPr>
        <p:sp>
          <p:nvSpPr>
            <p:cNvPr id="161" name=""/>
            <p:cNvSpPr/>
            <p:nvPr/>
          </p:nvSpPr>
          <p:spPr>
            <a:xfrm>
              <a:off x="304920" y="762120"/>
              <a:ext cx="8839080" cy="28810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960" y="1219320"/>
              <a:ext cx="122328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104292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3636720" cy="1131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gente de polic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13000" y="996840"/>
            <a:ext cx="6881760" cy="1435320"/>
            <a:chOff x="1413000" y="996840"/>
            <a:chExt cx="6881760" cy="1435320"/>
          </a:xfrm>
        </p:grpSpPr>
        <p:sp>
          <p:nvSpPr>
            <p:cNvPr id="166" name=""/>
            <p:cNvSpPr/>
            <p:nvPr/>
          </p:nvSpPr>
          <p:spPr>
            <a:xfrm>
              <a:off x="1413000" y="996840"/>
              <a:ext cx="6881760" cy="1435320"/>
            </a:xfrm>
            <a:prstGeom prst="rect">
              <a:avLst/>
            </a:prstGeom>
            <a:gradFill rotWithShape="0">
              <a:gsLst>
                <a:gs pos="0">
                  <a:srgbClr val="75752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7280" y="1066680"/>
              <a:ext cx="12124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raciocíni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600200" y="1438200"/>
            <a:ext cx="2590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hecimen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9864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e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9864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omportamento dos indivíduos,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04800" y="1365120"/>
            <a:ext cx="2608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azer com que as lei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sejam respeit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05080" y="1363680"/>
            <a:ext cx="1302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l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i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9836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arar,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2437920"/>
            <a:ext cx="2168280" cy="1600200"/>
            <a:chOff x="1905120" y="2437920"/>
            <a:chExt cx="2168280" cy="1600200"/>
          </a:xfrm>
        </p:grpSpPr>
        <p:sp>
          <p:nvSpPr>
            <p:cNvPr id="172" name=""/>
            <p:cNvSpPr/>
            <p:nvPr/>
          </p:nvSpPr>
          <p:spPr>
            <a:xfrm flipV="1">
              <a:off x="2673360" y="3504960"/>
              <a:ext cx="0" cy="533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905120" y="2437920"/>
              <a:ext cx="2168280" cy="1060920"/>
              <a:chOff x="1905120" y="2437920"/>
              <a:chExt cx="2168280" cy="1060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05120" y="2825640"/>
                <a:ext cx="2168280" cy="673200"/>
              </a:xfrm>
              <a:prstGeom prst="rect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8320" y="2819520"/>
                <a:ext cx="12751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7520" bIns="4752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i="1" lang="en-US" sz="1700" spc="-1" strike="noStrike">
                    <a:solidFill>
                      <a:srgbClr val="ffffff"/>
                    </a:solidFill>
                    <a:latin typeface="Arial"/>
                  </a:rPr>
                  <a:t>percepção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2327040" y="3206880"/>
                <a:ext cx="339120" cy="215640"/>
                <a:chOff x="2327040" y="3206880"/>
                <a:chExt cx="339120" cy="2156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572920" y="3352680"/>
                  <a:ext cx="49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2327040" y="3206880"/>
                  <a:ext cx="339120" cy="215640"/>
                  <a:chOff x="2327040" y="3206880"/>
                  <a:chExt cx="339120" cy="215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2327040" y="3206880"/>
                    <a:ext cx="240120" cy="21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a9a9a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28360" y="3282840"/>
                    <a:ext cx="37800" cy="6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a9a9a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572920" y="3276720"/>
                    <a:ext cx="49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2" name=""/>
              <p:cNvSpPr/>
              <p:nvPr/>
            </p:nvSpPr>
            <p:spPr>
              <a:xfrm flipV="1">
                <a:off x="2743200" y="2437920"/>
                <a:ext cx="0" cy="381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0" y="3886200"/>
            <a:ext cx="9144000" cy="2971800"/>
            <a:chOff x="0" y="3886200"/>
            <a:chExt cx="9144000" cy="2971800"/>
          </a:xfrm>
        </p:grpSpPr>
        <p:sp>
          <p:nvSpPr>
            <p:cNvPr id="184" name=""/>
            <p:cNvSpPr/>
            <p:nvPr/>
          </p:nvSpPr>
          <p:spPr>
            <a:xfrm>
              <a:off x="0" y="3886200"/>
              <a:ext cx="9144000" cy="2971800"/>
            </a:xfrm>
            <a:custGeom>
              <a:avLst/>
              <a:gdLst/>
              <a:ahLst/>
              <a:rect l="l" t="t" r="r" b="b"/>
              <a:pathLst>
                <a:path w="6240" h="1872">
                  <a:moveTo>
                    <a:pt x="48" y="58"/>
                  </a:moveTo>
                  <a:lnTo>
                    <a:pt x="73" y="50"/>
                  </a:lnTo>
                  <a:lnTo>
                    <a:pt x="90" y="58"/>
                  </a:lnTo>
                  <a:lnTo>
                    <a:pt x="106" y="65"/>
                  </a:lnTo>
                  <a:lnTo>
                    <a:pt x="122" y="65"/>
                  </a:lnTo>
                  <a:lnTo>
                    <a:pt x="140" y="65"/>
                  </a:lnTo>
                  <a:lnTo>
                    <a:pt x="156" y="72"/>
                  </a:lnTo>
                  <a:lnTo>
                    <a:pt x="172" y="72"/>
                  </a:lnTo>
                  <a:lnTo>
                    <a:pt x="189" y="80"/>
                  </a:lnTo>
                  <a:lnTo>
                    <a:pt x="205" y="80"/>
                  </a:lnTo>
                  <a:lnTo>
                    <a:pt x="222" y="88"/>
                  </a:lnTo>
                  <a:lnTo>
                    <a:pt x="239" y="88"/>
                  </a:lnTo>
                  <a:lnTo>
                    <a:pt x="254" y="88"/>
                  </a:lnTo>
                  <a:lnTo>
                    <a:pt x="289" y="80"/>
                  </a:lnTo>
                  <a:lnTo>
                    <a:pt x="304" y="80"/>
                  </a:lnTo>
                  <a:lnTo>
                    <a:pt x="321" y="80"/>
                  </a:lnTo>
                  <a:lnTo>
                    <a:pt x="337" y="72"/>
                  </a:lnTo>
                  <a:lnTo>
                    <a:pt x="353" y="65"/>
                  </a:lnTo>
                  <a:lnTo>
                    <a:pt x="371" y="65"/>
                  </a:lnTo>
                  <a:lnTo>
                    <a:pt x="386" y="58"/>
                  </a:lnTo>
                  <a:lnTo>
                    <a:pt x="404" y="50"/>
                  </a:lnTo>
                  <a:lnTo>
                    <a:pt x="412" y="36"/>
                  </a:lnTo>
                  <a:lnTo>
                    <a:pt x="429" y="36"/>
                  </a:lnTo>
                  <a:lnTo>
                    <a:pt x="436" y="21"/>
                  </a:lnTo>
                  <a:lnTo>
                    <a:pt x="453" y="14"/>
                  </a:lnTo>
                  <a:lnTo>
                    <a:pt x="469" y="7"/>
                  </a:lnTo>
                  <a:lnTo>
                    <a:pt x="485" y="0"/>
                  </a:lnTo>
                  <a:lnTo>
                    <a:pt x="503" y="0"/>
                  </a:lnTo>
                  <a:lnTo>
                    <a:pt x="518" y="7"/>
                  </a:lnTo>
                  <a:lnTo>
                    <a:pt x="536" y="7"/>
                  </a:lnTo>
                  <a:lnTo>
                    <a:pt x="553" y="7"/>
                  </a:lnTo>
                  <a:lnTo>
                    <a:pt x="568" y="7"/>
                  </a:lnTo>
                  <a:lnTo>
                    <a:pt x="586" y="7"/>
                  </a:lnTo>
                  <a:lnTo>
                    <a:pt x="601" y="14"/>
                  </a:lnTo>
                  <a:lnTo>
                    <a:pt x="635" y="7"/>
                  </a:lnTo>
                  <a:lnTo>
                    <a:pt x="668" y="7"/>
                  </a:lnTo>
                  <a:lnTo>
                    <a:pt x="685" y="7"/>
                  </a:lnTo>
                  <a:lnTo>
                    <a:pt x="700" y="14"/>
                  </a:lnTo>
                  <a:lnTo>
                    <a:pt x="718" y="14"/>
                  </a:lnTo>
                  <a:lnTo>
                    <a:pt x="734" y="14"/>
                  </a:lnTo>
                  <a:lnTo>
                    <a:pt x="749" y="14"/>
                  </a:lnTo>
                  <a:lnTo>
                    <a:pt x="767" y="14"/>
                  </a:lnTo>
                  <a:lnTo>
                    <a:pt x="782" y="14"/>
                  </a:lnTo>
                  <a:lnTo>
                    <a:pt x="800" y="14"/>
                  </a:lnTo>
                  <a:lnTo>
                    <a:pt x="817" y="21"/>
                  </a:lnTo>
                  <a:lnTo>
                    <a:pt x="832" y="29"/>
                  </a:lnTo>
                  <a:lnTo>
                    <a:pt x="850" y="29"/>
                  </a:lnTo>
                  <a:lnTo>
                    <a:pt x="866" y="29"/>
                  </a:lnTo>
                  <a:lnTo>
                    <a:pt x="881" y="29"/>
                  </a:lnTo>
                  <a:lnTo>
                    <a:pt x="899" y="29"/>
                  </a:lnTo>
                  <a:lnTo>
                    <a:pt x="914" y="29"/>
                  </a:lnTo>
                  <a:lnTo>
                    <a:pt x="932" y="21"/>
                  </a:lnTo>
                  <a:lnTo>
                    <a:pt x="949" y="21"/>
                  </a:lnTo>
                  <a:lnTo>
                    <a:pt x="964" y="21"/>
                  </a:lnTo>
                  <a:lnTo>
                    <a:pt x="982" y="14"/>
                  </a:lnTo>
                  <a:lnTo>
                    <a:pt x="998" y="14"/>
                  </a:lnTo>
                  <a:lnTo>
                    <a:pt x="1013" y="14"/>
                  </a:lnTo>
                  <a:lnTo>
                    <a:pt x="1031" y="14"/>
                  </a:lnTo>
                  <a:lnTo>
                    <a:pt x="1046" y="14"/>
                  </a:lnTo>
                  <a:lnTo>
                    <a:pt x="1081" y="7"/>
                  </a:lnTo>
                  <a:lnTo>
                    <a:pt x="1096" y="7"/>
                  </a:lnTo>
                  <a:lnTo>
                    <a:pt x="1114" y="7"/>
                  </a:lnTo>
                  <a:lnTo>
                    <a:pt x="1130" y="7"/>
                  </a:lnTo>
                  <a:lnTo>
                    <a:pt x="1145" y="7"/>
                  </a:lnTo>
                  <a:lnTo>
                    <a:pt x="1163" y="7"/>
                  </a:lnTo>
                  <a:lnTo>
                    <a:pt x="1179" y="0"/>
                  </a:lnTo>
                  <a:lnTo>
                    <a:pt x="1196" y="0"/>
                  </a:lnTo>
                  <a:lnTo>
                    <a:pt x="1213" y="0"/>
                  </a:lnTo>
                  <a:lnTo>
                    <a:pt x="1228" y="0"/>
                  </a:lnTo>
                  <a:lnTo>
                    <a:pt x="1245" y="7"/>
                  </a:lnTo>
                  <a:lnTo>
                    <a:pt x="1262" y="14"/>
                  </a:lnTo>
                  <a:lnTo>
                    <a:pt x="1278" y="29"/>
                  </a:lnTo>
                  <a:lnTo>
                    <a:pt x="1287" y="44"/>
                  </a:lnTo>
                  <a:lnTo>
                    <a:pt x="1302" y="50"/>
                  </a:lnTo>
                  <a:lnTo>
                    <a:pt x="1319" y="65"/>
                  </a:lnTo>
                  <a:lnTo>
                    <a:pt x="1337" y="72"/>
                  </a:lnTo>
                  <a:lnTo>
                    <a:pt x="1352" y="88"/>
                  </a:lnTo>
                  <a:lnTo>
                    <a:pt x="1370" y="88"/>
                  </a:lnTo>
                  <a:lnTo>
                    <a:pt x="1385" y="95"/>
                  </a:lnTo>
                  <a:lnTo>
                    <a:pt x="1402" y="102"/>
                  </a:lnTo>
                  <a:lnTo>
                    <a:pt x="1419" y="102"/>
                  </a:lnTo>
                  <a:lnTo>
                    <a:pt x="1443" y="102"/>
                  </a:lnTo>
                  <a:lnTo>
                    <a:pt x="1459" y="102"/>
                  </a:lnTo>
                  <a:lnTo>
                    <a:pt x="1477" y="102"/>
                  </a:lnTo>
                  <a:lnTo>
                    <a:pt x="1492" y="102"/>
                  </a:lnTo>
                  <a:lnTo>
                    <a:pt x="1509" y="102"/>
                  </a:lnTo>
                  <a:lnTo>
                    <a:pt x="1526" y="109"/>
                  </a:lnTo>
                  <a:lnTo>
                    <a:pt x="1566" y="95"/>
                  </a:lnTo>
                  <a:lnTo>
                    <a:pt x="1601" y="95"/>
                  </a:lnTo>
                  <a:lnTo>
                    <a:pt x="1634" y="95"/>
                  </a:lnTo>
                  <a:lnTo>
                    <a:pt x="1665" y="95"/>
                  </a:lnTo>
                  <a:lnTo>
                    <a:pt x="1698" y="95"/>
                  </a:lnTo>
                  <a:lnTo>
                    <a:pt x="1733" y="95"/>
                  </a:lnTo>
                  <a:lnTo>
                    <a:pt x="1748" y="95"/>
                  </a:lnTo>
                  <a:lnTo>
                    <a:pt x="1766" y="95"/>
                  </a:lnTo>
                  <a:lnTo>
                    <a:pt x="1781" y="95"/>
                  </a:lnTo>
                  <a:lnTo>
                    <a:pt x="1798" y="95"/>
                  </a:lnTo>
                  <a:lnTo>
                    <a:pt x="1815" y="95"/>
                  </a:lnTo>
                  <a:lnTo>
                    <a:pt x="1830" y="95"/>
                  </a:lnTo>
                  <a:lnTo>
                    <a:pt x="1873" y="95"/>
                  </a:lnTo>
                  <a:lnTo>
                    <a:pt x="1905" y="95"/>
                  </a:lnTo>
                  <a:lnTo>
                    <a:pt x="1938" y="95"/>
                  </a:lnTo>
                  <a:lnTo>
                    <a:pt x="1972" y="95"/>
                  </a:lnTo>
                  <a:lnTo>
                    <a:pt x="2005" y="95"/>
                  </a:lnTo>
                  <a:lnTo>
                    <a:pt x="2037" y="95"/>
                  </a:lnTo>
                  <a:lnTo>
                    <a:pt x="2071" y="95"/>
                  </a:lnTo>
                  <a:lnTo>
                    <a:pt x="2104" y="95"/>
                  </a:lnTo>
                  <a:lnTo>
                    <a:pt x="2119" y="95"/>
                  </a:lnTo>
                  <a:lnTo>
                    <a:pt x="2129" y="80"/>
                  </a:lnTo>
                  <a:lnTo>
                    <a:pt x="2111" y="80"/>
                  </a:lnTo>
                  <a:lnTo>
                    <a:pt x="2111" y="95"/>
                  </a:lnTo>
                  <a:lnTo>
                    <a:pt x="2129" y="102"/>
                  </a:lnTo>
                  <a:lnTo>
                    <a:pt x="2129" y="117"/>
                  </a:lnTo>
                  <a:lnTo>
                    <a:pt x="2129" y="102"/>
                  </a:lnTo>
                  <a:lnTo>
                    <a:pt x="2154" y="117"/>
                  </a:lnTo>
                  <a:lnTo>
                    <a:pt x="2178" y="146"/>
                  </a:lnTo>
                  <a:lnTo>
                    <a:pt x="2178" y="125"/>
                  </a:lnTo>
                  <a:lnTo>
                    <a:pt x="2194" y="125"/>
                  </a:lnTo>
                  <a:lnTo>
                    <a:pt x="2211" y="125"/>
                  </a:lnTo>
                  <a:lnTo>
                    <a:pt x="2226" y="125"/>
                  </a:lnTo>
                  <a:lnTo>
                    <a:pt x="2243" y="125"/>
                  </a:lnTo>
                  <a:lnTo>
                    <a:pt x="2261" y="125"/>
                  </a:lnTo>
                  <a:lnTo>
                    <a:pt x="2277" y="117"/>
                  </a:lnTo>
                  <a:lnTo>
                    <a:pt x="2293" y="109"/>
                  </a:lnTo>
                  <a:lnTo>
                    <a:pt x="2335" y="109"/>
                  </a:lnTo>
                  <a:lnTo>
                    <a:pt x="2368" y="109"/>
                  </a:lnTo>
                  <a:lnTo>
                    <a:pt x="2400" y="80"/>
                  </a:lnTo>
                  <a:lnTo>
                    <a:pt x="2433" y="80"/>
                  </a:lnTo>
                  <a:lnTo>
                    <a:pt x="2451" y="72"/>
                  </a:lnTo>
                  <a:lnTo>
                    <a:pt x="2467" y="72"/>
                  </a:lnTo>
                  <a:lnTo>
                    <a:pt x="2482" y="80"/>
                  </a:lnTo>
                  <a:lnTo>
                    <a:pt x="2500" y="88"/>
                  </a:lnTo>
                  <a:lnTo>
                    <a:pt x="2532" y="88"/>
                  </a:lnTo>
                  <a:lnTo>
                    <a:pt x="2550" y="88"/>
                  </a:lnTo>
                  <a:lnTo>
                    <a:pt x="2565" y="80"/>
                  </a:lnTo>
                  <a:lnTo>
                    <a:pt x="2599" y="80"/>
                  </a:lnTo>
                  <a:lnTo>
                    <a:pt x="2614" y="80"/>
                  </a:lnTo>
                  <a:lnTo>
                    <a:pt x="2632" y="72"/>
                  </a:lnTo>
                  <a:lnTo>
                    <a:pt x="2648" y="72"/>
                  </a:lnTo>
                  <a:lnTo>
                    <a:pt x="2689" y="72"/>
                  </a:lnTo>
                  <a:lnTo>
                    <a:pt x="2722" y="72"/>
                  </a:lnTo>
                  <a:lnTo>
                    <a:pt x="2764" y="80"/>
                  </a:lnTo>
                  <a:lnTo>
                    <a:pt x="2780" y="80"/>
                  </a:lnTo>
                  <a:lnTo>
                    <a:pt x="2797" y="80"/>
                  </a:lnTo>
                  <a:lnTo>
                    <a:pt x="2814" y="88"/>
                  </a:lnTo>
                  <a:lnTo>
                    <a:pt x="2829" y="88"/>
                  </a:lnTo>
                  <a:lnTo>
                    <a:pt x="2846" y="88"/>
                  </a:lnTo>
                  <a:lnTo>
                    <a:pt x="2863" y="95"/>
                  </a:lnTo>
                  <a:lnTo>
                    <a:pt x="2878" y="95"/>
                  </a:lnTo>
                  <a:lnTo>
                    <a:pt x="2896" y="102"/>
                  </a:lnTo>
                  <a:lnTo>
                    <a:pt x="2912" y="102"/>
                  </a:lnTo>
                  <a:lnTo>
                    <a:pt x="2929" y="109"/>
                  </a:lnTo>
                  <a:lnTo>
                    <a:pt x="2946" y="117"/>
                  </a:lnTo>
                  <a:lnTo>
                    <a:pt x="2962" y="117"/>
                  </a:lnTo>
                  <a:lnTo>
                    <a:pt x="2978" y="117"/>
                  </a:lnTo>
                  <a:lnTo>
                    <a:pt x="2995" y="117"/>
                  </a:lnTo>
                  <a:lnTo>
                    <a:pt x="3011" y="117"/>
                  </a:lnTo>
                  <a:lnTo>
                    <a:pt x="3027" y="117"/>
                  </a:lnTo>
                  <a:lnTo>
                    <a:pt x="3044" y="117"/>
                  </a:lnTo>
                  <a:lnTo>
                    <a:pt x="3061" y="117"/>
                  </a:lnTo>
                  <a:lnTo>
                    <a:pt x="3078" y="109"/>
                  </a:lnTo>
                  <a:lnTo>
                    <a:pt x="3110" y="117"/>
                  </a:lnTo>
                  <a:lnTo>
                    <a:pt x="3127" y="117"/>
                  </a:lnTo>
                  <a:lnTo>
                    <a:pt x="3143" y="117"/>
                  </a:lnTo>
                  <a:lnTo>
                    <a:pt x="3184" y="117"/>
                  </a:lnTo>
                  <a:lnTo>
                    <a:pt x="3217" y="132"/>
                  </a:lnTo>
                  <a:lnTo>
                    <a:pt x="3251" y="132"/>
                  </a:lnTo>
                  <a:lnTo>
                    <a:pt x="3284" y="132"/>
                  </a:lnTo>
                  <a:lnTo>
                    <a:pt x="3316" y="132"/>
                  </a:lnTo>
                  <a:lnTo>
                    <a:pt x="3349" y="146"/>
                  </a:lnTo>
                  <a:lnTo>
                    <a:pt x="3367" y="146"/>
                  </a:lnTo>
                  <a:lnTo>
                    <a:pt x="3383" y="146"/>
                  </a:lnTo>
                  <a:lnTo>
                    <a:pt x="3398" y="146"/>
                  </a:lnTo>
                  <a:lnTo>
                    <a:pt x="3416" y="153"/>
                  </a:lnTo>
                  <a:lnTo>
                    <a:pt x="3431" y="161"/>
                  </a:lnTo>
                  <a:lnTo>
                    <a:pt x="3448" y="169"/>
                  </a:lnTo>
                  <a:lnTo>
                    <a:pt x="3466" y="176"/>
                  </a:lnTo>
                  <a:lnTo>
                    <a:pt x="3481" y="176"/>
                  </a:lnTo>
                  <a:lnTo>
                    <a:pt x="3499" y="176"/>
                  </a:lnTo>
                  <a:lnTo>
                    <a:pt x="3515" y="176"/>
                  </a:lnTo>
                  <a:lnTo>
                    <a:pt x="3555" y="176"/>
                  </a:lnTo>
                  <a:lnTo>
                    <a:pt x="3589" y="176"/>
                  </a:lnTo>
                  <a:lnTo>
                    <a:pt x="3623" y="176"/>
                  </a:lnTo>
                  <a:lnTo>
                    <a:pt x="3655" y="176"/>
                  </a:lnTo>
                  <a:lnTo>
                    <a:pt x="3687" y="176"/>
                  </a:lnTo>
                  <a:lnTo>
                    <a:pt x="3819" y="176"/>
                  </a:lnTo>
                  <a:lnTo>
                    <a:pt x="3854" y="176"/>
                  </a:lnTo>
                  <a:lnTo>
                    <a:pt x="3887" y="146"/>
                  </a:lnTo>
                  <a:lnTo>
                    <a:pt x="3919" y="146"/>
                  </a:lnTo>
                  <a:lnTo>
                    <a:pt x="3951" y="146"/>
                  </a:lnTo>
                  <a:lnTo>
                    <a:pt x="3969" y="146"/>
                  </a:lnTo>
                  <a:lnTo>
                    <a:pt x="3986" y="153"/>
                  </a:lnTo>
                  <a:lnTo>
                    <a:pt x="4001" y="153"/>
                  </a:lnTo>
                  <a:lnTo>
                    <a:pt x="4019" y="153"/>
                  </a:lnTo>
                  <a:lnTo>
                    <a:pt x="4034" y="153"/>
                  </a:lnTo>
                  <a:lnTo>
                    <a:pt x="4051" y="153"/>
                  </a:lnTo>
                  <a:lnTo>
                    <a:pt x="4068" y="161"/>
                  </a:lnTo>
                  <a:lnTo>
                    <a:pt x="4083" y="176"/>
                  </a:lnTo>
                  <a:lnTo>
                    <a:pt x="4101" y="183"/>
                  </a:lnTo>
                  <a:lnTo>
                    <a:pt x="4118" y="190"/>
                  </a:lnTo>
                  <a:lnTo>
                    <a:pt x="4133" y="190"/>
                  </a:lnTo>
                  <a:lnTo>
                    <a:pt x="4151" y="190"/>
                  </a:lnTo>
                  <a:lnTo>
                    <a:pt x="4166" y="190"/>
                  </a:lnTo>
                  <a:lnTo>
                    <a:pt x="4183" y="190"/>
                  </a:lnTo>
                  <a:lnTo>
                    <a:pt x="4200" y="190"/>
                  </a:lnTo>
                  <a:lnTo>
                    <a:pt x="4215" y="190"/>
                  </a:lnTo>
                  <a:lnTo>
                    <a:pt x="4233" y="190"/>
                  </a:lnTo>
                  <a:lnTo>
                    <a:pt x="4250" y="190"/>
                  </a:lnTo>
                  <a:lnTo>
                    <a:pt x="4283" y="190"/>
                  </a:lnTo>
                  <a:lnTo>
                    <a:pt x="4315" y="190"/>
                  </a:lnTo>
                  <a:lnTo>
                    <a:pt x="4347" y="190"/>
                  </a:lnTo>
                  <a:lnTo>
                    <a:pt x="4382" y="190"/>
                  </a:lnTo>
                  <a:lnTo>
                    <a:pt x="4415" y="190"/>
                  </a:lnTo>
                  <a:lnTo>
                    <a:pt x="4456" y="190"/>
                  </a:lnTo>
                  <a:lnTo>
                    <a:pt x="4489" y="190"/>
                  </a:lnTo>
                  <a:lnTo>
                    <a:pt x="4530" y="198"/>
                  </a:lnTo>
                  <a:lnTo>
                    <a:pt x="4563" y="198"/>
                  </a:lnTo>
                  <a:lnTo>
                    <a:pt x="4596" y="198"/>
                  </a:lnTo>
                  <a:lnTo>
                    <a:pt x="4636" y="198"/>
                  </a:lnTo>
                  <a:lnTo>
                    <a:pt x="4671" y="169"/>
                  </a:lnTo>
                  <a:lnTo>
                    <a:pt x="4704" y="169"/>
                  </a:lnTo>
                  <a:lnTo>
                    <a:pt x="4753" y="161"/>
                  </a:lnTo>
                  <a:lnTo>
                    <a:pt x="4768" y="153"/>
                  </a:lnTo>
                  <a:lnTo>
                    <a:pt x="4785" y="153"/>
                  </a:lnTo>
                  <a:lnTo>
                    <a:pt x="4803" y="153"/>
                  </a:lnTo>
                  <a:lnTo>
                    <a:pt x="4818" y="153"/>
                  </a:lnTo>
                  <a:lnTo>
                    <a:pt x="4836" y="153"/>
                  </a:lnTo>
                  <a:lnTo>
                    <a:pt x="4852" y="153"/>
                  </a:lnTo>
                  <a:lnTo>
                    <a:pt x="4867" y="153"/>
                  </a:lnTo>
                  <a:lnTo>
                    <a:pt x="4909" y="153"/>
                  </a:lnTo>
                  <a:lnTo>
                    <a:pt x="4942" y="153"/>
                  </a:lnTo>
                  <a:lnTo>
                    <a:pt x="4975" y="153"/>
                  </a:lnTo>
                  <a:lnTo>
                    <a:pt x="5009" y="153"/>
                  </a:lnTo>
                  <a:lnTo>
                    <a:pt x="5041" y="153"/>
                  </a:lnTo>
                  <a:lnTo>
                    <a:pt x="5074" y="153"/>
                  </a:lnTo>
                  <a:lnTo>
                    <a:pt x="5107" y="153"/>
                  </a:lnTo>
                  <a:lnTo>
                    <a:pt x="5124" y="153"/>
                  </a:lnTo>
                  <a:lnTo>
                    <a:pt x="5141" y="153"/>
                  </a:lnTo>
                  <a:lnTo>
                    <a:pt x="5156" y="153"/>
                  </a:lnTo>
                  <a:lnTo>
                    <a:pt x="5173" y="153"/>
                  </a:lnTo>
                  <a:lnTo>
                    <a:pt x="5214" y="153"/>
                  </a:lnTo>
                  <a:lnTo>
                    <a:pt x="5231" y="146"/>
                  </a:lnTo>
                  <a:lnTo>
                    <a:pt x="5248" y="138"/>
                  </a:lnTo>
                  <a:lnTo>
                    <a:pt x="5264" y="132"/>
                  </a:lnTo>
                  <a:lnTo>
                    <a:pt x="5281" y="125"/>
                  </a:lnTo>
                  <a:lnTo>
                    <a:pt x="5297" y="125"/>
                  </a:lnTo>
                  <a:lnTo>
                    <a:pt x="5331" y="125"/>
                  </a:lnTo>
                  <a:lnTo>
                    <a:pt x="5363" y="109"/>
                  </a:lnTo>
                  <a:lnTo>
                    <a:pt x="5396" y="109"/>
                  </a:lnTo>
                  <a:lnTo>
                    <a:pt x="5528" y="80"/>
                  </a:lnTo>
                  <a:lnTo>
                    <a:pt x="5561" y="65"/>
                  </a:lnTo>
                  <a:lnTo>
                    <a:pt x="5595" y="65"/>
                  </a:lnTo>
                  <a:lnTo>
                    <a:pt x="5612" y="65"/>
                  </a:lnTo>
                  <a:lnTo>
                    <a:pt x="5627" y="65"/>
                  </a:lnTo>
                  <a:lnTo>
                    <a:pt x="5644" y="65"/>
                  </a:lnTo>
                  <a:lnTo>
                    <a:pt x="5660" y="65"/>
                  </a:lnTo>
                  <a:lnTo>
                    <a:pt x="5676" y="65"/>
                  </a:lnTo>
                  <a:lnTo>
                    <a:pt x="5693" y="65"/>
                  </a:lnTo>
                  <a:lnTo>
                    <a:pt x="5710" y="65"/>
                  </a:lnTo>
                  <a:lnTo>
                    <a:pt x="5727" y="65"/>
                  </a:lnTo>
                  <a:lnTo>
                    <a:pt x="5744" y="65"/>
                  </a:lnTo>
                  <a:lnTo>
                    <a:pt x="5759" y="65"/>
                  </a:lnTo>
                  <a:lnTo>
                    <a:pt x="5776" y="72"/>
                  </a:lnTo>
                  <a:lnTo>
                    <a:pt x="5793" y="72"/>
                  </a:lnTo>
                  <a:lnTo>
                    <a:pt x="5808" y="72"/>
                  </a:lnTo>
                  <a:lnTo>
                    <a:pt x="5825" y="72"/>
                  </a:lnTo>
                  <a:lnTo>
                    <a:pt x="5866" y="72"/>
                  </a:lnTo>
                  <a:lnTo>
                    <a:pt x="5884" y="80"/>
                  </a:lnTo>
                  <a:lnTo>
                    <a:pt x="5900" y="80"/>
                  </a:lnTo>
                  <a:lnTo>
                    <a:pt x="5916" y="80"/>
                  </a:lnTo>
                  <a:lnTo>
                    <a:pt x="5933" y="80"/>
                  </a:lnTo>
                  <a:lnTo>
                    <a:pt x="5948" y="80"/>
                  </a:lnTo>
                  <a:lnTo>
                    <a:pt x="5965" y="88"/>
                  </a:lnTo>
                  <a:lnTo>
                    <a:pt x="5983" y="88"/>
                  </a:lnTo>
                  <a:lnTo>
                    <a:pt x="5998" y="88"/>
                  </a:lnTo>
                  <a:lnTo>
                    <a:pt x="6016" y="88"/>
                  </a:lnTo>
                  <a:lnTo>
                    <a:pt x="6032" y="95"/>
                  </a:lnTo>
                  <a:lnTo>
                    <a:pt x="6048" y="95"/>
                  </a:lnTo>
                  <a:lnTo>
                    <a:pt x="6081" y="95"/>
                  </a:lnTo>
                  <a:lnTo>
                    <a:pt x="6115" y="95"/>
                  </a:lnTo>
                  <a:lnTo>
                    <a:pt x="6131" y="95"/>
                  </a:lnTo>
                  <a:lnTo>
                    <a:pt x="6147" y="95"/>
                  </a:lnTo>
                  <a:lnTo>
                    <a:pt x="6164" y="95"/>
                  </a:lnTo>
                  <a:lnTo>
                    <a:pt x="6197" y="95"/>
                  </a:lnTo>
                  <a:lnTo>
                    <a:pt x="6239" y="1871"/>
                  </a:lnTo>
                  <a:lnTo>
                    <a:pt x="0" y="1871"/>
                  </a:lnTo>
                  <a:lnTo>
                    <a:pt x="0" y="102"/>
                  </a:lnTo>
                  <a:lnTo>
                    <a:pt x="48" y="5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c3d91"/>
                </a:gs>
              </a:gsLst>
              <a:lin ang="5400000"/>
            </a:gradFill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160" y="4221000"/>
              <a:ext cx="1839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mb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133960" y="4571640"/>
              <a:ext cx="0" cy="19810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859280" y="4502160"/>
              <a:ext cx="620280" cy="368280"/>
              <a:chOff x="4859280" y="4502160"/>
              <a:chExt cx="620280" cy="368280"/>
            </a:xfrm>
          </p:grpSpPr>
          <p:sp>
            <p:nvSpPr>
              <p:cNvPr id="188" name=""/>
              <p:cNvSpPr/>
              <p:nvPr/>
            </p:nvSpPr>
            <p:spPr>
              <a:xfrm>
                <a:off x="4999680" y="4502160"/>
                <a:ext cx="58320" cy="3682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0080" y="4502160"/>
                <a:ext cx="58680" cy="3682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80840" y="4502160"/>
                <a:ext cx="58320" cy="3682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21240" y="4502160"/>
                <a:ext cx="58320" cy="3682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59280" y="4502160"/>
                <a:ext cx="58320" cy="368280"/>
              </a:xfrm>
              <a:prstGeom prst="rect">
                <a:avLst/>
              </a:prstGeom>
              <a:solidFill>
                <a:srgbClr val="ff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938760" y="5715000"/>
              <a:ext cx="0" cy="68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572000" y="640044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38760" y="5715000"/>
              <a:ext cx="633240" cy="68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4371480" y="5727600"/>
              <a:ext cx="258840" cy="279360"/>
            </a:xfrm>
            <a:prstGeom prst="rtTriangle">
              <a:avLst/>
            </a:prstGeom>
            <a:solidFill>
              <a:srgbClr val="ffff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2040" y="5257800"/>
              <a:ext cx="386892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9720" y="44956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9720" y="4876920"/>
              <a:ext cx="56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713120" y="4647960"/>
              <a:ext cx="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24360" y="571500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24360" y="5715000"/>
              <a:ext cx="56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7760" y="571500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44956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390400" y="4876920"/>
              <a:ext cx="126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390760" y="4647960"/>
              <a:ext cx="0" cy="228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56240" y="4495680"/>
              <a:ext cx="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56240" y="4876920"/>
              <a:ext cx="56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56240" y="5715000"/>
              <a:ext cx="0" cy="533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6240" y="5715000"/>
              <a:ext cx="56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73360" y="5715000"/>
              <a:ext cx="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461680" y="5715000"/>
              <a:ext cx="211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743360" y="4545000"/>
              <a:ext cx="79560" cy="439920"/>
              <a:chOff x="4743360" y="4545000"/>
              <a:chExt cx="79560" cy="439920"/>
            </a:xfrm>
          </p:grpSpPr>
          <p:sp>
            <p:nvSpPr>
              <p:cNvPr id="214" name=""/>
              <p:cNvSpPr/>
              <p:nvPr/>
            </p:nvSpPr>
            <p:spPr>
              <a:xfrm>
                <a:off x="4782960" y="4737240"/>
                <a:ext cx="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43360" y="4643280"/>
                <a:ext cx="79560" cy="87480"/>
              </a:xfrm>
              <a:prstGeom prst="ellipse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43360" y="4545000"/>
                <a:ext cx="79560" cy="85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446800" y="5383080"/>
              <a:ext cx="79200" cy="439920"/>
              <a:chOff x="5446800" y="5383080"/>
              <a:chExt cx="79200" cy="439920"/>
            </a:xfrm>
          </p:grpSpPr>
          <p:sp>
            <p:nvSpPr>
              <p:cNvPr id="218" name=""/>
              <p:cNvSpPr/>
              <p:nvPr/>
            </p:nvSpPr>
            <p:spPr>
              <a:xfrm>
                <a:off x="5486400" y="5575320"/>
                <a:ext cx="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46800" y="5481720"/>
                <a:ext cx="79200" cy="871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46800" y="5383080"/>
                <a:ext cx="79200" cy="856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619520" y="6205680"/>
              <a:ext cx="185760" cy="473040"/>
              <a:chOff x="4619520" y="6205680"/>
              <a:chExt cx="185760" cy="473040"/>
            </a:xfrm>
          </p:grpSpPr>
          <p:sp>
            <p:nvSpPr>
              <p:cNvPr id="222" name=""/>
              <p:cNvSpPr/>
              <p:nvPr/>
            </p:nvSpPr>
            <p:spPr>
              <a:xfrm>
                <a:off x="4619520" y="6205680"/>
                <a:ext cx="185760" cy="199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12400" y="6411960"/>
                <a:ext cx="0" cy="266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63440" y="6253200"/>
                <a:ext cx="99000" cy="106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916440" y="4376880"/>
              <a:ext cx="185760" cy="473040"/>
              <a:chOff x="3916440" y="4376880"/>
              <a:chExt cx="185760" cy="473040"/>
            </a:xfrm>
          </p:grpSpPr>
          <p:sp>
            <p:nvSpPr>
              <p:cNvPr id="226" name=""/>
              <p:cNvSpPr/>
              <p:nvPr/>
            </p:nvSpPr>
            <p:spPr>
              <a:xfrm>
                <a:off x="3916440" y="4376880"/>
                <a:ext cx="185760" cy="199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09320" y="4583160"/>
                <a:ext cx="0" cy="266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60360" y="4424400"/>
                <a:ext cx="98640" cy="106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013080" y="4586400"/>
              <a:ext cx="144360" cy="280800"/>
              <a:chOff x="6013080" y="4586400"/>
              <a:chExt cx="144360" cy="280800"/>
            </a:xfrm>
          </p:grpSpPr>
          <p:sp>
            <p:nvSpPr>
              <p:cNvPr id="230" name=""/>
              <p:cNvSpPr/>
              <p:nvPr/>
            </p:nvSpPr>
            <p:spPr>
              <a:xfrm>
                <a:off x="6069240" y="4586400"/>
                <a:ext cx="8244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108840" y="4651200"/>
                <a:ext cx="0" cy="3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013080" y="4651200"/>
                <a:ext cx="95400" cy="3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08840" y="4687920"/>
                <a:ext cx="48600" cy="7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08840" y="4687920"/>
                <a:ext cx="0" cy="7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062760" y="4759200"/>
                <a:ext cx="4572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108840" y="4759200"/>
                <a:ext cx="486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444560" y="4510080"/>
              <a:ext cx="194040" cy="281160"/>
              <a:chOff x="4444560" y="4510080"/>
              <a:chExt cx="194040" cy="2811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00360" y="4510080"/>
                <a:ext cx="8208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41760" y="4575240"/>
                <a:ext cx="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444560" y="4611600"/>
                <a:ext cx="9684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41760" y="4611600"/>
                <a:ext cx="4680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41760" y="46116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494600" y="4683240"/>
                <a:ext cx="468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41760" y="4683240"/>
                <a:ext cx="9684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468160" y="5424480"/>
              <a:ext cx="193680" cy="281160"/>
              <a:chOff x="2468160" y="5424480"/>
              <a:chExt cx="193680" cy="281160"/>
            </a:xfrm>
          </p:grpSpPr>
          <p:sp>
            <p:nvSpPr>
              <p:cNvPr id="246" name=""/>
              <p:cNvSpPr/>
              <p:nvPr/>
            </p:nvSpPr>
            <p:spPr>
              <a:xfrm>
                <a:off x="2524320" y="5424480"/>
                <a:ext cx="8352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8240" y="5489640"/>
                <a:ext cx="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468160" y="5526000"/>
                <a:ext cx="99720" cy="3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68240" y="5526000"/>
                <a:ext cx="9360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68240" y="55260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468160" y="5597640"/>
                <a:ext cx="99720" cy="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68240" y="5597640"/>
                <a:ext cx="4536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157560" y="5424480"/>
              <a:ext cx="137880" cy="281160"/>
              <a:chOff x="3157560" y="5424480"/>
              <a:chExt cx="137880" cy="281160"/>
            </a:xfrm>
          </p:grpSpPr>
          <p:sp>
            <p:nvSpPr>
              <p:cNvPr id="254" name=""/>
              <p:cNvSpPr/>
              <p:nvPr/>
            </p:nvSpPr>
            <p:spPr>
              <a:xfrm>
                <a:off x="3157560" y="5424480"/>
                <a:ext cx="8352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01480" y="5489640"/>
                <a:ext cx="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167280" y="5526000"/>
                <a:ext cx="3348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01480" y="5526000"/>
                <a:ext cx="9396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01480" y="55260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167280" y="5597640"/>
                <a:ext cx="3348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01480" y="5597640"/>
                <a:ext cx="4572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539800" y="4510080"/>
              <a:ext cx="193680" cy="281160"/>
              <a:chOff x="2539800" y="4510080"/>
              <a:chExt cx="193680" cy="281160"/>
            </a:xfrm>
          </p:grpSpPr>
          <p:sp>
            <p:nvSpPr>
              <p:cNvPr id="262" name=""/>
              <p:cNvSpPr/>
              <p:nvPr/>
            </p:nvSpPr>
            <p:spPr>
              <a:xfrm>
                <a:off x="2595960" y="4510080"/>
                <a:ext cx="8352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39880" y="4575240"/>
                <a:ext cx="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539800" y="4611600"/>
                <a:ext cx="99720" cy="3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39880" y="4611600"/>
                <a:ext cx="9360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39880" y="46116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539800" y="4683240"/>
                <a:ext cx="99720" cy="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39880" y="4683240"/>
                <a:ext cx="4536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3389040" y="4510080"/>
              <a:ext cx="194040" cy="281160"/>
              <a:chOff x="3389040" y="4510080"/>
              <a:chExt cx="194040" cy="281160"/>
            </a:xfrm>
          </p:grpSpPr>
          <p:sp>
            <p:nvSpPr>
              <p:cNvPr id="270" name=""/>
              <p:cNvSpPr/>
              <p:nvPr/>
            </p:nvSpPr>
            <p:spPr>
              <a:xfrm>
                <a:off x="3444840" y="4510080"/>
                <a:ext cx="82080" cy="5868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86240" y="4575240"/>
                <a:ext cx="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89040" y="4611600"/>
                <a:ext cx="9684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3486240" y="4574880"/>
                <a:ext cx="96840" cy="36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86240" y="4611600"/>
                <a:ext cx="0" cy="7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439080" y="4683240"/>
                <a:ext cx="468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86240" y="4683240"/>
                <a:ext cx="30600" cy="10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632560" y="5111640"/>
              <a:ext cx="339480" cy="637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32560" y="5264280"/>
              <a:ext cx="339480" cy="633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2560" y="5416560"/>
              <a:ext cx="339480" cy="633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2560" y="5568840"/>
              <a:ext cx="339480" cy="6372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560" y="4959360"/>
              <a:ext cx="339480" cy="633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673600" y="5748480"/>
              <a:ext cx="126720" cy="241200"/>
              <a:chOff x="5673600" y="5748480"/>
              <a:chExt cx="126720" cy="241200"/>
            </a:xfrm>
          </p:grpSpPr>
          <p:sp>
            <p:nvSpPr>
              <p:cNvPr id="283" name=""/>
              <p:cNvSpPr/>
              <p:nvPr/>
            </p:nvSpPr>
            <p:spPr>
              <a:xfrm>
                <a:off x="5723640" y="5748480"/>
                <a:ext cx="70560" cy="5076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57840" y="5805360"/>
                <a:ext cx="0" cy="3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673600" y="5805360"/>
                <a:ext cx="84240" cy="3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57840" y="5835600"/>
                <a:ext cx="4248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57840" y="5835600"/>
                <a:ext cx="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717880" y="5896080"/>
                <a:ext cx="39600" cy="9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57840" y="5896080"/>
                <a:ext cx="42480" cy="9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799240" y="5748480"/>
              <a:ext cx="164520" cy="241200"/>
              <a:chOff x="5799240" y="5748480"/>
              <a:chExt cx="164520" cy="241200"/>
            </a:xfrm>
          </p:grpSpPr>
          <p:sp>
            <p:nvSpPr>
              <p:cNvPr id="291" name=""/>
              <p:cNvSpPr/>
              <p:nvPr/>
            </p:nvSpPr>
            <p:spPr>
              <a:xfrm>
                <a:off x="5847480" y="5748480"/>
                <a:ext cx="69480" cy="50760"/>
              </a:xfrm>
              <a:prstGeom prst="ellipse">
                <a:avLst/>
              </a:prstGeom>
              <a:solidFill>
                <a:srgbClr val="9966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80600" y="5805360"/>
                <a:ext cx="0" cy="3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799240" y="5835600"/>
                <a:ext cx="8136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80600" y="5835600"/>
                <a:ext cx="4212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80600" y="5835600"/>
                <a:ext cx="0" cy="60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841000" y="5896080"/>
                <a:ext cx="39240" cy="9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80600" y="5896080"/>
                <a:ext cx="83160" cy="93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172040" y="5316120"/>
              <a:ext cx="519840" cy="339840"/>
              <a:chOff x="4172040" y="5316120"/>
              <a:chExt cx="519840" cy="339840"/>
            </a:xfrm>
          </p:grpSpPr>
          <p:sp>
            <p:nvSpPr>
              <p:cNvPr id="299" name=""/>
              <p:cNvSpPr/>
              <p:nvPr/>
            </p:nvSpPr>
            <p:spPr>
              <a:xfrm>
                <a:off x="4176360" y="5435640"/>
                <a:ext cx="196200" cy="100080"/>
              </a:xfrm>
              <a:prstGeom prst="rect">
                <a:avLst/>
              </a:prstGeom>
              <a:solidFill>
                <a:srgbClr val="d6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28920" y="5492880"/>
                <a:ext cx="9216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78680" y="5541840"/>
                <a:ext cx="15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41400" y="5492880"/>
                <a:ext cx="92160" cy="9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39680" y="5541840"/>
                <a:ext cx="5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378680" y="5316120"/>
                <a:ext cx="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3520" y="5316480"/>
                <a:ext cx="208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72040" y="5318280"/>
                <a:ext cx="10476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031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0318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90000" y="5430960"/>
                <a:ext cx="10188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96" y="4"/>
                    </a:moveTo>
                    <a:arcTo wR="10800" hR="10800" stAng="-5496812" swAng="54968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96" y="4"/>
                    </a:moveTo>
                    <a:arcTo wR="10800" hR="10800" stAng="-5496812" swAng="549681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35640" y="5429160"/>
                <a:ext cx="10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27920" y="5318280"/>
                <a:ext cx="20736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8680" y="5429160"/>
                <a:ext cx="15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862600" y="4925520"/>
              <a:ext cx="514080" cy="276840"/>
              <a:chOff x="5862600" y="4925520"/>
              <a:chExt cx="514080" cy="27684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5960880" y="4925520"/>
                <a:ext cx="10368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168960" y="4925520"/>
                <a:ext cx="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064920" y="4925880"/>
                <a:ext cx="259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6324120" y="4925520"/>
                <a:ext cx="52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2600" y="5045040"/>
                <a:ext cx="508320" cy="100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25840" y="5102280"/>
                <a:ext cx="9216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14080" y="5102280"/>
                <a:ext cx="9180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473280" y="5306760"/>
              <a:ext cx="514440" cy="276480"/>
              <a:chOff x="3473280" y="5306760"/>
              <a:chExt cx="514440" cy="276480"/>
            </a:xfrm>
          </p:grpSpPr>
          <p:sp>
            <p:nvSpPr>
              <p:cNvPr id="320" name=""/>
              <p:cNvSpPr/>
              <p:nvPr/>
            </p:nvSpPr>
            <p:spPr>
              <a:xfrm>
                <a:off x="3779640" y="5532480"/>
                <a:ext cx="5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37960" y="5483160"/>
                <a:ext cx="9216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36240" y="5532480"/>
                <a:ext cx="5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987720" y="5419440"/>
                <a:ext cx="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3883680" y="5419800"/>
                <a:ext cx="103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3779640" y="5306760"/>
                <a:ext cx="10368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79640" y="5419800"/>
                <a:ext cx="103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73280" y="5313240"/>
                <a:ext cx="300240" cy="21276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25840" y="5483160"/>
                <a:ext cx="92160" cy="100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5105520" y="2438280"/>
            <a:ext cx="3082680" cy="1905120"/>
            <a:chOff x="5105520" y="2438280"/>
            <a:chExt cx="3082680" cy="1905120"/>
          </a:xfrm>
        </p:grpSpPr>
        <p:sp>
          <p:nvSpPr>
            <p:cNvPr id="330" name=""/>
            <p:cNvSpPr/>
            <p:nvPr/>
          </p:nvSpPr>
          <p:spPr>
            <a:xfrm>
              <a:off x="6611760" y="243828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105520" y="2819520"/>
              <a:ext cx="3082680" cy="1523880"/>
              <a:chOff x="5105520" y="2819520"/>
              <a:chExt cx="3082680" cy="152388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105520" y="2819520"/>
                <a:ext cx="3082680" cy="755640"/>
                <a:chOff x="5105520" y="2819520"/>
                <a:chExt cx="3082680" cy="755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105520" y="2825640"/>
                  <a:ext cx="3082680" cy="749520"/>
                </a:xfrm>
                <a:prstGeom prst="rect">
                  <a:avLst/>
                </a:prstGeom>
                <a:solidFill>
                  <a:srgbClr val="9966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149440" y="2819520"/>
                  <a:ext cx="11790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5400" rIns="95400" tIns="47520" bIns="4752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1" i="1" lang="en-US" sz="1700" spc="-1" strike="noStrike">
                      <a:solidFill>
                        <a:srgbClr val="ffffff"/>
                      </a:solidFill>
                      <a:latin typeface="Arial"/>
                    </a:rPr>
                    <a:t>execução</a:t>
                  </a:r>
                  <a:endParaRPr b="0" lang="en-US" sz="17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6723000" y="3148200"/>
                  <a:ext cx="447120" cy="274320"/>
                  <a:chOff x="6723000" y="3148200"/>
                  <a:chExt cx="447120" cy="274320"/>
                </a:xfrm>
              </p:grpSpPr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7015680" y="3191400"/>
                    <a:ext cx="75240" cy="171720"/>
                    <a:chOff x="7015680" y="3191400"/>
                    <a:chExt cx="75240" cy="1717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015680" y="3192480"/>
                      <a:ext cx="7524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393" y="8"/>
                          </a:moveTo>
                          <a:arcTo wR="10800" hR="10800" stAng="-5529665" swAng="552966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393" y="8"/>
                          </a:moveTo>
                          <a:arcTo wR="10800" hR="10800" stAng="-5529665" swAng="5529665"/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7015680" y="3191400"/>
                      <a:ext cx="75240" cy="1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52966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529665"/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7013160" y="3148200"/>
                    <a:ext cx="156960" cy="258120"/>
                    <a:chOff x="7013160" y="3148200"/>
                    <a:chExt cx="156960" cy="258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7013160" y="3149640"/>
                      <a:ext cx="15696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598" y="2"/>
                          </a:moveTo>
                          <a:arcTo wR="10800" hR="10800" stAng="-5464250" swAng="5464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598" y="2"/>
                          </a:moveTo>
                          <a:arcTo wR="10800" hR="10800" stAng="-5464250" swAng="5464250"/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7013160" y="3148200"/>
                      <a:ext cx="15696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64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64250"/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6723000" y="3282840"/>
                    <a:ext cx="268560" cy="139680"/>
                    <a:chOff x="6723000" y="3282840"/>
                    <a:chExt cx="268560" cy="139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6723000" y="3282840"/>
                      <a:ext cx="198720" cy="63720"/>
                    </a:xfrm>
                    <a:prstGeom prst="rect">
                      <a:avLst/>
                    </a:prstGeom>
                    <a:solidFill>
                      <a:srgbClr val="d60093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920" bIns="16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6793200" y="3282840"/>
                      <a:ext cx="198360" cy="139680"/>
                    </a:xfrm>
                    <a:prstGeom prst="ellipse">
                      <a:avLst/>
                    </a:prstGeom>
                    <a:solidFill>
                      <a:srgbClr val="d60093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265800" y="3092400"/>
                  <a:ext cx="198360" cy="368280"/>
                  <a:chOff x="6265800" y="3092400"/>
                  <a:chExt cx="198360" cy="3682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265800" y="3092400"/>
                    <a:ext cx="198360" cy="36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294600" y="316224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294600" y="323856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294600" y="331488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294600" y="3390840"/>
                    <a:ext cx="140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5634000" y="3106800"/>
                  <a:ext cx="336600" cy="368280"/>
                  <a:chOff x="5634000" y="3106800"/>
                  <a:chExt cx="336600" cy="3682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>
                    <a:off x="5634000" y="3154320"/>
                    <a:ext cx="252720" cy="274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634000" y="3429000"/>
                    <a:ext cx="42120" cy="46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5676120" y="3200040"/>
                    <a:ext cx="251640" cy="2746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5928120" y="3106800"/>
                    <a:ext cx="42480" cy="936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886720" y="3106800"/>
                    <a:ext cx="83520" cy="47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602480" y="3016080"/>
                  <a:ext cx="339840" cy="216000"/>
                  <a:chOff x="7602480" y="3016080"/>
                  <a:chExt cx="339840" cy="21600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602480" y="3054240"/>
                    <a:ext cx="339840" cy="177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a9a9a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707600" y="3092400"/>
                    <a:ext cx="128880" cy="101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a9a9a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602480" y="3016080"/>
                    <a:ext cx="58320" cy="25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9a9a9a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1" name=""/>
              <p:cNvSpPr/>
              <p:nvPr/>
            </p:nvSpPr>
            <p:spPr>
              <a:xfrm>
                <a:off x="6576840" y="3581280"/>
                <a:ext cx="0" cy="762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AECF-3BE0-46A4-B1A2-39AE7331B6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8960" y="693360"/>
            <a:ext cx="303372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mbie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ropriedades de um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acessível x inacessível: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Os sensores detectam tudo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estático x dinâmico: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o ambiente muda constantement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determinístico x não-determinístico: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o próximo estado pode ser determinado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discreto x contínuo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existe um número limitado de percepções e ações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episódico x não-episódico: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experiência dividida em episódios (percepção -&gt; açã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7120" y="1676520"/>
            <a:ext cx="8093520" cy="861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lasses de ambientes: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ísico (robôs), Softw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ftbots)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dade vir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D6BE-04B9-40D8-B316-B2300D4F78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04680" y="636480"/>
            <a:ext cx="5327640" cy="613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Classificação de Agentes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3960" y="14256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Quanto às suas característica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14400" y="3505320"/>
            <a:ext cx="3341520" cy="1395360"/>
            <a:chOff x="914400" y="3505320"/>
            <a:chExt cx="3341520" cy="1395360"/>
          </a:xfrm>
        </p:grpSpPr>
        <p:sp>
          <p:nvSpPr>
            <p:cNvPr id="368" name=""/>
            <p:cNvSpPr/>
            <p:nvPr/>
          </p:nvSpPr>
          <p:spPr>
            <a:xfrm>
              <a:off x="914400" y="3505320"/>
              <a:ext cx="3341520" cy="1395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71600" y="3962520"/>
              <a:ext cx="17049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peraçã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473280" y="3581280"/>
            <a:ext cx="2927520" cy="1319400"/>
            <a:chOff x="3473280" y="3581280"/>
            <a:chExt cx="2927520" cy="1319400"/>
          </a:xfrm>
        </p:grpSpPr>
        <p:sp>
          <p:nvSpPr>
            <p:cNvPr id="371" name=""/>
            <p:cNvSpPr/>
            <p:nvPr/>
          </p:nvSpPr>
          <p:spPr>
            <a:xfrm>
              <a:off x="3473280" y="3581280"/>
              <a:ext cx="2927520" cy="131940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67080" y="3886200"/>
              <a:ext cx="19814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rendiz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90920" y="4267080"/>
            <a:ext cx="2666880" cy="1524240"/>
            <a:chOff x="2590920" y="4267080"/>
            <a:chExt cx="2666880" cy="1524240"/>
          </a:xfrm>
        </p:grpSpPr>
        <p:sp>
          <p:nvSpPr>
            <p:cNvPr id="374" name=""/>
            <p:cNvSpPr/>
            <p:nvPr/>
          </p:nvSpPr>
          <p:spPr>
            <a:xfrm>
              <a:off x="2590920" y="4267080"/>
              <a:ext cx="2666880" cy="152424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8120" y="4952880"/>
              <a:ext cx="1622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nom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886200" y="2057400"/>
            <a:ext cx="4267080" cy="1978200"/>
            <a:chOff x="3886200" y="2057400"/>
            <a:chExt cx="4267080" cy="1978200"/>
          </a:xfrm>
        </p:grpSpPr>
        <p:sp>
          <p:nvSpPr>
            <p:cNvPr id="377" name=""/>
            <p:cNvSpPr/>
            <p:nvPr/>
          </p:nvSpPr>
          <p:spPr>
            <a:xfrm>
              <a:off x="5410080" y="2057400"/>
              <a:ext cx="27432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gentes colaborativos- aprendiza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886200" y="2819520"/>
              <a:ext cx="136836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80880" y="2057400"/>
            <a:ext cx="3355920" cy="2438280"/>
            <a:chOff x="380880" y="2057400"/>
            <a:chExt cx="3355920" cy="2438280"/>
          </a:xfrm>
        </p:grpSpPr>
        <p:sp>
          <p:nvSpPr>
            <p:cNvPr id="380" name=""/>
            <p:cNvSpPr/>
            <p:nvPr/>
          </p:nvSpPr>
          <p:spPr>
            <a:xfrm>
              <a:off x="380880" y="2057400"/>
              <a:ext cx="239256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gentes intelige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2819520"/>
              <a:ext cx="137448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2000" y="4114800"/>
            <a:ext cx="4572000" cy="809640"/>
            <a:chOff x="4572000" y="4114800"/>
            <a:chExt cx="4572000" cy="809640"/>
          </a:xfrm>
        </p:grpSpPr>
        <p:sp>
          <p:nvSpPr>
            <p:cNvPr id="383" name=""/>
            <p:cNvSpPr/>
            <p:nvPr/>
          </p:nvSpPr>
          <p:spPr>
            <a:xfrm>
              <a:off x="6838920" y="4114800"/>
              <a:ext cx="23050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gentes de interfa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2000" y="4648320"/>
              <a:ext cx="2362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28600" y="4647960"/>
            <a:ext cx="3100320" cy="1905120"/>
            <a:chOff x="228600" y="4647960"/>
            <a:chExt cx="3100320" cy="1905120"/>
          </a:xfrm>
        </p:grpSpPr>
        <p:sp>
          <p:nvSpPr>
            <p:cNvPr id="386" name=""/>
            <p:cNvSpPr/>
            <p:nvPr/>
          </p:nvSpPr>
          <p:spPr>
            <a:xfrm>
              <a:off x="228600" y="5334120"/>
              <a:ext cx="231444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ff"/>
                  </a:solidFill>
                  <a:latin typeface="Times New Roman"/>
                </a:rPr>
                <a:t>Agentes colaborativ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057400" y="4647960"/>
              <a:ext cx="1271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09A8-E425-4A1F-A525-7CC01D34778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5065560" cy="613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gente tabel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3809520"/>
            <a:ext cx="80884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imitaçõ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2212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mo Problemas simples -&gt; tabelas muito gr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2212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 sempre é possível, por ignorância ou questão de tempo, construir a tabe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2212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há autonomia nem flex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mb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2212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essível, determinista, episódico, estático, discreto e muito peque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85800" y="838080"/>
            <a:ext cx="7648920" cy="2598840"/>
            <a:chOff x="685800" y="838080"/>
            <a:chExt cx="7648920" cy="2598840"/>
          </a:xfrm>
        </p:grpSpPr>
        <p:grpSp>
          <p:nvGrpSpPr>
            <p:cNvPr id="391" name=""/>
            <p:cNvGrpSpPr/>
            <p:nvPr/>
          </p:nvGrpSpPr>
          <p:grpSpPr>
            <a:xfrm>
              <a:off x="685800" y="838080"/>
              <a:ext cx="7648920" cy="2598840"/>
              <a:chOff x="685800" y="838080"/>
              <a:chExt cx="7648920" cy="2598840"/>
            </a:xfrm>
          </p:grpSpPr>
          <p:sp>
            <p:nvSpPr>
              <p:cNvPr id="392" name=""/>
              <p:cNvSpPr/>
              <p:nvPr/>
            </p:nvSpPr>
            <p:spPr>
              <a:xfrm>
                <a:off x="685800" y="838080"/>
                <a:ext cx="1465200" cy="2598840"/>
              </a:xfrm>
              <a:custGeom>
                <a:avLst/>
                <a:gdLst>
                  <a:gd name="textAreaLeft" fmla="*/ 53280 w 1465200"/>
                  <a:gd name="textAreaRight" fmla="*/ 1411920 w 1465200"/>
                  <a:gd name="textAreaTop" fmla="*/ 53280 h 2598840"/>
                  <a:gd name="textAreaBottom" fmla="*/ 2545560 h 2598840"/>
                </a:gdLst>
                <a:ahLst/>
                <a:rect l="textAreaLeft" t="textAreaTop" r="textAreaRight" b="textAreaBottom"/>
                <a:pathLst>
                  <a:path w="21600" h="38308">
                    <a:moveTo>
                      <a:pt x="2699" y="0"/>
                    </a:moveTo>
                    <a:arcTo wR="2699" hR="2699" stAng="16200000" swAng="-5400000"/>
                    <a:lnTo>
                      <a:pt x="0" y="35609"/>
                    </a:lnTo>
                    <a:arcTo wR="2699" hR="2699" stAng="10800000" swAng="-5400000"/>
                    <a:lnTo>
                      <a:pt x="18901" y="38308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4760" y="1797120"/>
                <a:ext cx="15231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mbi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14600" y="838080"/>
                <a:ext cx="5684760" cy="25988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805040" y="3048120"/>
                <a:ext cx="1125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16000" y="1149480"/>
                <a:ext cx="105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057120" y="927000"/>
                <a:ext cx="152172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ensor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986560" y="2825640"/>
                <a:ext cx="191160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fetuador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21120" y="1523880"/>
                <a:ext cx="2631960" cy="120168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44800" y="1463760"/>
                <a:ext cx="9090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bel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92800" y="1782720"/>
                <a:ext cx="0" cy="94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200" y="1781280"/>
                <a:ext cx="260676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619280"/>
                    <a:tab algn="l" pos="180972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rcepções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çõ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380880">
                  <a:lnSpc>
                    <a:spcPct val="90000"/>
                  </a:lnSpc>
                  <a:tabLst>
                    <a:tab algn="l" pos="0"/>
                    <a:tab algn="l" pos="1619280"/>
                    <a:tab algn="l" pos="180972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380880">
                  <a:lnSpc>
                    <a:spcPct val="90000"/>
                  </a:lnSpc>
                  <a:tabLst>
                    <a:tab algn="l" pos="0"/>
                    <a:tab algn="l" pos="1619280"/>
                    <a:tab algn="l" pos="180972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84480" y="1228680"/>
                <a:ext cx="352440" cy="63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689360" y="2336760"/>
                <a:ext cx="112392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51680" y="844560"/>
                <a:ext cx="21830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Agente tabe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962520" y="18288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BCF1-53E7-4AA6-9873-AFEFA518C5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5533920" cy="1131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gente reativo ou reflexiv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3733560"/>
            <a:ext cx="803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Vantagens e desvant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gras condição-ação: representação inteligível, modular e efi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poder armazenar uma sequência percep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66"/>
                </a:solidFill>
                <a:latin typeface="Arial"/>
              </a:rPr>
              <a:t>Ambient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Arial"/>
              </a:rPr>
              <a:t>Acessível, episódico, pequen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533520"/>
            <a:ext cx="8146440" cy="2923920"/>
            <a:chOff x="533520" y="533520"/>
            <a:chExt cx="8146440" cy="2923920"/>
          </a:xfrm>
        </p:grpSpPr>
        <p:sp>
          <p:nvSpPr>
            <p:cNvPr id="410" name=""/>
            <p:cNvSpPr/>
            <p:nvPr/>
          </p:nvSpPr>
          <p:spPr>
            <a:xfrm>
              <a:off x="2573280" y="792000"/>
              <a:ext cx="6106680" cy="2665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1582560" y="3079440"/>
              <a:ext cx="1476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82560" y="1101600"/>
              <a:ext cx="154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09320" y="949320"/>
              <a:ext cx="130356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8240" y="2930400"/>
              <a:ext cx="162972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3520" y="792000"/>
              <a:ext cx="1325160" cy="2598840"/>
            </a:xfrm>
            <a:custGeom>
              <a:avLst/>
              <a:gdLst>
                <a:gd name="textAreaLeft" fmla="*/ 48240 w 1325160"/>
                <a:gd name="textAreaRight" fmla="*/ 1276920 w 1325160"/>
                <a:gd name="textAreaTop" fmla="*/ 48240 h 2598840"/>
                <a:gd name="textAreaBottom" fmla="*/ 2550600 h 2598840"/>
              </a:gdLst>
              <a:ahLst/>
              <a:rect l="textAreaLeft" t="textAreaTop" r="textAreaRight" b="textAreaBottom"/>
              <a:pathLst>
                <a:path w="21600" h="42355">
                  <a:moveTo>
                    <a:pt x="2699" y="0"/>
                  </a:moveTo>
                  <a:arcTo wR="2699" hR="2699" stAng="16200000" swAng="-5400000"/>
                  <a:lnTo>
                    <a:pt x="0" y="39656"/>
                  </a:lnTo>
                  <a:arcTo wR="2699" hR="2699" stAng="10800000" swAng="-5400000"/>
                  <a:lnTo>
                    <a:pt x="18901" y="4235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533520"/>
              <a:ext cx="1049040" cy="366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91000" y="1552680"/>
              <a:ext cx="354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o está o mundo agor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18640" y="2265480"/>
              <a:ext cx="326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e ação devo escolher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22320" y="1260360"/>
              <a:ext cx="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22320" y="1892160"/>
              <a:ext cx="0" cy="39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22320" y="2604960"/>
              <a:ext cx="0" cy="31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54560" y="2473200"/>
              <a:ext cx="42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6200000">
              <a:off x="39240" y="1851120"/>
              <a:ext cx="243900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11760" y="2016000"/>
              <a:ext cx="1904760" cy="9154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85800" y="5791320"/>
            <a:ext cx="7543800" cy="825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 encontrar a placa de trânsito “virar à direita” então devo ligar o pisca-pisca de direção e dobrar à direita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0438-62F5-455F-BA02-75EC093BA7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613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gente reativo com estado intern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6160" y="1066680"/>
            <a:ext cx="8840160" cy="4046760"/>
            <a:chOff x="146160" y="1066680"/>
            <a:chExt cx="8840160" cy="4046760"/>
          </a:xfrm>
        </p:grpSpPr>
        <p:sp>
          <p:nvSpPr>
            <p:cNvPr id="428" name=""/>
            <p:cNvSpPr/>
            <p:nvPr/>
          </p:nvSpPr>
          <p:spPr>
            <a:xfrm>
              <a:off x="1131840" y="1239840"/>
              <a:ext cx="7794720" cy="3873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44560" y="4815000"/>
              <a:ext cx="77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3920" y="1614600"/>
              <a:ext cx="76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7160" y="1452600"/>
              <a:ext cx="130356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6160" y="1239840"/>
              <a:ext cx="691920" cy="3797280"/>
            </a:xfrm>
            <a:custGeom>
              <a:avLst/>
              <a:gdLst>
                <a:gd name="textAreaLeft" fmla="*/ 25200 w 691920"/>
                <a:gd name="textAreaRight" fmla="*/ 666720 w 691920"/>
                <a:gd name="textAreaTop" fmla="*/ 25200 h 3797280"/>
                <a:gd name="textAreaBottom" fmla="*/ 3772080 h 3797280"/>
              </a:gdLst>
              <a:ahLst/>
              <a:rect l="textAreaLeft" t="textAreaTop" r="textAreaRight" b="textAreaBottom"/>
              <a:pathLst>
                <a:path w="21600" h="118491">
                  <a:moveTo>
                    <a:pt x="2699" y="0"/>
                  </a:moveTo>
                  <a:arcTo wR="2699" hR="2699" stAng="16200000" swAng="-5400000"/>
                  <a:lnTo>
                    <a:pt x="0" y="115792"/>
                  </a:lnTo>
                  <a:arcTo wR="2699" hR="2699" stAng="10800000" swAng="-5400000"/>
                  <a:lnTo>
                    <a:pt x="18901" y="11849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45440" y="1066680"/>
              <a:ext cx="1049040" cy="366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60920" y="2147760"/>
              <a:ext cx="334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o mundo está agor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01920" y="1849320"/>
              <a:ext cx="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0480" y="1919160"/>
              <a:ext cx="81468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84440" y="3759120"/>
              <a:ext cx="2224440" cy="64116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gra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ção-ação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3080" y="1708200"/>
              <a:ext cx="39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estado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: como o mundo era 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67720" y="2235240"/>
              <a:ext cx="2605320" cy="3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o mundo evolu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886200" y="4038480"/>
              <a:ext cx="23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354200" y="2452680"/>
              <a:ext cx="85068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290840" y="2376360"/>
              <a:ext cx="84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84440" y="4649760"/>
              <a:ext cx="162972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0000" y="3886200"/>
              <a:ext cx="2280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ue devo fazer ?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-371520" y="3125880"/>
              <a:ext cx="179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62320" y="426708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2320" y="259092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5800" y="2803680"/>
              <a:ext cx="3072960" cy="3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mpacto de minhas açõ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8088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esvantagem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alta autonomia (não tem obje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Ambientes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terministico e pequ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x.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amagotchi, motorista mudando de f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0E46-F796-459D-9E39-AF3C3ECBD1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507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Estrutura da Apresent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s que exigem uma solução inovad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que são Agentes Inteli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riedades d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es d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os d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projetar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es x programas x obj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s Multiag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unicação e cooperação entr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licações d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zões para utilização de ag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84A2-E1A0-498C-9B51-FDEAD6EEA361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372000" cy="613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Agente cognitivo (goal-based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4876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s complicado e ineficiente porém mais flexível, autôn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trata objetivos confli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mbientes: “determinístic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46160" y="685800"/>
            <a:ext cx="8840160" cy="4046400"/>
            <a:chOff x="146160" y="685800"/>
            <a:chExt cx="8840160" cy="4046400"/>
          </a:xfrm>
        </p:grpSpPr>
        <p:sp>
          <p:nvSpPr>
            <p:cNvPr id="453" name=""/>
            <p:cNvSpPr/>
            <p:nvPr/>
          </p:nvSpPr>
          <p:spPr>
            <a:xfrm>
              <a:off x="1131840" y="858960"/>
              <a:ext cx="7794720" cy="3873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44560" y="4433760"/>
              <a:ext cx="77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3920" y="1233360"/>
              <a:ext cx="763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57160" y="1071720"/>
              <a:ext cx="130356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6160" y="858960"/>
              <a:ext cx="691920" cy="3797280"/>
            </a:xfrm>
            <a:custGeom>
              <a:avLst/>
              <a:gdLst>
                <a:gd name="textAreaLeft" fmla="*/ 25200 w 691920"/>
                <a:gd name="textAreaRight" fmla="*/ 666720 w 691920"/>
                <a:gd name="textAreaTop" fmla="*/ 25200 h 3797280"/>
                <a:gd name="textAreaBottom" fmla="*/ 3772080 h 3797280"/>
              </a:gdLst>
              <a:ahLst/>
              <a:rect l="textAreaLeft" t="textAreaTop" r="textAreaRight" b="textAreaBottom"/>
              <a:pathLst>
                <a:path w="21600" h="118491">
                  <a:moveTo>
                    <a:pt x="2699" y="0"/>
                  </a:moveTo>
                  <a:arcTo wR="2699" hR="2699" stAng="16200000" swAng="-5400000"/>
                  <a:lnTo>
                    <a:pt x="0" y="115792"/>
                  </a:lnTo>
                  <a:arcTo wR="2699" hR="2699" stAng="10800000" swAng="-5400000"/>
                  <a:lnTo>
                    <a:pt x="18901" y="11849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45440" y="685800"/>
              <a:ext cx="1049040" cy="366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60920" y="1801800"/>
              <a:ext cx="334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está o mundo agor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01920" y="1392120"/>
              <a:ext cx="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343400" y="1523880"/>
              <a:ext cx="8143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71200" y="3454560"/>
              <a:ext cx="134496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86400" y="1828800"/>
              <a:ext cx="2682720" cy="3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o mundo evolu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3959280" y="3672000"/>
              <a:ext cx="2300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95680" y="2133360"/>
              <a:ext cx="85104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647960" y="1981080"/>
              <a:ext cx="842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84440" y="4268880"/>
              <a:ext cx="1629720" cy="3668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60000" y="3505320"/>
              <a:ext cx="2492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 que devo fazer ?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-648720" y="2768760"/>
              <a:ext cx="243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2590920"/>
              <a:ext cx="3197160" cy="3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mpacto de minhas açõ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37240" y="2666880"/>
              <a:ext cx="3467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ele ficará se faço isto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572000" y="2819520"/>
              <a:ext cx="7747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048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23080" y="1251000"/>
              <a:ext cx="39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estado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: como o mundo era 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38098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2320" y="21337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6019920"/>
            <a:ext cx="8550000" cy="703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 encontrar uma estrada de junção, um taxista pode seguir adiante, virar à esquerda ou à direita. Qual é o objetivo do passageiro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8007-A294-4D05-A42C-5DF96F37F2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33400" y="155160"/>
            <a:ext cx="6577200" cy="1087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Agente otimizador (utility based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iam-se nos objetivos + utilidade do est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ente: sem restri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vantagem: não  tem adaptabil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72960" y="1143000"/>
            <a:ext cx="8778600" cy="3651120"/>
            <a:chOff x="372960" y="1143000"/>
            <a:chExt cx="8778600" cy="3651120"/>
          </a:xfrm>
        </p:grpSpPr>
        <p:sp>
          <p:nvSpPr>
            <p:cNvPr id="481" name=""/>
            <p:cNvSpPr/>
            <p:nvPr/>
          </p:nvSpPr>
          <p:spPr>
            <a:xfrm>
              <a:off x="372960" y="1442880"/>
              <a:ext cx="1157400" cy="3351240"/>
            </a:xfrm>
            <a:custGeom>
              <a:avLst/>
              <a:gdLst>
                <a:gd name="textAreaLeft" fmla="*/ 42120 w 1157400"/>
                <a:gd name="textAreaRight" fmla="*/ 1115280 w 1157400"/>
                <a:gd name="textAreaTop" fmla="*/ 42120 h 3351240"/>
                <a:gd name="textAreaBottom" fmla="*/ 3309120 h 3351240"/>
              </a:gdLst>
              <a:ahLst/>
              <a:rect l="textAreaLeft" t="textAreaTop" r="textAreaRight" b="textAreaBottom"/>
              <a:pathLst>
                <a:path w="21600" h="62530">
                  <a:moveTo>
                    <a:pt x="2699" y="0"/>
                  </a:moveTo>
                  <a:arcTo wR="2699" hR="2699" stAng="16200000" swAng="-5400000"/>
                  <a:lnTo>
                    <a:pt x="0" y="59831"/>
                  </a:lnTo>
                  <a:arcTo wR="2699" hR="2699" stAng="10800000" swAng="-5400000"/>
                  <a:lnTo>
                    <a:pt x="18901" y="6253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-280800" y="2793960"/>
              <a:ext cx="2409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89200" y="1442880"/>
              <a:ext cx="7232400" cy="335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312560" y="4568760"/>
              <a:ext cx="1166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90600" y="1752480"/>
              <a:ext cx="133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18280" y="1590840"/>
              <a:ext cx="1186200" cy="339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43400" y="4406760"/>
              <a:ext cx="1478880" cy="339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70400" y="1143000"/>
              <a:ext cx="3641760" cy="6411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gente guiado pela utilida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06760" y="2203560"/>
              <a:ext cx="3341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está o mundo agor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82640" y="3754440"/>
              <a:ext cx="3159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Que ação devo escolher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8480" y="1911240"/>
              <a:ext cx="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38480" y="4094280"/>
              <a:ext cx="0" cy="31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47840" y="1905120"/>
              <a:ext cx="42228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095520" y="3932280"/>
              <a:ext cx="2359800" cy="339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nção de Utilida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46280" y="2982960"/>
              <a:ext cx="2385720" cy="5857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 é o impacto d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has açõ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69440" y="2317680"/>
              <a:ext cx="2551680" cy="339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o o mundo evolu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4965840" y="3352320"/>
              <a:ext cx="11080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5106960" y="2971440"/>
              <a:ext cx="96696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4895640" y="2361960"/>
              <a:ext cx="96660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19400" y="25146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5000" y="3220920"/>
              <a:ext cx="336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e novo mundo é melhor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38480" y="3560760"/>
              <a:ext cx="0" cy="31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83360" y="2763720"/>
              <a:ext cx="3467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mo ele ficará se faço isto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089320" y="2514600"/>
              <a:ext cx="7729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19400" y="30481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8320" y="1693800"/>
              <a:ext cx="39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estado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: como o mundo era 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4878000" y="2437920"/>
              <a:ext cx="126540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8114-F52A-4449-85A5-AE125CBAE50F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628720" y="187200"/>
            <a:ext cx="4593960" cy="1234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Narrow"/>
              </a:rPr>
              <a:t>Agente que aprend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1243080" y="1225440"/>
            <a:ext cx="7121520" cy="387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83720" y="4645080"/>
            <a:ext cx="1125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3560" y="1676520"/>
            <a:ext cx="1285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35080" y="1514520"/>
            <a:ext cx="1309680" cy="376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65240" y="4483080"/>
            <a:ext cx="1633680" cy="376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tu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01080" y="976320"/>
            <a:ext cx="1049040" cy="3668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23960" y="3429000"/>
            <a:ext cx="828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62560" y="19051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5640" y="4278240"/>
            <a:ext cx="1620720" cy="654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ador d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75480" y="1535040"/>
            <a:ext cx="944280" cy="366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í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86400" y="2743200"/>
            <a:ext cx="1905120" cy="654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o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532240" y="3429000"/>
            <a:ext cx="295416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3657600" y="3276720"/>
            <a:ext cx="1758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657600" y="2819520"/>
            <a:ext cx="1758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1840" y="1676520"/>
            <a:ext cx="2565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13320" y="2055960"/>
            <a:ext cx="126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li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59680" y="34290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53000" y="3503520"/>
            <a:ext cx="1800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tivo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rendiz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1760" y="2754360"/>
            <a:ext cx="2413080" cy="654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o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ção (agen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98160" y="2513160"/>
            <a:ext cx="87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o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97280" y="2970360"/>
            <a:ext cx="177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23960" y="1828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8000" y="1225440"/>
            <a:ext cx="691920" cy="3873600"/>
          </a:xfrm>
          <a:custGeom>
            <a:avLst/>
            <a:gdLst>
              <a:gd name="textAreaLeft" fmla="*/ 25200 w 691920"/>
              <a:gd name="textAreaRight" fmla="*/ 666720 w 691920"/>
              <a:gd name="textAreaTop" fmla="*/ 25200 h 3873600"/>
              <a:gd name="textAreaBottom" fmla="*/ 3848400 h 3873600"/>
            </a:gdLst>
            <a:ahLst/>
            <a:rect l="textAreaLeft" t="textAreaTop" r="textAreaRight" b="textAreaBottom"/>
            <a:pathLst>
              <a:path w="21600" h="120872">
                <a:moveTo>
                  <a:pt x="2699" y="0"/>
                </a:moveTo>
                <a:arcTo wR="2699" hR="2699" stAng="16200000" swAng="-5400000"/>
                <a:lnTo>
                  <a:pt x="0" y="118173"/>
                </a:lnTo>
                <a:arcTo wR="2699" hR="2699" stAng="10800000" swAng="-5400000"/>
                <a:lnTo>
                  <a:pt x="18901" y="12087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-463320" y="3035520"/>
            <a:ext cx="24390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 b i e n t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6500-D3D6-438B-A463-0A7C155201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4720" y="380520"/>
            <a:ext cx="836928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gentes são programas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Um programa,   em um ambiente real,  percebe o mundo via suas entradas e atua sobre ele via suas saí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as saídas não terão efeito sobre o que ele percebe posteriormente, ou seja, ele sempre produzirá as mesmas saídas para o mesmo conjunto de informações de ent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mbém falha no teste de continuidade temporal. A propriedade de continuidade temporal determina processos em execução contínua que tanto podem estar ativos em foreground, quanto adormecidos, em background. O programa é executado uma vez e então termina, podendo, posteriormente, ser executado nova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dos os agentes de software são programas, mas nem todos os programas são  ag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8A44-381E-4F9E-98DF-67AB9C5C5B6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4720" y="380520"/>
            <a:ext cx="8369280" cy="1087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Qual é a diferença entr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um agente e um objeto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"Um objeto encapsula um estado e tem algum controle sobre este estado no qual ele pode somente ser acessado ou modificado, via os métodos que o objeto forne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gentes encapsulam o estado da mesma forma. Entretanto, agentes também encapsulam o comportam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objeto não encapsula comportamento: ele não tem nenhum controle sobre a execução dos métodos - se um objeto x invocar um método m em um objeto y, então y não tem nenhum controle sobre se m  é executado ou não - ele simplesmente é executad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m objeto não é autônomo, porque não tem nenhum controle sobre suas próprias açõ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8397-255E-4F4A-A65B-CE5B11B782D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14600" y="533520"/>
            <a:ext cx="3851280" cy="1087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 Idéia de Agent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Um problema e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ções, ações, objetivos,  e amb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Tipo de conhecimento 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is são as propriedades relevantes do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o mundo evo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identificar os estados desejáveis do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interpretar suas percep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is as conseqüências de suas ações no m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medir o sucesso de suas açõ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avaliar seus próprios conhec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87A3-7022-4D69-BF36-F053775B2CE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4720" y="380520"/>
            <a:ext cx="836928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Como Projetar Agentes Inteligentes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01000" cy="41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ar tarefa em termos de ambiente, percepções, ações, objetivos e utilida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icar o tipo de ambien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icar a arquitetura de agente adequada ao ambiente e taref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A932-FDAA-4317-9D84-0EA2EF35EAC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6928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Sistemas Multiage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sistemas desenvolvidos consideravam apenas a ação inteligente proveniente de um único ag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istem problemas que são naturalmente distribuídos e usam conhecimento distribuído para a sua resolução, passou-se a utilizar um conjunto de agentes para resolvê-los.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4766-5B21-4577-98F6-080D4312043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6928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Sistemas Multiage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gentes simpl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juntos resolvem problemas complexos sem terem consciência do objetivo globa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(inteligência coletiv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Exemplos de Agentes na Interne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gentes de Busca (ex. Altavist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Agentes que Filtram Informaç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883640" y="990720"/>
            <a:ext cx="1260360" cy="51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1775-D265-427E-BBAE-C913F2AC8D6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4720" y="380520"/>
            <a:ext cx="836928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Como Projetar Agentes Inteligentes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66"/>
                </a:solidFill>
                <a:latin typeface="Arial"/>
              </a:rPr>
              <a:t>Análi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identifique os papéis no sistem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para cada papel, identifique e documente os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protocolos associados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. usando o modelo de protocolo como base, elabore  um modelo de papéi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66"/>
                </a:solidFill>
                <a:latin typeface="Arial"/>
              </a:rPr>
              <a:t>Proje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crie um modelo de ag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desenvolva um modelo de serviços, examinando protocolos e propriedades de segurança e de </a:t>
            </a:r>
            <a:r>
              <a:rPr b="0" i="1" lang="pt-BR" sz="2600" spc="-1" strike="noStrike">
                <a:solidFill>
                  <a:srgbClr val="ffffff"/>
                </a:solidFill>
                <a:latin typeface="Arial"/>
              </a:rPr>
              <a:t>liveness</a:t>
            </a: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dos papéis.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desenvolva um modelo de conhecimento a partir do modelo de interação e do modelo de agente.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6DA2-E341-49FF-AEA0-9E968715AD7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 Narrow"/>
              </a:rPr>
              <a:t>Problemas</a:t>
            </a:r>
            <a:endParaRPr b="0" lang="en-US" sz="5400" spc="-1" strike="noStrike">
              <a:solidFill>
                <a:srgbClr val="ff9900"/>
              </a:solidFill>
              <a:latin typeface="Arial Narrow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507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O TUTA:  </a:t>
            </a:r>
            <a:r>
              <a:rPr b="0" lang="pt-BR" sz="2800" spc="-1" strike="noStrike">
                <a:solidFill>
                  <a:srgbClr val="ffffff"/>
                </a:solidFill>
                <a:latin typeface="Arial Narrow"/>
              </a:rPr>
              <a:t>(UFPB: Aleksandra Silva e Arturo Hernández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09480" y="1154160"/>
            <a:ext cx="777240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A660-1768-48A0-97AF-4E9FC062A1DA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773280" y="2057040"/>
            <a:ext cx="7913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IAD se subdivide em duas sub-áreas que são: a Resolução Distribuída de Problemas (RDP) e Sistemas Multiagentes (SMA). Nas duas sub-áreas, os agentes são as principais entidades das atividades de resolução de proble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Resolução distribuída de Problemas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x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Sistemas multiagente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6AF0-1B67-4ECE-B72F-64DE2CE9AE4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gentes fisicamente distribuídos em diversas máquinas conectadas via re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agentes são concebidos para solucionar um determinado problema particul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interação entre os agentes é realizada seja por troca de mensagen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estrutura destas trocas é quase sempre definida completamente durante a fase de concepção do siste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agentes são executados de modo concorrente, para aumentar a velocidade de resolu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agentes cooperam, dividindo entre si as diversas partes do problema original, ou podem aplicar diferentes estratégias de resolução para uma mesma taref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ste a noção de um controle glob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Resolução distribuída de Problema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9178-8F76-4805-90E1-41DDC196C94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eja pintar a bandeira de um país na parede de seu escritório, mas não tem conhecimento nem habilidade para realizar esta tarefa. No entanto, há cinco pessoas na sala, com diferentes capacidad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que conhece as cores da bandeira do país e o seu formato;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que é um excelente pintor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que é um grande cantor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e é um bom artist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que é um bom pinto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dos têm capacidade de trabalhar juntos em uma mesma sociedade, podendo perceber seu ambiente (eles podem ver), comunicar-se uns com os outros (eles podem falar a mesma linguagem) e agir (eles podem usar suas mãos)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O Problem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F13D-94A0-4EB7-8BAF-F57909321A7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gradFill rotWithShape="0">
            <a:gsLst>
              <a:gs pos="0">
                <a:srgbClr val="e18857"/>
              </a:gs>
              <a:gs pos="100000">
                <a:srgbClr val="d6b19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 ag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conhece as cores da bandeira do país e o seu forma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é um excelente pintor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é um grande cantor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é um bom artis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é um bom pint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-360" y="37335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abe qu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é o único que conhece as cores e o formato da bandeira brasileira. Pediu-lhe, no entanto, que ensinasse a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mo desenhar a bandeira. Uma vez que o formato estava desenhado, pediu a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a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ara começarem a pintar a bandeira, de acordo com as cores que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inha falado a eles.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ão realizou tarefa alguma. Quand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retornou, a parede estava pintada e ele sabia exatamente quem tinha feito o que e quando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76320" y="4568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Resolução distribuída de Problema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6054-4A33-4BFB-A093-30D594F428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gradFill rotWithShape="0">
            <a:gsLst>
              <a:gs pos="0">
                <a:srgbClr val="e18857"/>
              </a:gs>
              <a:gs pos="100000">
                <a:srgbClr val="d6b19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s ag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conhece as cores da bandeira do país e o seu forma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é um excelente pintor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é um grande cantor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é um bom artis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é um bom pinto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-360" y="3962520"/>
            <a:ext cx="88390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resenta a tarefa para todos que estão na sala. Então, as pessoas na sala, começam a se comunicar para estabelecer a divisão da tarefa. Depois de tudo decidido, iniciam seu trabalho. Quand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torna, a parede está pintada, mas ele não tem idéia sobre a execução da tarefa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Sistemas Multiage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AD7E-6542-4B3A-BD79-4AA2CF741A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735804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Para cooperar é necessário se comunic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unic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 a troca intencional de informação através da produção e percepção de sinais provenientes de um sistema compartilhado de sinais convencion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m como outros animais, os humanos usam um número limitado de sinais convencionais para se comunicar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guagem: complexo sistema estruturado de sinais conhecido que permite comunicar o que se sabe sobre o mu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a das ações disponíveis para um agente é produzir linguage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ção de Discur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848720" y="685800"/>
          <a:ext cx="103644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85800"/>
                    <a:ext cx="1036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79F7-329D-4BEF-A7F6-EB5D4682DDF4}" type="slidenum">
              <a:t>36</a:t>
            </a:fld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17324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8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Mundo de Wumpu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762120" y="1523880"/>
          <a:ext cx="76960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B5D6-6BCA-4CF8-AAFC-C2CC48DAF8E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786960"/>
            <a:ext cx="85075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Vantagens da Comunicação</a:t>
            </a: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ormar um ao outro sobre a parte do mundo que cada um exploro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Existe uma brisa aqui em 3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ultar uns aos outros para conseguir informações sobre aspectos particulares do mundo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Você  sentiu algum cheiro do Wumpu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ponder pergunt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Sim, eu senti o cheiro do Wumpus em 2.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quisitar ou comandar outros agentes para desempenhar açõ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Por favor, ajude-me a transportar o o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8897-172D-463F-BC87-6CD5837FF679}" type="slidenum">
              <a:t>38</a:t>
            </a:fld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86960"/>
            <a:ext cx="85075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Vantagens da Comunicação</a:t>
            </a: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meter fazer coisas ou oferecer aj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Eu atiro no wumpus se você compartilhar o ouro co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nhecer e confirmar requisiçõ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artilhar sentimentos e experiências com os outr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Sabe, amigo, quando eu chego em um ponto como este, eu freqüentemente volto para o início e vou em outra direção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Este Wumpus precisa de um desodorant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C05B-24EA-4C94-BE26-78FD2AFC42A3}" type="slidenum">
              <a:t>39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929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Produção de histórias interativ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86200" cy="42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267080" y="1905120"/>
            <a:ext cx="4876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criar ilusão da vida (Walt Disne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permitir interação com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modelar comportamento e personalidade (ex. tamagotch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4034-30D7-4407-B557-48CBD994078E}" type="slidenum">
              <a:t>4</a:t>
            </a:fld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0977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plicações para agentes 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Autom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lizam tarefas repeti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mento de produtiv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ersonaliz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sonalizam informações a serem disponibiliz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dução da sobrecarga de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Sistemas Operac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Intra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Notific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Cooper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ff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Arial"/>
              </a:rPr>
              <a:t>Sistemas de Ensino-Aprendizag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F46A-7639-4FB1-B597-089E8D97C97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097760" cy="1087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Sistemas Multiagente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 Razões para a Utilização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utom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ustomização/adaptabil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ot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odelag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dução de cu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umento da eficiênc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velocidade), devido à possibilidade de execução paral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umento da confiabilidade na resolução das tarefa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pecialização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 conhecimento ou as ações podem ser coletadas de especiali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F512-3CDC-4152-AE74-82A8D9D8743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 Narrow"/>
              </a:rPr>
              <a:t>Exemplo</a:t>
            </a:r>
            <a:endParaRPr b="0" lang="en-US" sz="5400" spc="-1" strike="noStrike">
              <a:solidFill>
                <a:srgbClr val="ff9900"/>
              </a:solidFill>
              <a:latin typeface="Arial Narrow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07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O MCOE: </a:t>
            </a:r>
            <a:r>
              <a:rPr b="0" lang="pt-BR" sz="3000" spc="-1" strike="noStrike">
                <a:solidFill>
                  <a:srgbClr val="ffffff"/>
                </a:solidFill>
                <a:latin typeface="Arial Narrow"/>
              </a:rPr>
              <a:t>(UFRGS: Lúcia Giraffa e Rosa Vicari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38080" y="961920"/>
            <a:ext cx="6510600" cy="499104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380880" y="5410080"/>
            <a:ext cx="1797120" cy="1195560"/>
            <a:chOff x="380880" y="5410080"/>
            <a:chExt cx="1797120" cy="1195560"/>
          </a:xfrm>
        </p:grpSpPr>
        <p:sp>
          <p:nvSpPr>
            <p:cNvPr id="583" name=""/>
            <p:cNvSpPr/>
            <p:nvPr/>
          </p:nvSpPr>
          <p:spPr>
            <a:xfrm flipH="1">
              <a:off x="914040" y="5410080"/>
              <a:ext cx="36972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0880" y="6248520"/>
              <a:ext cx="1797120" cy="357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cômet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673360" y="5486400"/>
            <a:ext cx="2381040" cy="1371600"/>
            <a:chOff x="2673360" y="5486400"/>
            <a:chExt cx="2381040" cy="1371600"/>
          </a:xfrm>
        </p:grpSpPr>
        <p:sp>
          <p:nvSpPr>
            <p:cNvPr id="586" name=""/>
            <p:cNvSpPr/>
            <p:nvPr/>
          </p:nvSpPr>
          <p:spPr>
            <a:xfrm flipH="1">
              <a:off x="2895480" y="5486400"/>
              <a:ext cx="37152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200040" y="5486400"/>
              <a:ext cx="185436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73360" y="6478560"/>
              <a:ext cx="1731960" cy="3794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age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57600" y="5715000"/>
            <a:ext cx="3505320" cy="1143000"/>
            <a:chOff x="3657600" y="5715000"/>
            <a:chExt cx="3505320" cy="1143000"/>
          </a:xfrm>
        </p:grpSpPr>
        <p:sp>
          <p:nvSpPr>
            <p:cNvPr id="590" name=""/>
            <p:cNvSpPr/>
            <p:nvPr/>
          </p:nvSpPr>
          <p:spPr>
            <a:xfrm>
              <a:off x="3657600" y="5715000"/>
              <a:ext cx="19796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18080" y="5719680"/>
              <a:ext cx="12384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41920" y="6351480"/>
              <a:ext cx="1521000" cy="5065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rrament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137280" y="914400"/>
            <a:ext cx="2397240" cy="885960"/>
            <a:chOff x="6137280" y="914400"/>
            <a:chExt cx="2397240" cy="885960"/>
          </a:xfrm>
        </p:grpSpPr>
        <p:sp>
          <p:nvSpPr>
            <p:cNvPr id="594" name=""/>
            <p:cNvSpPr/>
            <p:nvPr/>
          </p:nvSpPr>
          <p:spPr>
            <a:xfrm flipV="1">
              <a:off x="6137280" y="1166760"/>
              <a:ext cx="61920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1680" y="914400"/>
              <a:ext cx="1752840" cy="3794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lui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754680" y="5719680"/>
            <a:ext cx="1484280" cy="885960"/>
            <a:chOff x="6754680" y="5719680"/>
            <a:chExt cx="1484280" cy="885960"/>
          </a:xfrm>
        </p:grpSpPr>
        <p:sp>
          <p:nvSpPr>
            <p:cNvPr id="597" name=""/>
            <p:cNvSpPr/>
            <p:nvPr/>
          </p:nvSpPr>
          <p:spPr>
            <a:xfrm>
              <a:off x="6754680" y="5719680"/>
              <a:ext cx="49536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73880" y="6226200"/>
              <a:ext cx="865080" cy="3794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ju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878520" y="4329000"/>
            <a:ext cx="2265480" cy="758520"/>
            <a:chOff x="6878520" y="4329000"/>
            <a:chExt cx="2265480" cy="758520"/>
          </a:xfrm>
        </p:grpSpPr>
        <p:sp>
          <p:nvSpPr>
            <p:cNvPr id="600" name=""/>
            <p:cNvSpPr/>
            <p:nvPr/>
          </p:nvSpPr>
          <p:spPr>
            <a:xfrm>
              <a:off x="7621560" y="4329000"/>
              <a:ext cx="1522440" cy="70020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ognitiv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878520" y="4581000"/>
              <a:ext cx="74304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3000-AA3A-464E-9A9F-F68D03D56E56}" type="slidenum">
              <a:t>43</a:t>
            </a:fld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 Narrow"/>
              </a:rPr>
              <a:t>Na UFES</a:t>
            </a:r>
            <a:endParaRPr b="0" lang="en-US" sz="54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07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O que está sendo desenvolvido com agentes na UFES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3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QSABE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Pesso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MutAntIS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 - Uma Arquitetura Multi-Agente para a Autoria de Tutores Inteligentes (Bren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AmCorA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diversos trabalhos para compor um ambiente integrado de aprendizagem (Equipe GA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mposição Inteligente de Documento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(Osval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5D7F-68C4-4E3C-B010-51B963A276F5}" type="slidenum">
              <a:t>45</a:t>
            </a:fld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5008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Referências Bibliográficas 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 - ALLEN, J.F. Natural Language Understanding. 2 ed. I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ARROS, F. A. &amp; ROBIN, J. Processamento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Na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 - BARROS, F. A. &amp; ROBIN, J. Processament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Na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 - RUSSEL, S. &amp; NORVIG, P. Artificial Intelligence –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dern Approach. New Jersey: Prentice Hall, 199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4 - WOOLDRIDGE, M, N. R. JENNINGS. Agent Theories, Architetures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anguages:  a Survey Intelligent Agents. Berlin: Springer-Verla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99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5 - M. WOOLDRIDGE AND N. R. JENNINGS. Pitfalls of agent-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evelopment. In Proceedings of the Second Intern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ference on Autonomous Agents (Agents 98), pages 385-391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inneapolis/St Paul, MN, May 199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6 - M. WOOLDRIDGE. Agent-based software engineering. IEE Proceedings on Software Engineering, 144(1):26-37, Febnuuy 199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7 - M. WOOLDRIDGE, N. R. JENNINGS, D. Kinnyt. A Methodology for Agent-Oriented Analysis and Design. Autonomous Agents ‘99 Seatt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A, 1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E106-4C8D-4DBD-9BA5-E90E54DF5653}" type="slidenum">
              <a:t>46</a:t>
            </a:fld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 Narrow"/>
              </a:rPr>
              <a:t>Perguntas ?</a:t>
            </a:r>
            <a:endParaRPr b="0" lang="en-US" sz="6000" spc="-1" strike="noStrike">
              <a:solidFill>
                <a:srgbClr val="ff9900"/>
              </a:solidFill>
              <a:latin typeface="Arial Narrow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4267080" y="4454640"/>
            <a:ext cx="2567160" cy="240336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1621080" cy="39340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8063280" y="532296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929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uxílio a compras na Web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996-D729-4AD1-AA5A-1F8EB86E9A0C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7501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Ambientes de Ensino-Aprendizagem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600200"/>
            <a:ext cx="4343400" cy="27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89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r a construção do conhec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mitir interação com o alu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9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aluno aprende do seu je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ALESTRA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809880" cy="3944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5902200"/>
            <a:ext cx="729936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Para isso é necessário modelar o alun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(crenças, desejos, intenções, afetivida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10A3-4C5B-4FBA-874F-0066329EE9D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089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rande complexidade (número, variedade e natureza das tarefas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há “solução algorítmica”, pois  existe conhecimento envolv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6999"/>
              </a:spcAft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ige a modelagem do comportamento de um ser intelig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O que estes problemas têm em comum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776D-252F-4B1E-8311-21E3239331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73280" y="2057040"/>
            <a:ext cx="7913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ligência Artificial (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ir (e aprender a construir) programas que, segundo critérios definidos, exibem um comportamento inteligente na realização de uma dada taref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3427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66"/>
                </a:solidFill>
                <a:latin typeface="Arial Narrow"/>
              </a:rPr>
              <a:t>Que ramo da computação tenta lidar com estes problemas?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2098-9CA2-4C22-84A5-05567D27ED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4743360" cy="569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Narrow"/>
              </a:rPr>
              <a:t>O que é um agente ?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62080" indent="-262080">
              <a:lnSpc>
                <a:spcPct val="85000"/>
              </a:lnSpc>
              <a:spcBef>
                <a:spcPts val="18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m Agente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qualquer entidade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84560" indent="-1422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rceb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eu ambiente através de sensores (ex. cameras, microfone, teclado, finger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84560" indent="-1422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sobre ele através de efetuadores (ex. video, auto-falante, impressora, braços, ftp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47920" y="3719520"/>
            <a:ext cx="5979960" cy="2516040"/>
            <a:chOff x="1447920" y="3719520"/>
            <a:chExt cx="5979960" cy="2516040"/>
          </a:xfrm>
        </p:grpSpPr>
        <p:sp>
          <p:nvSpPr>
            <p:cNvPr id="137" name=""/>
            <p:cNvSpPr/>
            <p:nvPr/>
          </p:nvSpPr>
          <p:spPr>
            <a:xfrm>
              <a:off x="5210280" y="4349880"/>
              <a:ext cx="1724040" cy="1365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3733920"/>
              <a:ext cx="4913280" cy="242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180880" y="5715000"/>
              <a:ext cx="77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0760" y="4038480"/>
              <a:ext cx="76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9160" y="387684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7920" y="3886200"/>
              <a:ext cx="691920" cy="2349360"/>
            </a:xfrm>
            <a:custGeom>
              <a:avLst/>
              <a:gdLst>
                <a:gd name="textAreaLeft" fmla="*/ 25200 w 691920"/>
                <a:gd name="textAreaRight" fmla="*/ 666720 w 691920"/>
                <a:gd name="textAreaTop" fmla="*/ 25200 h 2349360"/>
                <a:gd name="textAreaBottom" fmla="*/ 2324160 h 2349360"/>
              </a:gdLst>
              <a:ahLst/>
              <a:rect l="textAreaLeft" t="textAreaTop" r="textAreaRight" b="textAreaBottom"/>
              <a:pathLst>
                <a:path w="21600" h="73314">
                  <a:moveTo>
                    <a:pt x="2699" y="0"/>
                  </a:moveTo>
                  <a:arcTo wR="2699" hR="2699" stAng="16200000" swAng="-5400000"/>
                  <a:lnTo>
                    <a:pt x="0" y="70615"/>
                  </a:lnTo>
                  <a:arcTo wR="2699" hR="2699" stAng="10800000" swAng="-5400000"/>
                  <a:lnTo>
                    <a:pt x="18901" y="7331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1200" y="3719520"/>
              <a:ext cx="1049040" cy="36684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6440" y="5549760"/>
              <a:ext cx="1629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887040" y="4900680"/>
              <a:ext cx="1792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27440" y="518148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27440" y="42670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38320" y="4780080"/>
              <a:ext cx="1797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Raciocin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10080" y="4572000"/>
              <a:ext cx="13320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delo do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EE7C-403E-44AF-AC44-DBD49E65D5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6:06:40Z</dcterms:created>
  <dc:creator>Silvana Rossy de Brito</dc:creator>
  <dc:description/>
  <dc:language>en-US</dc:language>
  <cp:lastModifiedBy>Silvana Rossy de Brito</cp:lastModifiedBy>
  <cp:lastPrinted>1999-12-05T14:36:39Z</cp:lastPrinted>
  <dcterms:modified xsi:type="dcterms:W3CDTF">1999-12-15T16:14:06Z</dcterms:modified>
  <cp:revision>4</cp:revision>
  <dc:subject/>
  <dc:title>Agentes Inteligentes</dc:title>
</cp:coreProperties>
</file>