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7AD2-B3DF-4F0A-80A2-212F49BA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B84-E4E4-4527-8901-7849B840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573-3F91-4746-A716-6231FACD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E265-95CB-43FF-A4B6-536EEC01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65AB-345F-4672-AAC5-0A603B1E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13D8-8307-4699-B5AE-2F9913AB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01DD-84E2-4703-924C-B1698D09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F736-9E20-4875-A4A3-6AA28F2A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8E7B-16C2-4C4A-A190-E9A0F2CB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F71E-F24B-4780-B7D0-24E9EDCF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678F-60D4-4E61-B8CC-418DBE09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2AB-5CE0-4891-A362-FA58E4E3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ACFB-6F99-4F9A-BC7B-CA73F412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D025-278A-43D8-9270-E3DF14F9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C714-0A33-4C3A-958E-2895E0A4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DFED-06CD-4011-9C58-B84D54B7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405B-BFF7-440F-8B36-5043C0C0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185-8966-4B59-9990-693ECFC0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9EF-051E-42C0-9DCC-05F22CDB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F82-A49A-4E67-BD47-91706B42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434-635C-4930-9881-1C0139EB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0278-F4B3-4975-877F-F83036A2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306-C7FB-41CF-A7AA-5D948647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1D57-05EF-45C0-BEE4-2CF031A8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9"/>
            </a:gs>
            <a:gs pos="50000">
              <a:srgbClr val="ffffcc"/>
            </a:gs>
            <a:gs pos="100000">
              <a:srgbClr val="fef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ffffcc">
                  <a:alpha val="50196"/>
                </a:srgbClr>
              </a:gs>
              <a:gs pos="100000">
                <a:srgbClr val="9d9d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26261f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172360" y="73080"/>
            <a:ext cx="581040" cy="4762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1584360" y="4140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imes New Roman"/>
              </a:rPr>
              <a:t>II Workshop de Pesquisa e Desenvolv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9"/>
            </a:gs>
            <a:gs pos="50000">
              <a:srgbClr val="ffffcc"/>
            </a:gs>
            <a:gs pos="100000">
              <a:srgbClr val="fef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9d9d7d"/>
              </a:gs>
              <a:gs pos="50000">
                <a:srgbClr val="ffffcc">
                  <a:alpha val="50196"/>
                </a:srgbClr>
              </a:gs>
              <a:gs pos="100000">
                <a:srgbClr val="9d9d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26261f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72360" y="73080"/>
            <a:ext cx="58104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84360" y="4140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imes New Roman"/>
              </a:rPr>
              <a:t>II Workshop de Pesquisa e Desenvolv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9"/>
            </a:gs>
            <a:gs pos="50000">
              <a:srgbClr val="ffffcc"/>
            </a:gs>
            <a:gs pos="100000">
              <a:srgbClr val="fef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21896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ff"/>
                </a:solidFill>
                <a:latin typeface="Arial"/>
              </a:rPr>
              <a:t>Escalonamento, Locação e Remanejamento de Equipes de Atendimento a Reclamações (Plantão)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4920" y="388620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5f5f5f"/>
                </a:solidFill>
                <a:latin typeface="Arial"/>
              </a:rPr>
              <a:t>Parceria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5f5f5f"/>
                </a:solidFill>
                <a:latin typeface="Arial"/>
              </a:rPr>
              <a:t>ESCELSA - Espírito Santo Centrais Elétricas S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5f5f5f"/>
                </a:solidFill>
                <a:latin typeface="Arial"/>
              </a:rPr>
              <a:t>UFES - Universidade Federal do Espírito San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4d4d4d"/>
                </a:solidFill>
                <a:latin typeface="Arial"/>
              </a:rPr>
              <a:t>Setembro de 200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9"/>
            </a:gs>
            <a:gs pos="50000">
              <a:srgbClr val="ffffcc"/>
            </a:gs>
            <a:gs pos="100000">
              <a:srgbClr val="fef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ff"/>
                </a:solidFill>
                <a:latin typeface="Times New Roman"/>
              </a:rPr>
              <a:t>Objetiv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mplementar um sistema computacional que permita realizar simulações sobre alocação ótima de equipes de atendimento de ocorrências emergênciais e emitir recomendações sobre a movimentação das mesma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9"/>
            </a:gs>
            <a:gs pos="50000">
              <a:srgbClr val="ffffcc"/>
            </a:gs>
            <a:gs pos="100000">
              <a:srgbClr val="fef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ff"/>
                </a:solidFill>
                <a:latin typeface="Times New Roman"/>
              </a:rPr>
              <a:t>Desenvolviment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Propor modelagem computacional que englobe os seguintes dado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distribuição geográfica de equipes de manutenção;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distribuição geográfica de ocorrências emergenciais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restrições sobre deslocamentos de equipes;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dados históricos de ocorrências emergenciais, deslocamentos de equipes e tempos de atendimento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avaliação de parâmetros de desempenho como DEC, FEC, TMA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9"/>
            </a:gs>
            <a:gs pos="50000">
              <a:srgbClr val="ffffcc"/>
            </a:gs>
            <a:gs pos="100000">
              <a:srgbClr val="fef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ff"/>
                </a:solidFill>
                <a:latin typeface="Times New Roman"/>
              </a:rPr>
              <a:t>Desenvolvimento continuaçã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Número de Equipe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Perfil (Skill das Equipes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Tipo de Veículos Utlizad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Número / Tipos de Serviç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ondições Climatica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ondições Geográfica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9"/>
            </a:gs>
            <a:gs pos="50000">
              <a:srgbClr val="ffffcc"/>
            </a:gs>
            <a:gs pos="100000">
              <a:srgbClr val="fef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ff"/>
                </a:solidFill>
                <a:latin typeface="Times New Roman"/>
              </a:rPr>
              <a:t>Metodologia de Desenvolviment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 algn="just">
              <a:lnSpc>
                <a:spcPct val="90000"/>
              </a:lnSpc>
              <a:spcBef>
                <a:spcPts val="7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Desenvolvimento de Algorítmos de aproximação e meta - heurísticas para incorporação em sistema computacional de simulação utilizando “clusteres” para minimizar o impacto de tempo de resolução de problemas complexo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90000"/>
              </a:lnSpc>
              <a:spcBef>
                <a:spcPts val="7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Os algorítmos serão produzidos com base nos dados anteriormente referid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9"/>
            </a:gs>
            <a:gs pos="50000">
              <a:srgbClr val="ffffcc"/>
            </a:gs>
            <a:gs pos="100000">
              <a:srgbClr val="fef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ff"/>
                </a:solidFill>
                <a:latin typeface="Times New Roman"/>
              </a:rPr>
              <a:t>Metodologia de Transferência de Tecnolog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 algn="just">
              <a:lnSpc>
                <a:spcPct val="90000"/>
              </a:lnSpc>
              <a:spcBef>
                <a:spcPts val="7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Realização de treinamento para a capacitação da equipe nos fundamentos teóricos do projeto: Processamento paralelo, geometria computacional, otimização combinatória e meta - heurística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 algn="just">
              <a:lnSpc>
                <a:spcPct val="90000"/>
              </a:lnSpc>
              <a:spcBef>
                <a:spcPts val="7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Desenvolvimento de documentação de toda a pesquisa realizada e do software implementado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 algn="just">
              <a:lnSpc>
                <a:spcPct val="90000"/>
              </a:lnSpc>
              <a:spcBef>
                <a:spcPts val="7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Treinamento da equipe da empresa no uso do software a ser desenvolvid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9"/>
            </a:gs>
            <a:gs pos="50000">
              <a:srgbClr val="ffffcc"/>
            </a:gs>
            <a:gs pos="100000">
              <a:srgbClr val="fef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3480" y="57168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ff"/>
                </a:solidFill>
                <a:latin typeface="Times New Roman"/>
              </a:rPr>
              <a:t>Etapas / Produtos do Projeto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057320"/>
            <a:ext cx="91440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9"/>
            </a:gs>
            <a:gs pos="50000">
              <a:srgbClr val="ffffcc"/>
            </a:gs>
            <a:gs pos="100000">
              <a:srgbClr val="fef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ff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Menor deslocamento das equip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Menor tempo de atendimen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Menor custo de atendimen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Maior produtividade das equip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Melhoria nos indicadores de desempenho DEC e FE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3T14:34:05Z</dcterms:created>
  <dc:creator>João Bosco Queiroz Ferreira</dc:creator>
  <dc:description/>
  <dc:language>en-US</dc:language>
  <cp:lastModifiedBy>ESCELSA</cp:lastModifiedBy>
  <cp:lastPrinted>2002-07-30T18:53:30Z</cp:lastPrinted>
  <dcterms:modified xsi:type="dcterms:W3CDTF">2003-09-05T19:11:16Z</dcterms:modified>
  <cp:revision>127</cp:revision>
  <dc:subject/>
  <dc:title>Sistema especialista para Alocação e Remanejamento Ótimo de Equipes </dc:title>
</cp:coreProperties>
</file>