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88A-2F57-4FC4-A770-3558CE26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2CA-0ED1-49B3-A03A-CCD038C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089-808C-4DCB-BABE-326B7A11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42BE-BB47-47C0-BD30-6C92235E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A10-72D5-4FAE-B505-97890EB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D29-991F-4202-B754-B1CAD43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886-1413-4B68-86EB-DE8AE433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597-A88F-4801-A7E1-CE9347B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FBFA-B8BA-4577-94DC-42AAA4C7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582-2DC6-497F-8D6D-2C12B4F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D3B-622E-4DF0-BACA-CB4F92D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6EC-3F8B-4F9A-8BC0-7DEBB53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61DA-9797-4643-A0E1-AD2C72BF5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9960"/>
            <a:ext cx="6858000" cy="1535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érie Manuai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ção mais Lim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0"/>
            <a:ext cx="0" cy="92296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4400" y="6234120"/>
            <a:ext cx="6040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Manual 04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Relatório da Implantação do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Programa de Produçã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Tahoma"/>
              </a:rPr>
              <a:t>Mais Limp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79640" y="4254480"/>
          <a:ext cx="90324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4254480"/>
                    <a:ext cx="90324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5376960" y="4156200"/>
          <a:ext cx="860400" cy="89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76960" y="4156200"/>
                    <a:ext cx="86040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3379680" y="4235400"/>
            <a:ext cx="817200" cy="794880"/>
            <a:chOff x="3379680" y="4235400"/>
            <a:chExt cx="817200" cy="794880"/>
          </a:xfrm>
        </p:grpSpPr>
        <p:sp>
          <p:nvSpPr>
            <p:cNvPr id="49" name=""/>
            <p:cNvSpPr/>
            <p:nvPr/>
          </p:nvSpPr>
          <p:spPr>
            <a:xfrm>
              <a:off x="3379680" y="423540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79680" y="439488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79680" y="456192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79680" y="472140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79680" y="488088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77320" y="43999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ENA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28720" y="4556520"/>
              <a:ext cx="53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FIERG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94600" y="4723560"/>
              <a:ext cx="42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NT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9680" y="5030280"/>
              <a:ext cx="81720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825560" y="2820960"/>
            <a:ext cx="7556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66680" y="3546360"/>
            <a:ext cx="2398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elho Empresarial Brasil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ra o Desenvolvimento Sustentá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53960" y="2333520"/>
            <a:ext cx="4846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ahoma"/>
              </a:rPr>
              <a:t>Rede de Produção mais Limpa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235480"/>
            <a:ext cx="4800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Tahoma"/>
              </a:rPr>
              <a:t>Centro Nacional de Tecnologias Lim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4520" y="9210600"/>
            <a:ext cx="62434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8551800"/>
            <a:ext cx="4800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ahoma"/>
              </a:rPr>
              <a:t>Porto Alegre, maio de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3048120"/>
            <a:ext cx="1419120" cy="458640"/>
            <a:chOff x="4724280" y="3048120"/>
            <a:chExt cx="1419120" cy="458640"/>
          </a:xfrm>
        </p:grpSpPr>
        <p:sp>
          <p:nvSpPr>
            <p:cNvPr id="65" name=""/>
            <p:cNvSpPr/>
            <p:nvPr/>
          </p:nvSpPr>
          <p:spPr>
            <a:xfrm>
              <a:off x="4724280" y="3098880"/>
              <a:ext cx="1419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Lucida Console"/>
                </a:rPr>
                <a:t>SEBRA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89480" y="3105360"/>
              <a:ext cx="377640" cy="36360"/>
            </a:xfrm>
            <a:prstGeom prst="parallelogram">
              <a:avLst>
                <a:gd name="adj" fmla="val 8126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7400" y="3048120"/>
              <a:ext cx="377640" cy="36360"/>
            </a:xfrm>
            <a:prstGeom prst="parallelogram">
              <a:avLst>
                <a:gd name="adj" fmla="val 8126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21080" y="3470400"/>
              <a:ext cx="378000" cy="36360"/>
            </a:xfrm>
            <a:prstGeom prst="parallelogram">
              <a:avLst>
                <a:gd name="adj" fmla="val 8134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29000" y="3413160"/>
              <a:ext cx="378000" cy="36720"/>
            </a:xfrm>
            <a:prstGeom prst="parallelogram">
              <a:avLst>
                <a:gd name="adj" fmla="val 8054"/>
              </a:avLst>
            </a:prstGeom>
            <a:solidFill>
              <a:srgbClr val="000099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86600" y="4038480"/>
            <a:ext cx="42087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ELABORAÇÃO DE ESTUDOS DE C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- ESTUDO DE CASO 1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- ESTUDO DE CASO 2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- ESTUDO DE CASO 3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- ESTUDO DE CASO 4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- ESTUDO DE CASO 5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9960"/>
            <a:ext cx="6858000" cy="15350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tório da Implantaçã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a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s Limp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0"/>
            <a:ext cx="0" cy="922968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4520" y="9210600"/>
            <a:ext cx="62434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9640" y="8551800"/>
            <a:ext cx="538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ahoma"/>
              </a:rPr>
              <a:t>Elaborado p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ahoma"/>
              </a:rPr>
              <a:t>Equipe Técnica do CNTL - Centro Nacional de Tecnologias Limp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20:34:02Z</dcterms:created>
  <dc:creator>Unregistered</dc:creator>
  <dc:description/>
  <dc:language>en-US</dc:language>
  <cp:lastModifiedBy>neyval</cp:lastModifiedBy>
  <cp:lastPrinted>2000-05-23T00:34:14Z</cp:lastPrinted>
  <dcterms:modified xsi:type="dcterms:W3CDTF">2003-12-19T17:24:59Z</dcterms:modified>
  <cp:revision>42</cp:revision>
  <dc:subject/>
  <dc:title>Slide sem título </dc:title>
</cp:coreProperties>
</file>