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94B-F67F-411A-A2B7-50C4BFF4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B26-7FCE-417B-AA0A-FE59D5D1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B1A-6450-4503-A86E-A07893FC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8CB-DE78-4D3C-B1ED-08C31AB2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25CD-2286-4B50-B323-C26BF641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91C1-64A9-4362-B885-69C8F2ED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A057-4C6D-49FB-B41B-E01C39DF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AA8C-9905-4225-BD4B-23678A2F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C8EA-B185-4A20-98D9-81769F7C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0B48-CD79-438A-96A2-899ADF82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2278-84C3-422C-B412-D8D95B10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4DB-265A-4DA8-962A-5B08E81C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45D4-3C47-4E54-9719-36B66347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614F-BA2C-435F-9E4A-5C86AD82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0A9E-68FB-4661-9F26-E7280944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691C-7D81-421F-A29C-65EA82C9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DA2B-386A-42B6-89B0-9E4705C4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E60-84FB-43FD-BDF5-2246C34A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EC2-DFA8-4562-8E1E-E252F7B2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484-1B42-4BBD-B124-A2F3FC05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5D1-5120-441D-9BD8-7D48CC4E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8BB-B7EA-4098-9871-72F5FB7F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19E-0E2E-4B67-A0DE-7A7CEA86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909-DCA1-4A71-9815-95EBB8C8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E6AA-9124-4710-92D9-06165574E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0B03-AF78-4F2B-8A1C-A6A3DE89F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3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2.wmf"/><Relationship Id="rId31" Type="http://schemas.openxmlformats.org/officeDocument/2006/relationships/image" Target="../media/image3.wmf"/><Relationship Id="rId32" Type="http://schemas.openxmlformats.org/officeDocument/2006/relationships/image" Target="../media/image5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image" Target="../media/image6.wmf"/><Relationship Id="rId37" Type="http://schemas.openxmlformats.org/officeDocument/2006/relationships/image" Target="../media/image6.wmf"/><Relationship Id="rId38" Type="http://schemas.openxmlformats.org/officeDocument/2006/relationships/image" Target="../media/image6.wmf"/><Relationship Id="rId39" Type="http://schemas.openxmlformats.org/officeDocument/2006/relationships/image" Target="../media/image6.wmf"/><Relationship Id="rId40" Type="http://schemas.openxmlformats.org/officeDocument/2006/relationships/image" Target="../media/image6.wmf"/><Relationship Id="rId41" Type="http://schemas.openxmlformats.org/officeDocument/2006/relationships/image" Target="../media/image6.wmf"/><Relationship Id="rId42" Type="http://schemas.openxmlformats.org/officeDocument/2006/relationships/image" Target="../media/image6.wmf"/><Relationship Id="rId43" Type="http://schemas.openxmlformats.org/officeDocument/2006/relationships/image" Target="../media/image6.wmf"/><Relationship Id="rId44" Type="http://schemas.openxmlformats.org/officeDocument/2006/relationships/image" Target="../media/image6.wmf"/><Relationship Id="rId45" Type="http://schemas.openxmlformats.org/officeDocument/2006/relationships/image" Target="../media/image6.wmf"/><Relationship Id="rId46" Type="http://schemas.openxmlformats.org/officeDocument/2006/relationships/image" Target="../media/image6.wmf"/><Relationship Id="rId47" Type="http://schemas.openxmlformats.org/officeDocument/2006/relationships/image" Target="../media/image7.wmf"/><Relationship Id="rId48" Type="http://schemas.openxmlformats.org/officeDocument/2006/relationships/image" Target="../media/image7.wmf"/><Relationship Id="rId49" Type="http://schemas.openxmlformats.org/officeDocument/2006/relationships/image" Target="../media/image7.wmf"/><Relationship Id="rId50" Type="http://schemas.openxmlformats.org/officeDocument/2006/relationships/image" Target="../media/image7.wmf"/><Relationship Id="rId51" Type="http://schemas.openxmlformats.org/officeDocument/2006/relationships/image" Target="../media/image7.wmf"/><Relationship Id="rId52" Type="http://schemas.openxmlformats.org/officeDocument/2006/relationships/image" Target="../media/image7.wmf"/><Relationship Id="rId53" Type="http://schemas.openxmlformats.org/officeDocument/2006/relationships/image" Target="../media/image7.wmf"/><Relationship Id="rId54" Type="http://schemas.openxmlformats.org/officeDocument/2006/relationships/image" Target="../media/image7.wmf"/><Relationship Id="rId55" Type="http://schemas.openxmlformats.org/officeDocument/2006/relationships/image" Target="../media/image8.wmf"/><Relationship Id="rId56" Type="http://schemas.openxmlformats.org/officeDocument/2006/relationships/image" Target="../media/image8.wmf"/><Relationship Id="rId57" Type="http://schemas.openxmlformats.org/officeDocument/2006/relationships/image" Target="../media/image8.wmf"/><Relationship Id="rId58" Type="http://schemas.openxmlformats.org/officeDocument/2006/relationships/image" Target="../media/image8.wmf"/><Relationship Id="rId59" Type="http://schemas.openxmlformats.org/officeDocument/2006/relationships/image" Target="../media/image8.wmf"/><Relationship Id="rId60" Type="http://schemas.openxmlformats.org/officeDocument/2006/relationships/image" Target="../media/image8.wmf"/><Relationship Id="rId61" Type="http://schemas.openxmlformats.org/officeDocument/2006/relationships/image" Target="../media/image8.wmf"/><Relationship Id="rId62" Type="http://schemas.openxmlformats.org/officeDocument/2006/relationships/image" Target="../media/image8.wmf"/><Relationship Id="rId6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 PRIMAL PARTITIONING APPROACH TO THE MINIMUM COST MULTICOMMODITY FLOW PROBL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                Isaac Pinheiro dos Sa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or:         Prof. Dr. Saulo Bort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artitioning Of the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208296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215748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223200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4"/>
          <a:stretch/>
        </p:blipFill>
        <p:spPr>
          <a:xfrm>
            <a:off x="2306520" y="3133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5"/>
          <a:stretch/>
        </p:blipFill>
        <p:spPr>
          <a:xfrm>
            <a:off x="238284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6"/>
          <a:stretch/>
        </p:blipFill>
        <p:spPr>
          <a:xfrm>
            <a:off x="2457360" y="3133800"/>
            <a:ext cx="74880" cy="936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7"/>
          <a:stretch/>
        </p:blipFill>
        <p:spPr>
          <a:xfrm>
            <a:off x="253224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8"/>
          <a:stretch/>
        </p:blipFill>
        <p:spPr>
          <a:xfrm>
            <a:off x="260676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9"/>
          <a:stretch/>
        </p:blipFill>
        <p:spPr>
          <a:xfrm>
            <a:off x="268128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10"/>
          <a:stretch/>
        </p:blipFill>
        <p:spPr>
          <a:xfrm>
            <a:off x="2755800" y="3133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11"/>
          <a:stretch/>
        </p:blipFill>
        <p:spPr>
          <a:xfrm>
            <a:off x="2832120" y="3133800"/>
            <a:ext cx="27000" cy="93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2"/>
          <a:stretch/>
        </p:blipFill>
        <p:spPr>
          <a:xfrm>
            <a:off x="420696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3"/>
          <a:stretch/>
        </p:blipFill>
        <p:spPr>
          <a:xfrm>
            <a:off x="428148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4"/>
          <a:stretch/>
        </p:blipFill>
        <p:spPr>
          <a:xfrm>
            <a:off x="4356000" y="3133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5"/>
          <a:stretch/>
        </p:blipFill>
        <p:spPr>
          <a:xfrm>
            <a:off x="443232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6"/>
          <a:stretch/>
        </p:blipFill>
        <p:spPr>
          <a:xfrm>
            <a:off x="450684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7"/>
          <a:stretch/>
        </p:blipFill>
        <p:spPr>
          <a:xfrm>
            <a:off x="4581360" y="3133800"/>
            <a:ext cx="74880" cy="93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8"/>
          <a:stretch/>
        </p:blipFill>
        <p:spPr>
          <a:xfrm>
            <a:off x="465624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9"/>
          <a:stretch/>
        </p:blipFill>
        <p:spPr>
          <a:xfrm>
            <a:off x="473076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0"/>
          <a:stretch/>
        </p:blipFill>
        <p:spPr>
          <a:xfrm>
            <a:off x="4805280" y="3133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21"/>
          <a:stretch/>
        </p:blipFill>
        <p:spPr>
          <a:xfrm>
            <a:off x="500220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2"/>
          <a:stretch/>
        </p:blipFill>
        <p:spPr>
          <a:xfrm>
            <a:off x="5076720" y="3133800"/>
            <a:ext cx="74880" cy="93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3"/>
          <a:stretch/>
        </p:blipFill>
        <p:spPr>
          <a:xfrm>
            <a:off x="5151600" y="3133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4"/>
          <a:stretch/>
        </p:blipFill>
        <p:spPr>
          <a:xfrm>
            <a:off x="522756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5"/>
          <a:stretch/>
        </p:blipFill>
        <p:spPr>
          <a:xfrm>
            <a:off x="5302080" y="3133800"/>
            <a:ext cx="74880" cy="936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26"/>
          <a:stretch/>
        </p:blipFill>
        <p:spPr>
          <a:xfrm>
            <a:off x="537696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27"/>
          <a:stretch/>
        </p:blipFill>
        <p:spPr>
          <a:xfrm>
            <a:off x="545148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8"/>
          <a:stretch/>
        </p:blipFill>
        <p:spPr>
          <a:xfrm>
            <a:off x="5526000" y="3133800"/>
            <a:ext cx="74880" cy="93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9"/>
          <a:stretch/>
        </p:blipFill>
        <p:spPr>
          <a:xfrm>
            <a:off x="5600880" y="3133800"/>
            <a:ext cx="75960" cy="936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30"/>
          <a:stretch/>
        </p:blipFill>
        <p:spPr>
          <a:xfrm>
            <a:off x="567684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31"/>
          <a:stretch/>
        </p:blipFill>
        <p:spPr>
          <a:xfrm>
            <a:off x="5751360" y="3133800"/>
            <a:ext cx="27000" cy="936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2"/>
          <a:stretch/>
        </p:blipFill>
        <p:spPr>
          <a:xfrm>
            <a:off x="5778360" y="313380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3"/>
          <a:stretch/>
        </p:blipFill>
        <p:spPr>
          <a:xfrm>
            <a:off x="578808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34"/>
          <a:stretch/>
        </p:blipFill>
        <p:spPr>
          <a:xfrm>
            <a:off x="5862600" y="3133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35"/>
          <a:stretch/>
        </p:blipFill>
        <p:spPr>
          <a:xfrm>
            <a:off x="593892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36"/>
          <a:stretch/>
        </p:blipFill>
        <p:spPr>
          <a:xfrm>
            <a:off x="601344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7"/>
          <a:stretch/>
        </p:blipFill>
        <p:spPr>
          <a:xfrm>
            <a:off x="6087960" y="3133800"/>
            <a:ext cx="74880" cy="936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38"/>
          <a:stretch/>
        </p:blipFill>
        <p:spPr>
          <a:xfrm>
            <a:off x="616284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39"/>
          <a:stretch/>
        </p:blipFill>
        <p:spPr>
          <a:xfrm>
            <a:off x="623736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40"/>
          <a:stretch/>
        </p:blipFill>
        <p:spPr>
          <a:xfrm>
            <a:off x="6311880" y="3133800"/>
            <a:ext cx="76320" cy="936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41"/>
          <a:stretch/>
        </p:blipFill>
        <p:spPr>
          <a:xfrm>
            <a:off x="638820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42"/>
          <a:stretch/>
        </p:blipFill>
        <p:spPr>
          <a:xfrm>
            <a:off x="646272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43"/>
          <a:stretch/>
        </p:blipFill>
        <p:spPr>
          <a:xfrm>
            <a:off x="653724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44"/>
          <a:stretch/>
        </p:blipFill>
        <p:spPr>
          <a:xfrm>
            <a:off x="6611760" y="3133800"/>
            <a:ext cx="74880" cy="936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45"/>
          <a:stretch/>
        </p:blipFill>
        <p:spPr>
          <a:xfrm>
            <a:off x="6686640" y="3133800"/>
            <a:ext cx="74520" cy="936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6"/>
          <a:stretch/>
        </p:blipFill>
        <p:spPr>
          <a:xfrm>
            <a:off x="6761160" y="3133800"/>
            <a:ext cx="76320" cy="9360"/>
          </a:xfrm>
          <a:prstGeom prst="rect">
            <a:avLst/>
          </a:prstGeom>
          <a:ln w="0">
            <a:noFill/>
          </a:ln>
        </p:spPr>
      </p:pic>
      <p:grpSp>
        <p:nvGrpSpPr>
          <p:cNvPr id="764" name=""/>
          <p:cNvGrpSpPr/>
          <p:nvPr/>
        </p:nvGrpSpPr>
        <p:grpSpPr>
          <a:xfrm>
            <a:off x="590760" y="1467000"/>
            <a:ext cx="8781840" cy="4876560"/>
            <a:chOff x="590760" y="1467000"/>
            <a:chExt cx="8781840" cy="4876560"/>
          </a:xfrm>
        </p:grpSpPr>
        <p:sp>
          <p:nvSpPr>
            <p:cNvPr id="765" name=""/>
            <p:cNvSpPr/>
            <p:nvPr/>
          </p:nvSpPr>
          <p:spPr>
            <a:xfrm>
              <a:off x="838080" y="1467000"/>
              <a:ext cx="8534520" cy="487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59280" y="21049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03920" y="210492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key pa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87080" y="2305080"/>
              <a:ext cx="48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(basi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21640" y="2038320"/>
              <a:ext cx="73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Non-bas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85800" y="2247840"/>
              <a:ext cx="38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pa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82920" y="1857240"/>
              <a:ext cx="54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satur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13880" y="2028960"/>
              <a:ext cx="24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r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61680" y="2209680"/>
              <a:ext cx="59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non-bas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49440" y="1866960"/>
              <a:ext cx="56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Nonke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238360" y="2076480"/>
              <a:ext cx="380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pa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198400" y="2276640"/>
              <a:ext cx="48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(basi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32440" y="1866960"/>
              <a:ext cx="860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NonSatura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189120" y="207648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r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23960" y="2276640"/>
              <a:ext cx="48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(basi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079640" y="2705040"/>
              <a:ext cx="67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Satu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239480" y="291456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r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82960" y="2523960"/>
              <a:ext cx="776160" cy="181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82960" y="2705040"/>
              <a:ext cx="776160" cy="3621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16240" y="2705040"/>
              <a:ext cx="30960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2395800" y="2703600"/>
              <a:ext cx="212400" cy="356760"/>
              <a:chOff x="2395800" y="2703600"/>
              <a:chExt cx="212400" cy="356760"/>
            </a:xfrm>
          </p:grpSpPr>
          <p:sp>
            <p:nvSpPr>
              <p:cNvPr id="786" name=""/>
              <p:cNvSpPr/>
              <p:nvPr/>
            </p:nvSpPr>
            <p:spPr>
              <a:xfrm>
                <a:off x="2544840" y="2747880"/>
                <a:ext cx="6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1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546280" y="2892600"/>
                <a:ext cx="5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1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395800" y="2703600"/>
                <a:ext cx="1850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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2082960" y="3067200"/>
              <a:ext cx="776160" cy="6660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05520" y="2886120"/>
              <a:ext cx="223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0" lang="pt-BR" sz="18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504960" y="285768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4476240" y="2639880"/>
              <a:ext cx="250920" cy="396360"/>
              <a:chOff x="4476240" y="2639880"/>
              <a:chExt cx="250920" cy="396360"/>
            </a:xfrm>
          </p:grpSpPr>
          <p:sp>
            <p:nvSpPr>
              <p:cNvPr id="793" name=""/>
              <p:cNvSpPr/>
              <p:nvPr/>
            </p:nvSpPr>
            <p:spPr>
              <a:xfrm>
                <a:off x="4616640" y="263988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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476240" y="263988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5002200" y="2523960"/>
              <a:ext cx="776160" cy="181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002200" y="2705040"/>
              <a:ext cx="776160" cy="343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189400" y="2705040"/>
              <a:ext cx="39384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5341320" y="2738520"/>
              <a:ext cx="207000" cy="303480"/>
              <a:chOff x="5341320" y="2738520"/>
              <a:chExt cx="207000" cy="303480"/>
            </a:xfrm>
          </p:grpSpPr>
          <p:sp>
            <p:nvSpPr>
              <p:cNvPr id="799" name=""/>
              <p:cNvSpPr/>
              <p:nvPr/>
            </p:nvSpPr>
            <p:spPr>
              <a:xfrm>
                <a:off x="5468760" y="2743200"/>
                <a:ext cx="66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91080" y="274464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494320" y="28893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341320" y="2738520"/>
                <a:ext cx="156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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5002200" y="3048120"/>
              <a:ext cx="776160" cy="856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88080" y="2523960"/>
              <a:ext cx="1049400" cy="181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88080" y="2695680"/>
              <a:ext cx="1049400" cy="342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53120" y="2695680"/>
              <a:ext cx="3096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11160" y="267012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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88080" y="3038400"/>
              <a:ext cx="1049400" cy="9540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63880" y="25052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63880" y="25052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82960" y="2505240"/>
              <a:ext cx="776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59120" y="25052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8200" y="2505240"/>
              <a:ext cx="3366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14800" y="25052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233880" y="2505240"/>
              <a:ext cx="4204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654360" y="25052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73440" y="2505240"/>
              <a:ext cx="51444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187880" y="25052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06960" y="2505240"/>
              <a:ext cx="67464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81600" y="2505240"/>
              <a:ext cx="17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881600" y="2505240"/>
              <a:ext cx="17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83120" y="25052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83120" y="25052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002200" y="2505240"/>
              <a:ext cx="776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78360" y="25052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797440" y="2505240"/>
              <a:ext cx="104004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37480" y="2505240"/>
              <a:ext cx="17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37480" y="2505240"/>
              <a:ext cx="17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07120" y="25052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107120" y="250524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26200" y="2505240"/>
              <a:ext cx="3286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54880" y="2505240"/>
              <a:ext cx="1764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454880" y="2505240"/>
              <a:ext cx="1764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63880" y="2523960"/>
              <a:ext cx="190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59120" y="2523960"/>
              <a:ext cx="190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87880" y="2523960"/>
              <a:ext cx="190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600" y="2523960"/>
              <a:ext cx="172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83120" y="2523960"/>
              <a:ext cx="190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9" name="" descr=""/>
            <p:cNvPicPr/>
            <p:nvPr/>
          </p:nvPicPr>
          <p:blipFill>
            <a:blip r:embed="rId47"/>
            <a:stretch/>
          </p:blipFill>
          <p:spPr>
            <a:xfrm>
              <a:off x="5778360" y="2523960"/>
              <a:ext cx="9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48"/>
            <a:stretch/>
          </p:blipFill>
          <p:spPr>
            <a:xfrm>
              <a:off x="5778360" y="2600280"/>
              <a:ext cx="9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49"/>
            <a:stretch/>
          </p:blipFill>
          <p:spPr>
            <a:xfrm>
              <a:off x="5778360" y="2676600"/>
              <a:ext cx="9720" cy="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50"/>
            <a:stretch/>
          </p:blipFill>
          <p:spPr>
            <a:xfrm>
              <a:off x="5778360" y="2752560"/>
              <a:ext cx="9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" descr=""/>
            <p:cNvPicPr/>
            <p:nvPr/>
          </p:nvPicPr>
          <p:blipFill>
            <a:blip r:embed="rId51"/>
            <a:stretch/>
          </p:blipFill>
          <p:spPr>
            <a:xfrm>
              <a:off x="5778360" y="2828880"/>
              <a:ext cx="9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52"/>
            <a:stretch/>
          </p:blipFill>
          <p:spPr>
            <a:xfrm>
              <a:off x="5778360" y="2905200"/>
              <a:ext cx="9720" cy="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53"/>
            <a:stretch/>
          </p:blipFill>
          <p:spPr>
            <a:xfrm>
              <a:off x="5778360" y="2981160"/>
              <a:ext cx="9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54"/>
            <a:stretch/>
          </p:blipFill>
          <p:spPr>
            <a:xfrm>
              <a:off x="5778360" y="3057480"/>
              <a:ext cx="9720" cy="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"/>
            <p:cNvSpPr/>
            <p:nvPr/>
          </p:nvSpPr>
          <p:spPr>
            <a:xfrm>
              <a:off x="6837480" y="2523960"/>
              <a:ext cx="172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107120" y="2523960"/>
              <a:ext cx="190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454880" y="2523960"/>
              <a:ext cx="1764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49920" y="315288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10000"/>
                  </a:solidFill>
                  <a:latin typeface="Times New Roman"/>
                </a:rPr>
                <a:t>N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079640" y="3352680"/>
              <a:ext cx="67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10000"/>
                  </a:solidFill>
                  <a:latin typeface="Times New Roman"/>
                </a:rPr>
                <a:t>Satur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239480" y="356220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10000"/>
                  </a:solidFill>
                  <a:latin typeface="Times New Roman"/>
                </a:rPr>
                <a:t>Ar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082960" y="3143160"/>
              <a:ext cx="776160" cy="181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82960" y="3314880"/>
              <a:ext cx="776160" cy="342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316240" y="3314880"/>
              <a:ext cx="31896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2404080" y="3332160"/>
              <a:ext cx="196200" cy="311400"/>
              <a:chOff x="2404080" y="3332160"/>
              <a:chExt cx="196200" cy="311400"/>
            </a:xfrm>
          </p:grpSpPr>
          <p:sp>
            <p:nvSpPr>
              <p:cNvPr id="857" name=""/>
              <p:cNvSpPr/>
              <p:nvPr/>
            </p:nvSpPr>
            <p:spPr>
              <a:xfrm>
                <a:off x="2527200" y="3519360"/>
                <a:ext cx="478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543040" y="33400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545560" y="349092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404080" y="3332160"/>
                <a:ext cx="166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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2082960" y="3657600"/>
              <a:ext cx="776160" cy="9540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11160" y="328608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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002200" y="3143160"/>
              <a:ext cx="776160" cy="181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02200" y="3324240"/>
              <a:ext cx="776160" cy="36180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89400" y="3324240"/>
              <a:ext cx="39384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5337000" y="3357720"/>
              <a:ext cx="208080" cy="314280"/>
              <a:chOff x="5337000" y="3357720"/>
              <a:chExt cx="208080" cy="314280"/>
            </a:xfrm>
          </p:grpSpPr>
          <p:sp>
            <p:nvSpPr>
              <p:cNvPr id="867" name=""/>
              <p:cNvSpPr/>
              <p:nvPr/>
            </p:nvSpPr>
            <p:spPr>
              <a:xfrm>
                <a:off x="5460840" y="3548160"/>
                <a:ext cx="60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68760" y="3363840"/>
                <a:ext cx="66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487840" y="3367080"/>
                <a:ext cx="57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491080" y="3519360"/>
                <a:ext cx="4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1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337000" y="3357720"/>
                <a:ext cx="166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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5002200" y="3686040"/>
              <a:ext cx="776160" cy="669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88080" y="3143160"/>
              <a:ext cx="1049400" cy="181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788080" y="3314880"/>
              <a:ext cx="1049400" cy="3045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91280" y="3314880"/>
              <a:ext cx="2332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6243840" y="3262320"/>
              <a:ext cx="205920" cy="366120"/>
              <a:chOff x="6243840" y="3262320"/>
              <a:chExt cx="205920" cy="366120"/>
            </a:xfrm>
          </p:grpSpPr>
          <p:sp>
            <p:nvSpPr>
              <p:cNvPr id="877" name=""/>
              <p:cNvSpPr/>
              <p:nvPr/>
            </p:nvSpPr>
            <p:spPr>
              <a:xfrm>
                <a:off x="6346800" y="32623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243840" y="32623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5788080" y="3619440"/>
              <a:ext cx="1049400" cy="1335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65640" y="31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10000"/>
                  </a:solidFill>
                  <a:latin typeface="Times New Roman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274880" y="3162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1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63880" y="313380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59120" y="313380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87880" y="313380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81600" y="313380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983120" y="313380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37480" y="3133800"/>
              <a:ext cx="17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07120" y="313380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54880" y="3133800"/>
              <a:ext cx="17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63880" y="3143160"/>
              <a:ext cx="190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9120" y="3143160"/>
              <a:ext cx="190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187880" y="3143160"/>
              <a:ext cx="190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81600" y="3143160"/>
              <a:ext cx="172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83120" y="3143160"/>
              <a:ext cx="190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5"/>
            <a:stretch/>
          </p:blipFill>
          <p:spPr>
            <a:xfrm>
              <a:off x="5778360" y="3143160"/>
              <a:ext cx="9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56"/>
            <a:stretch/>
          </p:blipFill>
          <p:spPr>
            <a:xfrm>
              <a:off x="5778360" y="3219480"/>
              <a:ext cx="9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57"/>
            <a:stretch/>
          </p:blipFill>
          <p:spPr>
            <a:xfrm>
              <a:off x="5778360" y="3295800"/>
              <a:ext cx="9720" cy="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58"/>
            <a:stretch/>
          </p:blipFill>
          <p:spPr>
            <a:xfrm>
              <a:off x="5778360" y="3371760"/>
              <a:ext cx="9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59"/>
            <a:stretch/>
          </p:blipFill>
          <p:spPr>
            <a:xfrm>
              <a:off x="5778360" y="3448080"/>
              <a:ext cx="9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60"/>
            <a:stretch/>
          </p:blipFill>
          <p:spPr>
            <a:xfrm>
              <a:off x="5778360" y="3524400"/>
              <a:ext cx="9720" cy="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61"/>
            <a:stretch/>
          </p:blipFill>
          <p:spPr>
            <a:xfrm>
              <a:off x="5778360" y="3600360"/>
              <a:ext cx="9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" descr=""/>
            <p:cNvPicPr/>
            <p:nvPr/>
          </p:nvPicPr>
          <p:blipFill>
            <a:blip r:embed="rId62"/>
            <a:stretch/>
          </p:blipFill>
          <p:spPr>
            <a:xfrm>
              <a:off x="5778360" y="3676680"/>
              <a:ext cx="9720" cy="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6837480" y="3143160"/>
              <a:ext cx="172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107120" y="3143160"/>
              <a:ext cx="1908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54880" y="3143160"/>
              <a:ext cx="17640" cy="60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6388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6388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82960" y="3753000"/>
              <a:ext cx="776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5912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878200" y="3753000"/>
              <a:ext cx="33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1480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33880" y="3753000"/>
              <a:ext cx="4204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6543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673440" y="3753000"/>
              <a:ext cx="5144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8788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06960" y="3753000"/>
              <a:ext cx="674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881600" y="375300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81600" y="375300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8312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98312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02200" y="3753000"/>
              <a:ext cx="776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7836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97440" y="3753000"/>
              <a:ext cx="10400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37480" y="375300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837480" y="3753000"/>
              <a:ext cx="17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10712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107120" y="37530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126200" y="3753000"/>
              <a:ext cx="3286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54880" y="3753000"/>
              <a:ext cx="17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54880" y="3753000"/>
              <a:ext cx="17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82960" y="3962520"/>
              <a:ext cx="776160" cy="180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02200" y="3962520"/>
              <a:ext cx="776160" cy="180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63880" y="39434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063880" y="39434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82960" y="3943440"/>
              <a:ext cx="776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59120" y="39434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78200" y="3943440"/>
              <a:ext cx="33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14800" y="39434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14800" y="39434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83120" y="39434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983120" y="39434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002200" y="3943440"/>
              <a:ext cx="776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778360" y="39434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778360" y="39434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07120" y="39434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7120" y="394344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26200" y="3943440"/>
              <a:ext cx="3286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54880" y="3943440"/>
              <a:ext cx="17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54880" y="3943440"/>
              <a:ext cx="17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063880" y="3962520"/>
              <a:ext cx="19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859120" y="3962520"/>
              <a:ext cx="19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14800" y="3962520"/>
              <a:ext cx="19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983120" y="3962520"/>
              <a:ext cx="19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778360" y="3962520"/>
              <a:ext cx="19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07120" y="3962520"/>
              <a:ext cx="19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454880" y="3962520"/>
              <a:ext cx="176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82960" y="4152960"/>
              <a:ext cx="776160" cy="181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896640" y="4152960"/>
              <a:ext cx="11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1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002200" y="4152960"/>
              <a:ext cx="776160" cy="181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063880" y="4133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82960" y="4133880"/>
              <a:ext cx="776160" cy="19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59120" y="4133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78200" y="4133880"/>
              <a:ext cx="3366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14800" y="4133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233880" y="4133880"/>
              <a:ext cx="4204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983120" y="4133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002200" y="4133880"/>
              <a:ext cx="776160" cy="19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778360" y="4133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07120" y="4133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454880" y="4133880"/>
              <a:ext cx="17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063880" y="4152960"/>
              <a:ext cx="19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859120" y="4152960"/>
              <a:ext cx="19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14800" y="4152960"/>
              <a:ext cx="19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983120" y="4152960"/>
              <a:ext cx="19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78360" y="4152960"/>
              <a:ext cx="19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07120" y="4152960"/>
              <a:ext cx="1908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54880" y="4152960"/>
              <a:ext cx="176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38880" y="4352760"/>
              <a:ext cx="966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10000"/>
                  </a:solidFill>
                  <a:latin typeface="Times New Roman"/>
                </a:rPr>
                <a:t>Commod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82960" y="4343400"/>
              <a:ext cx="776160" cy="2858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335320" y="4343400"/>
              <a:ext cx="2808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42320" y="42940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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82960" y="4629240"/>
              <a:ext cx="776160" cy="95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371040" y="4352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514680" y="432432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10000"/>
                  </a:solidFill>
                  <a:latin typeface="Times New Roman"/>
                </a:rPr>
                <a:t>J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02200" y="4343400"/>
              <a:ext cx="776160" cy="2667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43480" y="43624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1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002200" y="4610160"/>
              <a:ext cx="776160" cy="1141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965640" y="434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10000"/>
                  </a:solidFill>
                  <a:latin typeface="Times New Roman"/>
                </a:rPr>
                <a:t>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64080" y="4362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1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63880" y="4324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82960" y="4324320"/>
              <a:ext cx="776160" cy="19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59120" y="4324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14800" y="4324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14800" y="4324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33880" y="4324320"/>
              <a:ext cx="4204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983120" y="4324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002200" y="4324320"/>
              <a:ext cx="776160" cy="19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78360" y="4324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107120" y="43243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454880" y="4324320"/>
              <a:ext cx="17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063880" y="4343400"/>
              <a:ext cx="1908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59120" y="4343400"/>
              <a:ext cx="1908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983120" y="4343400"/>
              <a:ext cx="1908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778360" y="4343400"/>
              <a:ext cx="1908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107120" y="4343400"/>
              <a:ext cx="1908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454880" y="4343400"/>
              <a:ext cx="1764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082960" y="4743360"/>
              <a:ext cx="776160" cy="181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409560" y="4743360"/>
              <a:ext cx="11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1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002200" y="4743360"/>
              <a:ext cx="776160" cy="181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63880" y="4724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082960" y="4724280"/>
              <a:ext cx="776160" cy="19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59120" y="4724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654360" y="4724280"/>
              <a:ext cx="533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187880" y="4724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87880" y="4724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983120" y="4724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02200" y="4724280"/>
              <a:ext cx="776160" cy="19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778360" y="4724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107120" y="47242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454880" y="4724280"/>
              <a:ext cx="17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063880" y="4743360"/>
              <a:ext cx="1908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063880" y="49150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63880" y="49150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082960" y="4915080"/>
              <a:ext cx="776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859120" y="4743360"/>
              <a:ext cx="1908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59120" y="49150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859120" y="49150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654360" y="4915080"/>
              <a:ext cx="533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87880" y="4743360"/>
              <a:ext cx="1908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87880" y="49150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87880" y="49150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983120" y="4743360"/>
              <a:ext cx="1908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983120" y="49150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983120" y="49150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02200" y="4915080"/>
              <a:ext cx="776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78360" y="4743360"/>
              <a:ext cx="1908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78360" y="49150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78360" y="49150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07120" y="4743360"/>
              <a:ext cx="1908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07120" y="49150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07120" y="49150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26200" y="4915080"/>
              <a:ext cx="3286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454880" y="4743360"/>
              <a:ext cx="1764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454880" y="4915080"/>
              <a:ext cx="1764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4880" y="4915080"/>
              <a:ext cx="1764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0760" y="5181480"/>
              <a:ext cx="639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10000"/>
                  </a:solidFill>
                  <a:latin typeface="Times New Roman"/>
                </a:rPr>
                <a:t>                                                        </a:t>
              </a:r>
              <a:r>
                <a:rPr b="0" lang="pt-BR" sz="1200" spc="-1" strike="noStrike">
                  <a:solidFill>
                    <a:srgbClr val="010000"/>
                  </a:solidFill>
                  <a:latin typeface="Times New Roman"/>
                </a:rPr>
                <a:t>MATRIX PARTITIONING FOR THE ARC-PATH MCMF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93440" y="5505480"/>
              <a:ext cx="24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10000"/>
                  </a:solidFill>
                  <a:latin typeface="Times New Roman"/>
                </a:rPr>
                <a:t>                                                                           </a:t>
              </a:r>
              <a:r>
                <a:rPr b="0" lang="pt-BR" sz="1000" spc="-1" strike="noStrike">
                  <a:solidFill>
                    <a:srgbClr val="010000"/>
                  </a:solidFill>
                  <a:latin typeface="Times New Roman"/>
                </a:rPr>
                <a:t>-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08760" y="5477040"/>
              <a:ext cx="197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10000"/>
                  </a:solidFill>
                  <a:latin typeface="Times New Roman"/>
                </a:rPr>
                <a:t>DARKENED PARTS – BASI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06760" y="543888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0000"/>
                  </a:solidFill>
                  <a:latin typeface="Times New Roman"/>
                </a:rPr>
                <a:t>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57960" y="5477040"/>
              <a:ext cx="75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10000"/>
                  </a:solidFill>
                  <a:latin typeface="Times New Roman"/>
                </a:rPr>
                <a:t>(SIMPLEX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19440" y="5400720"/>
              <a:ext cx="458640" cy="285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20040" y="2505240"/>
              <a:ext cx="177840" cy="1276200"/>
            </a:xfrm>
            <a:custGeom>
              <a:avLst/>
              <a:gdLst/>
              <a:ahLst/>
              <a:rect l="l" t="t" r="r" b="b"/>
              <a:pathLst>
                <a:path w="112" h="804">
                  <a:moveTo>
                    <a:pt x="0" y="0"/>
                  </a:moveTo>
                  <a:lnTo>
                    <a:pt x="23" y="6"/>
                  </a:lnTo>
                  <a:lnTo>
                    <a:pt x="35" y="18"/>
                  </a:lnTo>
                  <a:lnTo>
                    <a:pt x="47" y="42"/>
                  </a:lnTo>
                  <a:lnTo>
                    <a:pt x="53" y="66"/>
                  </a:lnTo>
                  <a:lnTo>
                    <a:pt x="53" y="336"/>
                  </a:lnTo>
                  <a:lnTo>
                    <a:pt x="59" y="360"/>
                  </a:lnTo>
                  <a:lnTo>
                    <a:pt x="71" y="384"/>
                  </a:lnTo>
                  <a:lnTo>
                    <a:pt x="88" y="396"/>
                  </a:lnTo>
                  <a:lnTo>
                    <a:pt x="112" y="402"/>
                  </a:lnTo>
                  <a:lnTo>
                    <a:pt x="88" y="408"/>
                  </a:lnTo>
                  <a:lnTo>
                    <a:pt x="71" y="420"/>
                  </a:lnTo>
                  <a:lnTo>
                    <a:pt x="59" y="444"/>
                  </a:lnTo>
                  <a:lnTo>
                    <a:pt x="53" y="468"/>
                  </a:lnTo>
                  <a:lnTo>
                    <a:pt x="53" y="738"/>
                  </a:lnTo>
                  <a:lnTo>
                    <a:pt x="47" y="762"/>
                  </a:lnTo>
                  <a:lnTo>
                    <a:pt x="35" y="786"/>
                  </a:lnTo>
                  <a:lnTo>
                    <a:pt x="23" y="798"/>
                  </a:lnTo>
                  <a:lnTo>
                    <a:pt x="0" y="8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510320" y="2962440"/>
              <a:ext cx="11322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36320" y="301932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830720" y="3038400"/>
              <a:ext cx="14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974720" y="303840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650000" y="325764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50600" y="3257640"/>
              <a:ext cx="19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o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155800" y="325764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ar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753320" y="4152960"/>
              <a:ext cx="1619280" cy="72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872840" y="42004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027280" y="4219560"/>
              <a:ext cx="14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173440" y="421956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numb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744400" y="421956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883280" y="4438800"/>
              <a:ext cx="30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193960" y="4438800"/>
              <a:ext cx="92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commod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20040" y="39625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0" y="0"/>
                  </a:moveTo>
                  <a:lnTo>
                    <a:pt x="23" y="6"/>
                  </a:lnTo>
                  <a:lnTo>
                    <a:pt x="35" y="18"/>
                  </a:lnTo>
                  <a:lnTo>
                    <a:pt x="47" y="36"/>
                  </a:lnTo>
                  <a:lnTo>
                    <a:pt x="53" y="54"/>
                  </a:lnTo>
                  <a:lnTo>
                    <a:pt x="53" y="252"/>
                  </a:lnTo>
                  <a:lnTo>
                    <a:pt x="59" y="270"/>
                  </a:lnTo>
                  <a:lnTo>
                    <a:pt x="71" y="288"/>
                  </a:lnTo>
                  <a:lnTo>
                    <a:pt x="88" y="294"/>
                  </a:lnTo>
                  <a:lnTo>
                    <a:pt x="112" y="300"/>
                  </a:lnTo>
                  <a:lnTo>
                    <a:pt x="88" y="306"/>
                  </a:lnTo>
                  <a:lnTo>
                    <a:pt x="71" y="318"/>
                  </a:lnTo>
                  <a:lnTo>
                    <a:pt x="59" y="330"/>
                  </a:lnTo>
                  <a:lnTo>
                    <a:pt x="53" y="348"/>
                  </a:lnTo>
                  <a:lnTo>
                    <a:pt x="53" y="552"/>
                  </a:lnTo>
                  <a:lnTo>
                    <a:pt x="47" y="570"/>
                  </a:lnTo>
                  <a:lnTo>
                    <a:pt x="35" y="588"/>
                  </a:lnTo>
                  <a:lnTo>
                    <a:pt x="23" y="594"/>
                  </a:ln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44920" y="5772240"/>
              <a:ext cx="377028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731680" y="5867280"/>
              <a:ext cx="139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SIZE OF THE BASI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46120" y="582948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333680" y="585792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= 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536000" y="5857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68120" y="585792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844160" y="585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942800" y="5857920"/>
              <a:ext cx="34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)  x 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75800" y="5857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398560" y="585792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583960" y="58579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678280" y="58579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mportant Concep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ed arc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used up to the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 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dities that had been split among two or more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key-route per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ed after subtracting key column from non-key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itioning of the bas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83" name=""/>
          <p:cNvGraphicFramePr/>
          <p:nvPr/>
        </p:nvGraphicFramePr>
        <p:xfrm>
          <a:off x="1295280" y="1523880"/>
          <a:ext cx="8020080" cy="46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802008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17324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artitioning Bas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1257480" y="990720"/>
          <a:ext cx="7886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990720"/>
                    <a:ext cx="7886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8" name=""/>
          <p:cNvSpPr/>
          <p:nvPr/>
        </p:nvSpPr>
        <p:spPr>
          <a:xfrm>
            <a:off x="2057400" y="65530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6781680" y="1676520"/>
                <a:ext cx="23623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0" name=""/>
          <p:cNvSpPr/>
          <p:nvPr/>
        </p:nvSpPr>
        <p:spPr>
          <a:xfrm flipH="1">
            <a:off x="5181120" y="1905120"/>
            <a:ext cx="167652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atrix Q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62520" y="1219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095720" y="3009960"/>
            <a:ext cx="2438280" cy="2066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943440" y="24764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, 2, ..., j, ....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3048120" y="1447920"/>
            <a:ext cx="4324320" cy="1104840"/>
            <a:chOff x="3048120" y="1447920"/>
            <a:chExt cx="4324320" cy="1104840"/>
          </a:xfrm>
        </p:grpSpPr>
        <mc:AlternateContent>
          <mc:Choice xmlns:a14="http://schemas.microsoft.com/office/drawing/2010/main" Requires="a14">
            <p:sp>
              <p:nvSpPr>
                <p:cNvPr id="1096" name=""/>
                <p:cNvSpPr txBox="1"/>
                <p:nvPr/>
              </p:nvSpPr>
              <p:spPr>
                <a:xfrm>
                  <a:off x="3048120" y="1447920"/>
                  <a:ext cx="4324320" cy="65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NonKey</m:t>
                          </m:r>
                          <m:r>
                            <m:t xml:space="preserve">[</m:t>
                          </m:r>
                          <m:r>
                            <m:t xml:space="preserve">j</m:t>
                          </m:r>
                          <m:r>
                            <m:t xml:space="preserve">]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Key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onKey</m:t>
                          </m:r>
                          <m:r>
                            <m:t xml:space="preserve">[</m:t>
                          </m:r>
                          <m:r>
                            <m:t xml:space="preserve">j</m:t>
                          </m:r>
                          <m:r>
                            <m:t xml:space="preserve">]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7" name=""/>
            <p:cNvSpPr/>
            <p:nvPr/>
          </p:nvSpPr>
          <p:spPr>
            <a:xfrm rot="16200000">
              <a:off x="5105160" y="75600"/>
              <a:ext cx="228600" cy="4191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19640" y="2247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6438960" y="3009960"/>
            <a:ext cx="762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[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048120" y="3733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057400" y="5791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he elements of Q are {-1, 0, 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.1 - Traditional GUB Approa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647640" y="1295280"/>
          <a:ext cx="8153640" cy="520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295280"/>
                    <a:ext cx="81536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.1 - Traditional GUB Approa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basis size = number of arcs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-2743200" y="914400"/>
            <a:ext cx="2133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a do particionamento do GUB, com indicações das dimensões (aquela figura II-2, com mais texto explicativo sobre as dimensões horizontais; também acrescentar uma animação (piscando) de qual parte é a base de trabalh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2054160" y="3276720"/>
            <a:ext cx="5397480" cy="2814480"/>
            <a:chOff x="2054160" y="3276720"/>
            <a:chExt cx="5397480" cy="2814480"/>
          </a:xfrm>
        </p:grpSpPr>
        <p:sp>
          <p:nvSpPr>
            <p:cNvPr id="1109" name=""/>
            <p:cNvSpPr/>
            <p:nvPr/>
          </p:nvSpPr>
          <p:spPr>
            <a:xfrm>
              <a:off x="2054160" y="3276720"/>
              <a:ext cx="549360" cy="7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03200" y="3322800"/>
              <a:ext cx="36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55400" y="38257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s/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" name=""/>
            <p:cNvGrpSpPr/>
            <p:nvPr/>
          </p:nvGrpSpPr>
          <p:grpSpPr>
            <a:xfrm>
              <a:off x="2876400" y="3276720"/>
              <a:ext cx="2289240" cy="277560"/>
              <a:chOff x="2876400" y="3276720"/>
              <a:chExt cx="2289240" cy="277560"/>
            </a:xfrm>
          </p:grpSpPr>
          <p:grpSp>
            <p:nvGrpSpPr>
              <p:cNvPr id="1113" name=""/>
              <p:cNvGrpSpPr/>
              <p:nvPr/>
            </p:nvGrpSpPr>
            <p:grpSpPr>
              <a:xfrm>
                <a:off x="2876400" y="3276720"/>
                <a:ext cx="2289240" cy="277560"/>
                <a:chOff x="2876400" y="3276720"/>
                <a:chExt cx="2289240" cy="27756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2876400" y="3276720"/>
                  <a:ext cx="2286000" cy="27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2876400" y="3276720"/>
                  <a:ext cx="2286000" cy="27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2876400" y="3276720"/>
                  <a:ext cx="2289240" cy="2775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2876400" y="3276720"/>
                  <a:ext cx="2286000" cy="27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>
                <a:off x="2876400" y="3276720"/>
                <a:ext cx="2289240" cy="27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4319280" y="3327480"/>
              <a:ext cx="38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33600" y="3276720"/>
              <a:ext cx="18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975120" y="3276720"/>
              <a:ext cx="144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522680" y="3276720"/>
              <a:ext cx="18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797360" y="3276720"/>
              <a:ext cx="18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2876400" y="4008600"/>
              <a:ext cx="2289240" cy="825480"/>
              <a:chOff x="2876400" y="4008600"/>
              <a:chExt cx="2289240" cy="825480"/>
            </a:xfrm>
          </p:grpSpPr>
          <p:grpSp>
            <p:nvGrpSpPr>
              <p:cNvPr id="1125" name=""/>
              <p:cNvGrpSpPr/>
              <p:nvPr/>
            </p:nvGrpSpPr>
            <p:grpSpPr>
              <a:xfrm>
                <a:off x="2876400" y="4008600"/>
                <a:ext cx="2289240" cy="825480"/>
                <a:chOff x="2876400" y="4008600"/>
                <a:chExt cx="2289240" cy="82548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2876400" y="4008600"/>
                  <a:ext cx="2286000" cy="82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2876400" y="4008600"/>
                  <a:ext cx="2286000" cy="82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2876400" y="4008600"/>
                  <a:ext cx="2289240" cy="8254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876400" y="4008600"/>
                  <a:ext cx="2286000" cy="82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0" name=""/>
              <p:cNvSpPr/>
              <p:nvPr/>
            </p:nvSpPr>
            <p:spPr>
              <a:xfrm>
                <a:off x="2876400" y="4008600"/>
                <a:ext cx="22892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1" name=""/>
            <p:cNvSpPr/>
            <p:nvPr/>
          </p:nvSpPr>
          <p:spPr>
            <a:xfrm>
              <a:off x="3333600" y="4008600"/>
              <a:ext cx="180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975120" y="4008600"/>
              <a:ext cx="144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522680" y="4008600"/>
              <a:ext cx="180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797360" y="4008600"/>
              <a:ext cx="180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2876400" y="4923000"/>
              <a:ext cx="460440" cy="185400"/>
              <a:chOff x="2876400" y="4923000"/>
              <a:chExt cx="460440" cy="185400"/>
            </a:xfrm>
          </p:grpSpPr>
          <p:grpSp>
            <p:nvGrpSpPr>
              <p:cNvPr id="1136" name=""/>
              <p:cNvGrpSpPr/>
              <p:nvPr/>
            </p:nvGrpSpPr>
            <p:grpSpPr>
              <a:xfrm>
                <a:off x="2876400" y="4923000"/>
                <a:ext cx="460440" cy="185400"/>
                <a:chOff x="2876400" y="4923000"/>
                <a:chExt cx="460440" cy="18540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2876400" y="4923000"/>
                  <a:ext cx="457200" cy="182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876400" y="4923000"/>
                  <a:ext cx="457200" cy="182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876400" y="4923000"/>
                  <a:ext cx="460440" cy="1854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876400" y="4923000"/>
                  <a:ext cx="457200" cy="182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2876400" y="4923000"/>
                <a:ext cx="460440" cy="18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3333600" y="5105520"/>
              <a:ext cx="644760" cy="185760"/>
              <a:chOff x="3333600" y="5105520"/>
              <a:chExt cx="644760" cy="185760"/>
            </a:xfrm>
          </p:grpSpPr>
          <p:grpSp>
            <p:nvGrpSpPr>
              <p:cNvPr id="1143" name=""/>
              <p:cNvGrpSpPr/>
              <p:nvPr/>
            </p:nvGrpSpPr>
            <p:grpSpPr>
              <a:xfrm>
                <a:off x="3333600" y="5105520"/>
                <a:ext cx="644760" cy="185760"/>
                <a:chOff x="3333600" y="5105520"/>
                <a:chExt cx="644760" cy="18576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3333600" y="5105520"/>
                  <a:ext cx="641520" cy="18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333600" y="5105520"/>
                  <a:ext cx="641520" cy="18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333600" y="5105520"/>
                  <a:ext cx="644760" cy="1857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333600" y="5105520"/>
                  <a:ext cx="641520" cy="1825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3333600" y="5105520"/>
                <a:ext cx="644760" cy="185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3975120" y="5288040"/>
              <a:ext cx="550800" cy="187200"/>
              <a:chOff x="3975120" y="5288040"/>
              <a:chExt cx="550800" cy="187200"/>
            </a:xfrm>
          </p:grpSpPr>
          <p:grpSp>
            <p:nvGrpSpPr>
              <p:cNvPr id="1150" name=""/>
              <p:cNvGrpSpPr/>
              <p:nvPr/>
            </p:nvGrpSpPr>
            <p:grpSpPr>
              <a:xfrm>
                <a:off x="3975120" y="5288040"/>
                <a:ext cx="550800" cy="187200"/>
                <a:chOff x="3975120" y="5288040"/>
                <a:chExt cx="550800" cy="18720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3975120" y="5288040"/>
                  <a:ext cx="547560" cy="18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975120" y="5288040"/>
                  <a:ext cx="547560" cy="18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975120" y="5288040"/>
                  <a:ext cx="550800" cy="1872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975120" y="5288040"/>
                  <a:ext cx="547560" cy="18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5" name=""/>
              <p:cNvSpPr/>
              <p:nvPr/>
            </p:nvSpPr>
            <p:spPr>
              <a:xfrm>
                <a:off x="3975120" y="5288040"/>
                <a:ext cx="550800" cy="18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6" name=""/>
            <p:cNvSpPr/>
            <p:nvPr/>
          </p:nvSpPr>
          <p:spPr>
            <a:xfrm>
              <a:off x="4522680" y="5472000"/>
              <a:ext cx="45720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614120" y="551664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4797360" y="5745240"/>
              <a:ext cx="368280" cy="187200"/>
              <a:chOff x="4797360" y="5745240"/>
              <a:chExt cx="368280" cy="187200"/>
            </a:xfrm>
          </p:grpSpPr>
          <p:grpSp>
            <p:nvGrpSpPr>
              <p:cNvPr id="1159" name=""/>
              <p:cNvGrpSpPr/>
              <p:nvPr/>
            </p:nvGrpSpPr>
            <p:grpSpPr>
              <a:xfrm>
                <a:off x="4797360" y="5745240"/>
                <a:ext cx="368280" cy="187200"/>
                <a:chOff x="4797360" y="5745240"/>
                <a:chExt cx="368280" cy="18720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4797360" y="5745240"/>
                  <a:ext cx="365040" cy="18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797360" y="5745240"/>
                  <a:ext cx="365040" cy="18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797360" y="5745240"/>
                  <a:ext cx="368280" cy="1872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797360" y="5745240"/>
                  <a:ext cx="365040" cy="18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4" name=""/>
              <p:cNvSpPr/>
              <p:nvPr/>
            </p:nvSpPr>
            <p:spPr>
              <a:xfrm>
                <a:off x="4797360" y="5745240"/>
                <a:ext cx="368280" cy="18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2874960" y="5102280"/>
              <a:ext cx="7920" cy="830160"/>
              <a:chOff x="2874960" y="5102280"/>
              <a:chExt cx="7920" cy="830160"/>
            </a:xfrm>
          </p:grpSpPr>
          <p:sp>
            <p:nvSpPr>
              <p:cNvPr id="1166" name=""/>
              <p:cNvSpPr/>
              <p:nvPr/>
            </p:nvSpPr>
            <p:spPr>
              <a:xfrm>
                <a:off x="2874960" y="5102280"/>
                <a:ext cx="7920" cy="79560"/>
              </a:xfrm>
              <a:custGeom>
                <a:avLst/>
                <a:gdLst/>
                <a:ahLst/>
                <a:rect l="l" t="t" r="r" b="b"/>
                <a:pathLst>
                  <a:path w="5" h="50">
                    <a:moveTo>
                      <a:pt x="5" y="4"/>
                    </a:move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48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874960" y="5200920"/>
                <a:ext cx="7920" cy="82440"/>
              </a:xfrm>
              <a:custGeom>
                <a:avLst/>
                <a:gdLst/>
                <a:ahLst/>
                <a:rect l="l" t="t" r="r" b="b"/>
                <a:pathLst>
                  <a:path w="5" h="52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5" y="5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874960" y="5300640"/>
                <a:ext cx="7920" cy="82800"/>
              </a:xfrm>
              <a:custGeom>
                <a:avLst/>
                <a:gdLst/>
                <a:ahLst/>
                <a:rect l="l" t="t" r="r" b="b"/>
                <a:pathLst>
                  <a:path w="5" h="52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5" y="5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874960" y="5400720"/>
                <a:ext cx="7920" cy="82440"/>
              </a:xfrm>
              <a:custGeom>
                <a:avLst/>
                <a:gdLst/>
                <a:ahLst/>
                <a:rect l="l" t="t" r="r" b="b"/>
                <a:pathLst>
                  <a:path w="5" h="52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5" y="5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874960" y="5502240"/>
                <a:ext cx="7920" cy="82800"/>
              </a:xfrm>
              <a:custGeom>
                <a:avLst/>
                <a:gdLst/>
                <a:ahLst/>
                <a:rect l="l" t="t" r="r" b="b"/>
                <a:pathLst>
                  <a:path w="5" h="52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5" y="5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874960" y="5602320"/>
                <a:ext cx="7920" cy="82800"/>
              </a:xfrm>
              <a:custGeom>
                <a:avLst/>
                <a:gdLst/>
                <a:ahLst/>
                <a:rect l="l" t="t" r="r" b="b"/>
                <a:pathLst>
                  <a:path w="5" h="52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5" y="5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874960" y="5703840"/>
                <a:ext cx="7920" cy="81000"/>
              </a:xfrm>
              <a:custGeom>
                <a:avLst/>
                <a:gdLst/>
                <a:ahLst/>
                <a:rect l="l" t="t" r="r" b="b"/>
                <a:pathLst>
                  <a:path w="5" h="51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1" y="51"/>
                    </a:lnTo>
                    <a:lnTo>
                      <a:pt x="3" y="51"/>
                    </a:lnTo>
                    <a:lnTo>
                      <a:pt x="5" y="5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874960" y="5803920"/>
                <a:ext cx="7920" cy="82800"/>
              </a:xfrm>
              <a:custGeom>
                <a:avLst/>
                <a:gdLst/>
                <a:ahLst/>
                <a:rect l="l" t="t" r="r" b="b"/>
                <a:pathLst>
                  <a:path w="5" h="52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5" y="5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874960" y="590400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5" y="18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5159520" y="4919760"/>
              <a:ext cx="9360" cy="828720"/>
              <a:chOff x="5159520" y="4919760"/>
              <a:chExt cx="9360" cy="828720"/>
            </a:xfrm>
          </p:grpSpPr>
          <p:sp>
            <p:nvSpPr>
              <p:cNvPr id="1176" name=""/>
              <p:cNvSpPr/>
              <p:nvPr/>
            </p:nvSpPr>
            <p:spPr>
              <a:xfrm>
                <a:off x="5159520" y="4919760"/>
                <a:ext cx="9360" cy="7956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4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6" y="48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159520" y="5016600"/>
                <a:ext cx="9360" cy="8244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6" y="50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159520" y="5118120"/>
                <a:ext cx="9360" cy="8280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6" y="50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159520" y="5218200"/>
                <a:ext cx="9360" cy="8244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6" y="50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159520" y="5319720"/>
                <a:ext cx="9360" cy="810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159520" y="5419800"/>
                <a:ext cx="9360" cy="8244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6" y="50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159520" y="5519880"/>
                <a:ext cx="9360" cy="8244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6" y="50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59520" y="5621400"/>
                <a:ext cx="9360" cy="82440"/>
              </a:xfrm>
              <a:custGeom>
                <a:avLst/>
                <a:gdLst/>
                <a:ahLst/>
                <a:rect l="l" t="t" r="r" b="b"/>
                <a:pathLst>
                  <a:path w="6" h="52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6" y="50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159520" y="572148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6" y="1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5254560" y="4008600"/>
              <a:ext cx="825480" cy="825480"/>
              <a:chOff x="5254560" y="4008600"/>
              <a:chExt cx="825480" cy="825480"/>
            </a:xfrm>
          </p:grpSpPr>
          <p:grpSp>
            <p:nvGrpSpPr>
              <p:cNvPr id="1186" name=""/>
              <p:cNvGrpSpPr/>
              <p:nvPr/>
            </p:nvGrpSpPr>
            <p:grpSpPr>
              <a:xfrm>
                <a:off x="5254560" y="4008600"/>
                <a:ext cx="825480" cy="825480"/>
                <a:chOff x="5254560" y="4008600"/>
                <a:chExt cx="825480" cy="825480"/>
              </a:xfrm>
            </p:grpSpPr>
            <p:grpSp>
              <p:nvGrpSpPr>
                <p:cNvPr id="1187" name=""/>
                <p:cNvGrpSpPr/>
                <p:nvPr/>
              </p:nvGrpSpPr>
              <p:grpSpPr>
                <a:xfrm>
                  <a:off x="5254560" y="4008600"/>
                  <a:ext cx="825480" cy="825480"/>
                  <a:chOff x="5254560" y="4008600"/>
                  <a:chExt cx="825480" cy="825480"/>
                </a:xfrm>
              </p:grpSpPr>
              <p:sp>
                <p:nvSpPr>
                  <p:cNvPr id="1188" name=""/>
                  <p:cNvSpPr/>
                  <p:nvPr/>
                </p:nvSpPr>
                <p:spPr>
                  <a:xfrm>
                    <a:off x="5254560" y="4008600"/>
                    <a:ext cx="822240" cy="82224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5254560" y="4008600"/>
                    <a:ext cx="822240" cy="82224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5254560" y="4008600"/>
                    <a:ext cx="825480" cy="8254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5254560" y="4008600"/>
                    <a:ext cx="822240" cy="82224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2" name=""/>
                <p:cNvSpPr/>
                <p:nvPr/>
              </p:nvSpPr>
              <p:spPr>
                <a:xfrm>
                  <a:off x="5254560" y="4008600"/>
                  <a:ext cx="825480" cy="8254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3" name=""/>
              <p:cNvSpPr/>
              <p:nvPr/>
            </p:nvSpPr>
            <p:spPr>
              <a:xfrm>
                <a:off x="5557680" y="4260960"/>
                <a:ext cx="235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- 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4" name=""/>
            <p:cNvSpPr/>
            <p:nvPr/>
          </p:nvSpPr>
          <p:spPr>
            <a:xfrm>
              <a:off x="6991200" y="4191120"/>
              <a:ext cx="274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086240" y="423720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991200" y="5288040"/>
              <a:ext cx="274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086240" y="533412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7265880" y="4008600"/>
              <a:ext cx="185760" cy="825480"/>
              <a:chOff x="7265880" y="4008600"/>
              <a:chExt cx="185760" cy="825480"/>
            </a:xfrm>
          </p:grpSpPr>
          <p:grpSp>
            <p:nvGrpSpPr>
              <p:cNvPr id="1199" name=""/>
              <p:cNvGrpSpPr/>
              <p:nvPr/>
            </p:nvGrpSpPr>
            <p:grpSpPr>
              <a:xfrm>
                <a:off x="7265880" y="4008600"/>
                <a:ext cx="185760" cy="825480"/>
                <a:chOff x="7265880" y="4008600"/>
                <a:chExt cx="185760" cy="82548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7265880" y="4008600"/>
                  <a:ext cx="182520" cy="82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7265880" y="4008600"/>
                  <a:ext cx="182520" cy="82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7265880" y="4008600"/>
                  <a:ext cx="185760" cy="82548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7265880" y="4008600"/>
                  <a:ext cx="182520" cy="82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4" name=""/>
              <p:cNvSpPr/>
              <p:nvPr/>
            </p:nvSpPr>
            <p:spPr>
              <a:xfrm>
                <a:off x="7265880" y="4008600"/>
                <a:ext cx="1857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265880" y="4923000"/>
              <a:ext cx="185760" cy="1009440"/>
              <a:chOff x="7265880" y="4923000"/>
              <a:chExt cx="185760" cy="1009440"/>
            </a:xfrm>
          </p:grpSpPr>
          <p:grpSp>
            <p:nvGrpSpPr>
              <p:cNvPr id="1206" name=""/>
              <p:cNvGrpSpPr/>
              <p:nvPr/>
            </p:nvGrpSpPr>
            <p:grpSpPr>
              <a:xfrm>
                <a:off x="7265880" y="4923000"/>
                <a:ext cx="185760" cy="1009440"/>
                <a:chOff x="7265880" y="4923000"/>
                <a:chExt cx="185760" cy="100944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7265880" y="4923000"/>
                  <a:ext cx="182520" cy="1006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7265880" y="4923000"/>
                  <a:ext cx="182520" cy="1006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7265880" y="4923000"/>
                  <a:ext cx="185760" cy="10094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7265880" y="4923000"/>
                  <a:ext cx="182520" cy="1006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1" name=""/>
              <p:cNvSpPr/>
              <p:nvPr/>
            </p:nvSpPr>
            <p:spPr>
              <a:xfrm>
                <a:off x="7265880" y="4923000"/>
                <a:ext cx="185760" cy="1009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2" name=""/>
            <p:cNvSpPr/>
            <p:nvPr/>
          </p:nvSpPr>
          <p:spPr>
            <a:xfrm>
              <a:off x="2419200" y="4191120"/>
              <a:ext cx="3668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16200000">
              <a:off x="2314800" y="4319640"/>
              <a:ext cx="36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ar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19200" y="4923000"/>
              <a:ext cx="36684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16200000">
              <a:off x="1937160" y="5361480"/>
              <a:ext cx="1184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mmod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693880" y="4923000"/>
              <a:ext cx="92160" cy="1006200"/>
            </a:xfrm>
            <a:custGeom>
              <a:avLst/>
              <a:gdLst/>
              <a:ahLst/>
              <a:rect l="l" t="t" r="r" b="b"/>
              <a:pathLst>
                <a:path w="58" h="634">
                  <a:moveTo>
                    <a:pt x="58" y="0"/>
                  </a:moveTo>
                  <a:lnTo>
                    <a:pt x="52" y="2"/>
                  </a:lnTo>
                  <a:lnTo>
                    <a:pt x="46" y="4"/>
                  </a:lnTo>
                  <a:lnTo>
                    <a:pt x="39" y="15"/>
                  </a:lnTo>
                  <a:lnTo>
                    <a:pt x="31" y="31"/>
                  </a:lnTo>
                  <a:lnTo>
                    <a:pt x="29" y="52"/>
                  </a:lnTo>
                  <a:lnTo>
                    <a:pt x="29" y="263"/>
                  </a:lnTo>
                  <a:lnTo>
                    <a:pt x="27" y="284"/>
                  </a:lnTo>
                  <a:lnTo>
                    <a:pt x="21" y="301"/>
                  </a:lnTo>
                  <a:lnTo>
                    <a:pt x="12" y="313"/>
                  </a:lnTo>
                  <a:lnTo>
                    <a:pt x="6" y="315"/>
                  </a:lnTo>
                  <a:lnTo>
                    <a:pt x="0" y="317"/>
                  </a:lnTo>
                  <a:lnTo>
                    <a:pt x="6" y="319"/>
                  </a:lnTo>
                  <a:lnTo>
                    <a:pt x="12" y="321"/>
                  </a:lnTo>
                  <a:lnTo>
                    <a:pt x="21" y="332"/>
                  </a:lnTo>
                  <a:lnTo>
                    <a:pt x="27" y="348"/>
                  </a:lnTo>
                  <a:lnTo>
                    <a:pt x="29" y="369"/>
                  </a:lnTo>
                  <a:lnTo>
                    <a:pt x="29" y="580"/>
                  </a:lnTo>
                  <a:lnTo>
                    <a:pt x="31" y="601"/>
                  </a:lnTo>
                  <a:lnTo>
                    <a:pt x="39" y="618"/>
                  </a:lnTo>
                  <a:lnTo>
                    <a:pt x="46" y="630"/>
                  </a:lnTo>
                  <a:lnTo>
                    <a:pt x="52" y="632"/>
                  </a:lnTo>
                  <a:lnTo>
                    <a:pt x="58" y="6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93880" y="4008600"/>
              <a:ext cx="92160" cy="822240"/>
            </a:xfrm>
            <a:custGeom>
              <a:avLst/>
              <a:gdLst/>
              <a:ahLst/>
              <a:rect l="l" t="t" r="r" b="b"/>
              <a:pathLst>
                <a:path w="58" h="518">
                  <a:moveTo>
                    <a:pt x="58" y="0"/>
                  </a:moveTo>
                  <a:lnTo>
                    <a:pt x="46" y="4"/>
                  </a:lnTo>
                  <a:lnTo>
                    <a:pt x="39" y="13"/>
                  </a:lnTo>
                  <a:lnTo>
                    <a:pt x="31" y="27"/>
                  </a:lnTo>
                  <a:lnTo>
                    <a:pt x="29" y="42"/>
                  </a:lnTo>
                  <a:lnTo>
                    <a:pt x="29" y="215"/>
                  </a:lnTo>
                  <a:lnTo>
                    <a:pt x="27" y="232"/>
                  </a:lnTo>
                  <a:lnTo>
                    <a:pt x="21" y="246"/>
                  </a:lnTo>
                  <a:lnTo>
                    <a:pt x="12" y="255"/>
                  </a:lnTo>
                  <a:lnTo>
                    <a:pt x="0" y="259"/>
                  </a:lnTo>
                  <a:lnTo>
                    <a:pt x="12" y="263"/>
                  </a:lnTo>
                  <a:lnTo>
                    <a:pt x="21" y="272"/>
                  </a:lnTo>
                  <a:lnTo>
                    <a:pt x="27" y="286"/>
                  </a:lnTo>
                  <a:lnTo>
                    <a:pt x="29" y="301"/>
                  </a:lnTo>
                  <a:lnTo>
                    <a:pt x="29" y="474"/>
                  </a:lnTo>
                  <a:lnTo>
                    <a:pt x="31" y="491"/>
                  </a:lnTo>
                  <a:lnTo>
                    <a:pt x="39" y="505"/>
                  </a:lnTo>
                  <a:lnTo>
                    <a:pt x="46" y="514"/>
                  </a:lnTo>
                  <a:lnTo>
                    <a:pt x="58" y="51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333600" y="3913200"/>
              <a:ext cx="641520" cy="95400"/>
            </a:xfrm>
            <a:custGeom>
              <a:avLst/>
              <a:gdLst/>
              <a:ahLst/>
              <a:rect l="l" t="t" r="r" b="b"/>
              <a:pathLst>
                <a:path w="404" h="60">
                  <a:moveTo>
                    <a:pt x="404" y="60"/>
                  </a:moveTo>
                  <a:lnTo>
                    <a:pt x="402" y="48"/>
                  </a:lnTo>
                  <a:lnTo>
                    <a:pt x="394" y="39"/>
                  </a:lnTo>
                  <a:lnTo>
                    <a:pt x="384" y="33"/>
                  </a:lnTo>
                  <a:lnTo>
                    <a:pt x="371" y="31"/>
                  </a:lnTo>
                  <a:lnTo>
                    <a:pt x="237" y="31"/>
                  </a:lnTo>
                  <a:lnTo>
                    <a:pt x="223" y="27"/>
                  </a:lnTo>
                  <a:lnTo>
                    <a:pt x="212" y="21"/>
                  </a:lnTo>
                  <a:lnTo>
                    <a:pt x="204" y="12"/>
                  </a:lnTo>
                  <a:lnTo>
                    <a:pt x="202" y="0"/>
                  </a:lnTo>
                  <a:lnTo>
                    <a:pt x="200" y="12"/>
                  </a:lnTo>
                  <a:lnTo>
                    <a:pt x="192" y="21"/>
                  </a:lnTo>
                  <a:lnTo>
                    <a:pt x="183" y="27"/>
                  </a:lnTo>
                  <a:lnTo>
                    <a:pt x="169" y="29"/>
                  </a:lnTo>
                  <a:lnTo>
                    <a:pt x="35" y="29"/>
                  </a:lnTo>
                  <a:lnTo>
                    <a:pt x="22" y="31"/>
                  </a:lnTo>
                  <a:lnTo>
                    <a:pt x="10" y="39"/>
                  </a:lnTo>
                  <a:lnTo>
                    <a:pt x="2" y="46"/>
                  </a:lnTo>
                  <a:lnTo>
                    <a:pt x="0" y="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333600" y="3641760"/>
              <a:ext cx="6415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429000" y="368784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at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57800" y="3879720"/>
              <a:ext cx="822240" cy="92160"/>
            </a:xfrm>
            <a:custGeom>
              <a:avLst/>
              <a:gdLst/>
              <a:ahLst/>
              <a:rect l="l" t="t" r="r" b="b"/>
              <a:pathLst>
                <a:path w="518" h="58">
                  <a:moveTo>
                    <a:pt x="518" y="58"/>
                  </a:moveTo>
                  <a:lnTo>
                    <a:pt x="514" y="46"/>
                  </a:lnTo>
                  <a:lnTo>
                    <a:pt x="507" y="39"/>
                  </a:lnTo>
                  <a:lnTo>
                    <a:pt x="493" y="31"/>
                  </a:lnTo>
                  <a:lnTo>
                    <a:pt x="476" y="29"/>
                  </a:lnTo>
                  <a:lnTo>
                    <a:pt x="303" y="29"/>
                  </a:lnTo>
                  <a:lnTo>
                    <a:pt x="286" y="27"/>
                  </a:lnTo>
                  <a:lnTo>
                    <a:pt x="273" y="21"/>
                  </a:lnTo>
                  <a:lnTo>
                    <a:pt x="263" y="12"/>
                  </a:lnTo>
                  <a:lnTo>
                    <a:pt x="259" y="0"/>
                  </a:lnTo>
                  <a:lnTo>
                    <a:pt x="255" y="12"/>
                  </a:lnTo>
                  <a:lnTo>
                    <a:pt x="248" y="21"/>
                  </a:lnTo>
                  <a:lnTo>
                    <a:pt x="234" y="27"/>
                  </a:lnTo>
                  <a:lnTo>
                    <a:pt x="217" y="29"/>
                  </a:lnTo>
                  <a:lnTo>
                    <a:pt x="44" y="27"/>
                  </a:lnTo>
                  <a:lnTo>
                    <a:pt x="27" y="29"/>
                  </a:lnTo>
                  <a:lnTo>
                    <a:pt x="13" y="37"/>
                  </a:lnTo>
                  <a:lnTo>
                    <a:pt x="4" y="44"/>
                  </a:lnTo>
                  <a:lnTo>
                    <a:pt x="0" y="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259680" y="3641760"/>
              <a:ext cx="6411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324840" y="3687840"/>
              <a:ext cx="49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la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4" name=""/>
            <p:cNvGrpSpPr/>
            <p:nvPr/>
          </p:nvGrpSpPr>
          <p:grpSpPr>
            <a:xfrm>
              <a:off x="2874960" y="5925960"/>
              <a:ext cx="1925640" cy="9360"/>
              <a:chOff x="2874960" y="5925960"/>
              <a:chExt cx="1925640" cy="9360"/>
            </a:xfrm>
          </p:grpSpPr>
          <p:sp>
            <p:nvSpPr>
              <p:cNvPr id="1225" name=""/>
              <p:cNvSpPr/>
              <p:nvPr/>
            </p:nvSpPr>
            <p:spPr>
              <a:xfrm>
                <a:off x="2874960" y="5925960"/>
                <a:ext cx="77760" cy="9360"/>
              </a:xfrm>
              <a:custGeom>
                <a:avLst/>
                <a:gdLst/>
                <a:ahLst/>
                <a:rect l="l" t="t" r="r" b="b"/>
                <a:pathLst>
                  <a:path w="49" h="6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971800" y="59259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71880" y="59259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173400" y="59259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273480" y="59259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373560" y="59259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475080" y="59259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575160" y="59259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675240" y="59259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776760" y="59259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76840" y="59259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78360" y="5925960"/>
                <a:ext cx="81000" cy="9360"/>
              </a:xfrm>
              <a:custGeom>
                <a:avLst/>
                <a:gdLst/>
                <a:ahLst/>
                <a:rect l="l" t="t" r="r" b="b"/>
                <a:pathLst>
                  <a:path w="51" h="6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1" y="4"/>
                    </a:lnTo>
                    <a:lnTo>
                      <a:pt x="51" y="2"/>
                    </a:lnTo>
                    <a:lnTo>
                      <a:pt x="4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078440" y="59259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78160" y="5925960"/>
                <a:ext cx="8280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280040" y="5925960"/>
                <a:ext cx="81000" cy="9360"/>
              </a:xfrm>
              <a:custGeom>
                <a:avLst/>
                <a:gdLst/>
                <a:ahLst/>
                <a:rect l="l" t="t" r="r" b="b"/>
                <a:pathLst>
                  <a:path w="51" h="6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1" y="4"/>
                    </a:lnTo>
                    <a:lnTo>
                      <a:pt x="51" y="2"/>
                    </a:lnTo>
                    <a:lnTo>
                      <a:pt x="4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379760" y="5925960"/>
                <a:ext cx="8280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79840" y="5925960"/>
                <a:ext cx="8280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581360" y="5925960"/>
                <a:ext cx="81000" cy="9360"/>
              </a:xfrm>
              <a:custGeom>
                <a:avLst/>
                <a:gdLst/>
                <a:ahLst/>
                <a:rect l="l" t="t" r="r" b="b"/>
                <a:pathLst>
                  <a:path w="51" h="6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1" y="4"/>
                    </a:lnTo>
                    <a:lnTo>
                      <a:pt x="51" y="2"/>
                    </a:lnTo>
                    <a:lnTo>
                      <a:pt x="5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681440" y="5925960"/>
                <a:ext cx="8280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781520" y="592596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3332160" y="4919760"/>
              <a:ext cx="1833480" cy="9360"/>
              <a:chOff x="3332160" y="4919760"/>
              <a:chExt cx="1833480" cy="9360"/>
            </a:xfrm>
          </p:grpSpPr>
          <p:sp>
            <p:nvSpPr>
              <p:cNvPr id="1246" name=""/>
              <p:cNvSpPr/>
              <p:nvPr/>
            </p:nvSpPr>
            <p:spPr>
              <a:xfrm>
                <a:off x="3332160" y="4919760"/>
                <a:ext cx="77760" cy="9360"/>
              </a:xfrm>
              <a:custGeom>
                <a:avLst/>
                <a:gdLst/>
                <a:ahLst/>
                <a:rect l="l" t="t" r="r" b="b"/>
                <a:pathLst>
                  <a:path w="49" h="6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429000" y="49197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529080" y="49197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630600" y="4919760"/>
                <a:ext cx="81000" cy="9360"/>
              </a:xfrm>
              <a:custGeom>
                <a:avLst/>
                <a:gdLst/>
                <a:ahLst/>
                <a:rect l="l" t="t" r="r" b="b"/>
                <a:pathLst>
                  <a:path w="51" h="6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1" y="4"/>
                    </a:lnTo>
                    <a:lnTo>
                      <a:pt x="51" y="2"/>
                    </a:lnTo>
                    <a:lnTo>
                      <a:pt x="5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730680" y="49197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830760" y="49197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932280" y="49197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032360" y="49197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132440" y="49197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233960" y="49197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334040" y="49197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433760" y="4919760"/>
                <a:ext cx="8280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535640" y="4919760"/>
                <a:ext cx="8244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635360" y="4919760"/>
                <a:ext cx="8280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737240" y="4919760"/>
                <a:ext cx="81000" cy="9360"/>
              </a:xfrm>
              <a:custGeom>
                <a:avLst/>
                <a:gdLst/>
                <a:ahLst/>
                <a:rect l="l" t="t" r="r" b="b"/>
                <a:pathLst>
                  <a:path w="51" h="6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1" y="4"/>
                    </a:lnTo>
                    <a:lnTo>
                      <a:pt x="51" y="2"/>
                    </a:lnTo>
                    <a:lnTo>
                      <a:pt x="4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836960" y="4919760"/>
                <a:ext cx="8280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937040" y="4919760"/>
                <a:ext cx="82800" cy="936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038560" y="4919760"/>
                <a:ext cx="81000" cy="9360"/>
              </a:xfrm>
              <a:custGeom>
                <a:avLst/>
                <a:gdLst/>
                <a:ahLst/>
                <a:rect l="l" t="t" r="r" b="b"/>
                <a:pathLst>
                  <a:path w="51" h="6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1" y="4"/>
                    </a:lnTo>
                    <a:lnTo>
                      <a:pt x="51" y="2"/>
                    </a:lnTo>
                    <a:lnTo>
                      <a:pt x="5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138640" y="491976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6168960" y="4008600"/>
              <a:ext cx="825480" cy="825480"/>
              <a:chOff x="6168960" y="4008600"/>
              <a:chExt cx="825480" cy="82548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6168960" y="4008600"/>
                <a:ext cx="825480" cy="825480"/>
                <a:chOff x="6168960" y="4008600"/>
                <a:chExt cx="825480" cy="8254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168960" y="4008600"/>
                  <a:ext cx="822240" cy="82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168960" y="4008600"/>
                  <a:ext cx="822240" cy="82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168960" y="4008600"/>
                  <a:ext cx="825480" cy="8254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168960" y="4008600"/>
                  <a:ext cx="822240" cy="82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1" name=""/>
              <p:cNvSpPr/>
              <p:nvPr/>
            </p:nvSpPr>
            <p:spPr>
              <a:xfrm>
                <a:off x="6168960" y="4008600"/>
                <a:ext cx="8254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6558840" y="4260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5251320" y="4919760"/>
              <a:ext cx="831960" cy="1015920"/>
              <a:chOff x="5251320" y="4919760"/>
              <a:chExt cx="831960" cy="1015920"/>
            </a:xfrm>
          </p:grpSpPr>
          <p:sp>
            <p:nvSpPr>
              <p:cNvPr id="1274" name=""/>
              <p:cNvSpPr/>
              <p:nvPr/>
            </p:nvSpPr>
            <p:spPr>
              <a:xfrm>
                <a:off x="5254560" y="4923000"/>
                <a:ext cx="822240" cy="100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251320" y="4919760"/>
                <a:ext cx="39960" cy="7632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6" y="2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25" y="6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251320" y="5023080"/>
                <a:ext cx="97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251320" y="5124600"/>
                <a:ext cx="97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251320" y="5224680"/>
                <a:ext cx="97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251320" y="5324760"/>
                <a:ext cx="9720" cy="74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251320" y="5426280"/>
                <a:ext cx="97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251320" y="5526360"/>
                <a:ext cx="9720" cy="7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251320" y="5627880"/>
                <a:ext cx="97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251320" y="5727960"/>
                <a:ext cx="9720" cy="7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251320" y="5827680"/>
                <a:ext cx="97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25456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35464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45616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55624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65632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75784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85792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958000" y="5926320"/>
                <a:ext cx="745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059520" y="5873760"/>
                <a:ext cx="23760" cy="6192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0" y="33"/>
                    </a:moveTo>
                    <a:lnTo>
                      <a:pt x="0" y="39"/>
                    </a:lnTo>
                    <a:lnTo>
                      <a:pt x="11" y="39"/>
                    </a:lnTo>
                    <a:lnTo>
                      <a:pt x="13" y="39"/>
                    </a:lnTo>
                    <a:lnTo>
                      <a:pt x="15" y="35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9" y="35"/>
                    </a:lnTo>
                    <a:lnTo>
                      <a:pt x="11" y="35"/>
                    </a:lnTo>
                    <a:lnTo>
                      <a:pt x="11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073920" y="5773680"/>
                <a:ext cx="936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073920" y="5672160"/>
                <a:ext cx="936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073920" y="5572080"/>
                <a:ext cx="936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073920" y="5472360"/>
                <a:ext cx="9360" cy="7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073920" y="5370480"/>
                <a:ext cx="936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073920" y="5270760"/>
                <a:ext cx="9360" cy="7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073920" y="5168880"/>
                <a:ext cx="9360" cy="74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073920" y="5069160"/>
                <a:ext cx="9360" cy="7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073920" y="4969080"/>
                <a:ext cx="936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022800" y="4919760"/>
                <a:ext cx="60480" cy="2052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32" y="13"/>
                    </a:moveTo>
                    <a:lnTo>
                      <a:pt x="38" y="13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4" y="6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921280" y="491976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21200" y="491976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721480" y="4919760"/>
                <a:ext cx="72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619600" y="491976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519880" y="4919760"/>
                <a:ext cx="72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419800" y="491976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318280" y="4919760"/>
                <a:ext cx="72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6165720" y="4919760"/>
              <a:ext cx="831960" cy="1015920"/>
              <a:chOff x="6165720" y="4919760"/>
              <a:chExt cx="831960" cy="1015920"/>
            </a:xfrm>
          </p:grpSpPr>
          <p:sp>
            <p:nvSpPr>
              <p:cNvPr id="1312" name=""/>
              <p:cNvSpPr/>
              <p:nvPr/>
            </p:nvSpPr>
            <p:spPr>
              <a:xfrm>
                <a:off x="6168960" y="4923000"/>
                <a:ext cx="822240" cy="100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165720" y="4919760"/>
                <a:ext cx="39960" cy="7632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6" y="2"/>
                    </a:moveTo>
                    <a:lnTo>
                      <a:pt x="2" y="2"/>
                    </a:lnTo>
                    <a:lnTo>
                      <a:pt x="2" y="6"/>
                    </a:lnTo>
                    <a:lnTo>
                      <a:pt x="25" y="6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165720" y="5023080"/>
                <a:ext cx="97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165720" y="5124600"/>
                <a:ext cx="97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165720" y="5224680"/>
                <a:ext cx="97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165720" y="5324760"/>
                <a:ext cx="9720" cy="74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165720" y="5426280"/>
                <a:ext cx="97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165720" y="5526360"/>
                <a:ext cx="9720" cy="7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165720" y="5627880"/>
                <a:ext cx="97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165720" y="5727960"/>
                <a:ext cx="9720" cy="7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165720" y="5827680"/>
                <a:ext cx="972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16896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26904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37056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7064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57072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67224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7232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872400" y="592632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973920" y="5873760"/>
                <a:ext cx="23760" cy="6192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0" y="33"/>
                    </a:moveTo>
                    <a:lnTo>
                      <a:pt x="0" y="39"/>
                    </a:lnTo>
                    <a:lnTo>
                      <a:pt x="11" y="39"/>
                    </a:lnTo>
                    <a:lnTo>
                      <a:pt x="13" y="39"/>
                    </a:lnTo>
                    <a:lnTo>
                      <a:pt x="15" y="35"/>
                    </a:lnTo>
                    <a:lnTo>
                      <a:pt x="15" y="0"/>
                    </a:lnTo>
                    <a:lnTo>
                      <a:pt x="9" y="0"/>
                    </a:lnTo>
                    <a:lnTo>
                      <a:pt x="9" y="35"/>
                    </a:lnTo>
                    <a:lnTo>
                      <a:pt x="11" y="35"/>
                    </a:lnTo>
                    <a:lnTo>
                      <a:pt x="11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988320" y="5773680"/>
                <a:ext cx="936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988320" y="5672160"/>
                <a:ext cx="936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988320" y="5572080"/>
                <a:ext cx="936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988320" y="5472360"/>
                <a:ext cx="9360" cy="7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988320" y="5370480"/>
                <a:ext cx="936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988320" y="5270760"/>
                <a:ext cx="9360" cy="7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988320" y="5168880"/>
                <a:ext cx="9360" cy="74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988320" y="5069160"/>
                <a:ext cx="9360" cy="7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988320" y="4969080"/>
                <a:ext cx="9360" cy="7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937200" y="4919760"/>
                <a:ext cx="60480" cy="2052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32" y="13"/>
                    </a:moveTo>
                    <a:lnTo>
                      <a:pt x="38" y="13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4" y="6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835680" y="491976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735600" y="491976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635880" y="4919760"/>
                <a:ext cx="72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534000" y="491976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434280" y="4919760"/>
                <a:ext cx="72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334200" y="4919760"/>
                <a:ext cx="73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232680" y="4919760"/>
                <a:ext cx="72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9" name=""/>
            <p:cNvSpPr/>
            <p:nvPr/>
          </p:nvSpPr>
          <p:spPr>
            <a:xfrm>
              <a:off x="6168960" y="3916440"/>
              <a:ext cx="822240" cy="92160"/>
            </a:xfrm>
            <a:custGeom>
              <a:avLst/>
              <a:gdLst/>
              <a:ahLst/>
              <a:rect l="l" t="t" r="r" b="b"/>
              <a:pathLst>
                <a:path w="518" h="58">
                  <a:moveTo>
                    <a:pt x="518" y="58"/>
                  </a:moveTo>
                  <a:lnTo>
                    <a:pt x="514" y="46"/>
                  </a:lnTo>
                  <a:lnTo>
                    <a:pt x="507" y="39"/>
                  </a:lnTo>
                  <a:lnTo>
                    <a:pt x="493" y="31"/>
                  </a:lnTo>
                  <a:lnTo>
                    <a:pt x="476" y="29"/>
                  </a:lnTo>
                  <a:lnTo>
                    <a:pt x="303" y="29"/>
                  </a:lnTo>
                  <a:lnTo>
                    <a:pt x="286" y="27"/>
                  </a:lnTo>
                  <a:lnTo>
                    <a:pt x="273" y="21"/>
                  </a:lnTo>
                  <a:lnTo>
                    <a:pt x="263" y="12"/>
                  </a:lnTo>
                  <a:lnTo>
                    <a:pt x="259" y="0"/>
                  </a:lnTo>
                  <a:lnTo>
                    <a:pt x="255" y="12"/>
                  </a:lnTo>
                  <a:lnTo>
                    <a:pt x="248" y="21"/>
                  </a:lnTo>
                  <a:lnTo>
                    <a:pt x="234" y="27"/>
                  </a:lnTo>
                  <a:lnTo>
                    <a:pt x="217" y="29"/>
                  </a:lnTo>
                  <a:lnTo>
                    <a:pt x="44" y="27"/>
                  </a:lnTo>
                  <a:lnTo>
                    <a:pt x="27" y="29"/>
                  </a:lnTo>
                  <a:lnTo>
                    <a:pt x="13" y="37"/>
                  </a:lnTo>
                  <a:lnTo>
                    <a:pt x="4" y="44"/>
                  </a:lnTo>
                  <a:lnTo>
                    <a:pt x="0" y="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46720" y="3641760"/>
              <a:ext cx="6397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09000" y="3687840"/>
              <a:ext cx="56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buy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5254560" y="3276720"/>
              <a:ext cx="825480" cy="277560"/>
              <a:chOff x="5254560" y="3276720"/>
              <a:chExt cx="825480" cy="27756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5254560" y="3276720"/>
                <a:ext cx="825480" cy="277560"/>
                <a:chOff x="5254560" y="3276720"/>
                <a:chExt cx="825480" cy="277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5254560" y="3276720"/>
                  <a:ext cx="822240" cy="27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254560" y="3276720"/>
                  <a:ext cx="822240" cy="27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254560" y="3276720"/>
                  <a:ext cx="825480" cy="27756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254560" y="3276720"/>
                  <a:ext cx="822240" cy="274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8" name=""/>
              <p:cNvSpPr/>
              <p:nvPr/>
            </p:nvSpPr>
            <p:spPr>
              <a:xfrm>
                <a:off x="5254560" y="3276720"/>
                <a:ext cx="825480" cy="27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9" name=""/>
          <p:cNvGrpSpPr/>
          <p:nvPr/>
        </p:nvGrpSpPr>
        <p:grpSpPr>
          <a:xfrm>
            <a:off x="5257800" y="3962520"/>
            <a:ext cx="825480" cy="913680"/>
            <a:chOff x="5257800" y="3962520"/>
            <a:chExt cx="825480" cy="913680"/>
          </a:xfrm>
        </p:grpSpPr>
        <p:grpSp>
          <p:nvGrpSpPr>
            <p:cNvPr id="1360" name=""/>
            <p:cNvGrpSpPr/>
            <p:nvPr/>
          </p:nvGrpSpPr>
          <p:grpSpPr>
            <a:xfrm>
              <a:off x="5257800" y="3962520"/>
              <a:ext cx="825480" cy="913680"/>
              <a:chOff x="5257800" y="3962520"/>
              <a:chExt cx="825480" cy="913680"/>
            </a:xfrm>
          </p:grpSpPr>
          <p:grpSp>
            <p:nvGrpSpPr>
              <p:cNvPr id="1361" name=""/>
              <p:cNvGrpSpPr/>
              <p:nvPr/>
            </p:nvGrpSpPr>
            <p:grpSpPr>
              <a:xfrm>
                <a:off x="5257800" y="3962520"/>
                <a:ext cx="825480" cy="913320"/>
                <a:chOff x="5257800" y="3962520"/>
                <a:chExt cx="825480" cy="91332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5257800" y="3962520"/>
                  <a:ext cx="822240" cy="909720"/>
                </a:xfrm>
                <a:prstGeom prst="rect">
                  <a:avLst/>
                </a:prstGeom>
                <a:solidFill>
                  <a:srgbClr val="070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257800" y="3962520"/>
                  <a:ext cx="822240" cy="909720"/>
                </a:xfrm>
                <a:prstGeom prst="rect">
                  <a:avLst/>
                </a:prstGeom>
                <a:solidFill>
                  <a:srgbClr val="0707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5257800" y="3962520"/>
                  <a:ext cx="825480" cy="913320"/>
                </a:xfrm>
                <a:prstGeom prst="rect">
                  <a:avLst/>
                </a:prstGeom>
                <a:solidFill>
                  <a:srgbClr val="070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257800" y="3962520"/>
                  <a:ext cx="822240" cy="909720"/>
                </a:xfrm>
                <a:prstGeom prst="rect">
                  <a:avLst/>
                </a:prstGeom>
                <a:solidFill>
                  <a:srgbClr val="070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5257800" y="3962520"/>
                <a:ext cx="825480" cy="913680"/>
              </a:xfrm>
              <a:prstGeom prst="rect">
                <a:avLst/>
              </a:prstGeom>
              <a:solidFill>
                <a:srgbClr val="070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7" name=""/>
            <p:cNvSpPr/>
            <p:nvPr/>
          </p:nvSpPr>
          <p:spPr>
            <a:xfrm>
              <a:off x="5560920" y="4241880"/>
              <a:ext cx="235440" cy="305280"/>
            </a:xfrm>
            <a:prstGeom prst="rect">
              <a:avLst/>
            </a:prstGeom>
            <a:solidFill>
              <a:srgbClr val="070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-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5257800" y="3962520"/>
            <a:ext cx="825480" cy="913680"/>
            <a:chOff x="5257800" y="3962520"/>
            <a:chExt cx="825480" cy="913680"/>
          </a:xfrm>
        </p:grpSpPr>
        <p:grpSp>
          <p:nvGrpSpPr>
            <p:cNvPr id="1369" name=""/>
            <p:cNvGrpSpPr/>
            <p:nvPr/>
          </p:nvGrpSpPr>
          <p:grpSpPr>
            <a:xfrm>
              <a:off x="5257800" y="3962520"/>
              <a:ext cx="825480" cy="913680"/>
              <a:chOff x="5257800" y="3962520"/>
              <a:chExt cx="825480" cy="91368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5257800" y="3962520"/>
                <a:ext cx="825480" cy="913320"/>
                <a:chOff x="5257800" y="3962520"/>
                <a:chExt cx="825480" cy="91332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5257800" y="3962520"/>
                  <a:ext cx="822240" cy="90972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257800" y="3962520"/>
                  <a:ext cx="822240" cy="90972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257800" y="3962520"/>
                  <a:ext cx="825480" cy="91332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257800" y="3962520"/>
                  <a:ext cx="822240" cy="90972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5" name=""/>
              <p:cNvSpPr/>
              <p:nvPr/>
            </p:nvSpPr>
            <p:spPr>
              <a:xfrm>
                <a:off x="5257800" y="3962520"/>
                <a:ext cx="825480" cy="9136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6" name=""/>
            <p:cNvSpPr/>
            <p:nvPr/>
          </p:nvSpPr>
          <p:spPr>
            <a:xfrm>
              <a:off x="5560920" y="4241880"/>
              <a:ext cx="235440" cy="305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-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.2 - Beyond GUB: Cycle Matrix Approa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2971800" y="838080"/>
            <a:ext cx="2514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a do particionamento, com indicações das dimensões, só que com uma animação diferente (lembre do papo sobre as colunas viaj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1522440" y="2863800"/>
            <a:ext cx="6249960" cy="3401280"/>
            <a:chOff x="1522440" y="2863800"/>
            <a:chExt cx="6249960" cy="3401280"/>
          </a:xfrm>
        </p:grpSpPr>
        <p:sp>
          <p:nvSpPr>
            <p:cNvPr id="1380" name=""/>
            <p:cNvSpPr/>
            <p:nvPr/>
          </p:nvSpPr>
          <p:spPr>
            <a:xfrm>
              <a:off x="1981080" y="3505320"/>
              <a:ext cx="1143000" cy="138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124080" y="3505320"/>
              <a:ext cx="1143000" cy="138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905120" y="2895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Key P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04812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Non Key P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267080" y="3505320"/>
              <a:ext cx="1143000" cy="138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981080" y="4876920"/>
              <a:ext cx="1143000" cy="138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124080" y="4876920"/>
              <a:ext cx="1143000" cy="138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67080" y="4876920"/>
              <a:ext cx="1143000" cy="138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10080" y="3505320"/>
              <a:ext cx="1143000" cy="138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553080" y="3505320"/>
              <a:ext cx="1143000" cy="138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10080" y="4876920"/>
              <a:ext cx="1143000" cy="138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553080" y="4876920"/>
              <a:ext cx="1143000" cy="138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28638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Non Sat. Ar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25780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Non Basics P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40080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Saturated Ar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40080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Saturated Ar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16200000">
              <a:off x="1022040" y="5378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Commod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rot="16200000">
              <a:off x="1096920" y="400644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Ar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vised Simplex Metho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EP 1. Calculate the dual variables by solving the system of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EP 2. Calculate the reduced costs                            of the nonbasic variables and select an entering variab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EP 3. Calculate the current representation of the entering variable by solving the system of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EP 4. Determine the exiting variable, comparing       and         at each l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EP 5. Update the values of the basic variables and working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0066"/>
                </a:solidFill>
                <a:latin typeface="Arial"/>
              </a:rPr>
              <a:t>WE ARE GOING TO USE Q</a:t>
            </a:r>
            <a:r>
              <a:rPr b="1" i="1" lang="pt-BR" sz="18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r>
              <a:rPr b="1" i="1" lang="pt-BR" sz="1800" spc="-1" strike="noStrike">
                <a:solidFill>
                  <a:srgbClr val="ff0066"/>
                </a:solidFill>
                <a:latin typeface="Arial"/>
              </a:rPr>
              <a:t> TO SOLVE THE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867280" y="2666880"/>
                <a:ext cx="1600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πA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772400" y="2971800"/>
                <a:ext cx="6858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6553080" y="365760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Â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743200" y="2286000"/>
                <a:ext cx="99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7391520" y="4038480"/>
                <a:ext cx="263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8236080" y="4048200"/>
                <a:ext cx="404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Â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.2.1 - How to Calculate Dual Pric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1676520" y="2666880"/>
                <a:ext cx="2747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sub>
                        </m:sSub>
                        <m:r>
                          <m:t xml:space="preserve">|</m:t>
                        </m:r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8" name=""/>
          <p:cNvSpPr/>
          <p:nvPr/>
        </p:nvSpPr>
        <p:spPr>
          <a:xfrm>
            <a:off x="-4419720" y="-226440"/>
            <a:ext cx="3886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gar as formulas com aqueles quadros, acrescentando texto explic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 prices of saturated arcs capacity constra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 prices of non-saturated arcs capac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 prices of commodity routing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3886200" y="1676520"/>
                <a:ext cx="16002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0" name=""/>
          <p:cNvSpPr/>
          <p:nvPr/>
        </p:nvSpPr>
        <p:spPr>
          <a:xfrm>
            <a:off x="1523880" y="5715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600200" y="3505320"/>
                <a:ext cx="2378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1523880" y="4572000"/>
                <a:ext cx="60357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Κ</m:t>
                            </m:r>
                          </m:e>
                        </m:acc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Κ</m:t>
                        </m:r>
                      </m:sup>
                    </m:sSup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πD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1523880" y="5791320"/>
                <a:ext cx="5945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Κ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Κ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</m:sSub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t xml:space="preserve">Κ</m:t>
                        </m:r>
                      </m:sup>
                    </m:sSub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4" name=""/>
          <p:cNvSpPr/>
          <p:nvPr/>
        </p:nvSpPr>
        <p:spPr>
          <a:xfrm>
            <a:off x="5123520" y="2850120"/>
            <a:ext cx="39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Dual variables associated to: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37920" y="382788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Non-saturated arc capacity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699680" y="457092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Satur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851960" y="49377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rc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584840" y="5785920"/>
            <a:ext cx="16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Commod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- The MinCost Multicommodity Netflow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Partition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- Cycle Matrix Inverse Updating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-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-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3740040" y="4750920"/>
            <a:ext cx="2178000" cy="79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Cost of j-th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No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Key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63880" y="4753080"/>
            <a:ext cx="3817800" cy="1242720"/>
          </a:xfrm>
          <a:prstGeom prst="rect">
            <a:avLst/>
          </a:prstGeom>
          <a:gradFill rotWithShape="0">
            <a:gsLst>
              <a:gs pos="0">
                <a:srgbClr val="5490a8"/>
              </a:gs>
              <a:gs pos="100000">
                <a:srgbClr val="26424d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Cost of j-th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Key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associated with the j-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Non-Key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932040" y="1625760"/>
                <a:ext cx="828828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onKey</m:t>
                            </m:r>
                            <m:r>
                              <m:t xml:space="preserve">[</m:t>
                            </m:r>
                            <m:r>
                              <m:t xml:space="preserve">j</m:t>
                            </m:r>
                            <m:r>
                              <m:t xml:space="preserve">]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ey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onKey</m:t>
                            </m:r>
                            <m:r>
                              <m:t xml:space="preserve">[</m:t>
                            </m:r>
                            <m:r>
                              <m:t xml:space="preserve">j</m:t>
                            </m:r>
                            <m:r>
                              <m:t xml:space="preserve">]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|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[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]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sPartOf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onKey</m:t>
                                    </m:r>
                                    <m:r>
                                      <m:t xml:space="preserve">[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]</m:t>
                                    </m:r>
                                  </m:sup>
                                </m:sSup>
                              </m:e>
                            </m:d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[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</m:e>
                      <m:e/>
                      <m:e>
                        <m:m>
                          <m:mr>
                            <m:e/>
                            <m:e/>
                          </m:mr>
                        </m:m>
                        <m:nary>
                          <m:naryPr>
                            <m:chr m:val="∑"/>
                            <m:supHide m:val="1"/>
                          </m:naryPr>
                          <m:sub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|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[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]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sPartOf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e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onKey</m:t>
                                    </m:r>
                                    <m:r>
                                      <m:t xml:space="preserve">[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]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d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[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2" name=""/>
          <p:cNvSpPr/>
          <p:nvPr/>
        </p:nvSpPr>
        <p:spPr>
          <a:xfrm rot="19600800">
            <a:off x="3543480" y="1828800"/>
            <a:ext cx="444240" cy="2895480"/>
          </a:xfrm>
          <a:prstGeom prst="downArrow">
            <a:avLst>
              <a:gd name="adj1" fmla="val 50000"/>
              <a:gd name="adj2" fmla="val 162946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17324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2.2.1 - How to Calculate Dual Prices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990720" y="934200"/>
            <a:ext cx="78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-th column of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may be calculat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rot="21589800">
            <a:off x="4647960" y="2057400"/>
            <a:ext cx="444240" cy="2362320"/>
          </a:xfrm>
          <a:prstGeom prst="downArrow">
            <a:avLst>
              <a:gd name="adj1" fmla="val 50000"/>
              <a:gd name="adj2" fmla="val 132942"/>
            </a:avLst>
          </a:prstGeom>
          <a:gradFill rotWithShape="0">
            <a:gsLst>
              <a:gs pos="0">
                <a:srgbClr val="5490a8"/>
              </a:gs>
              <a:gs pos="100000">
                <a:srgbClr val="26424d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rot="20045400">
            <a:off x="3295440" y="3714840"/>
            <a:ext cx="444240" cy="838080"/>
          </a:xfrm>
          <a:prstGeom prst="downArrow">
            <a:avLst>
              <a:gd name="adj1" fmla="val 50000"/>
              <a:gd name="adj2" fmla="val 47164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rot="2868000">
            <a:off x="7435440" y="2234880"/>
            <a:ext cx="444600" cy="2361960"/>
          </a:xfrm>
          <a:prstGeom prst="downArrow">
            <a:avLst>
              <a:gd name="adj1" fmla="val 50000"/>
              <a:gd name="adj2" fmla="val 132814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63880" y="4746600"/>
            <a:ext cx="4094280" cy="1242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um of dual values of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Non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Satured arcs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of the j-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Non-Key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985480" y="4615560"/>
            <a:ext cx="4044240" cy="1689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um of dual values of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No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Satured arcs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of the Key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associated with the j-th No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.2.2 - How to Calculate Reduced Co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-3581280" y="1295280"/>
            <a:ext cx="3352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 as transparências para os c-chapeu do mesmo jeito , mas na hora da apresentacao, não se detenha nelas, porque não dá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809880" y="1447920"/>
                <a:ext cx="2438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πA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990720" y="243756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f A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Narrow"/>
              </a:rPr>
              <a:t>j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is associated to 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Arial Narrow"/>
              </a:rPr>
              <a:t>non basic path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1600200" y="3200400"/>
                <a:ext cx="647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5" name=""/>
          <p:cNvSpPr/>
          <p:nvPr/>
        </p:nvSpPr>
        <p:spPr>
          <a:xfrm>
            <a:off x="1143000" y="4571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f A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Narrow"/>
              </a:rPr>
              <a:t>j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is associated to 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Arial Narrow"/>
              </a:rPr>
              <a:t>non basic arc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1752480" y="5257800"/>
                <a:ext cx="2590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.2.2 - How to Calculate Reduced Co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1600200" y="2895480"/>
                <a:ext cx="6477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d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9" name=""/>
          <p:cNvSpPr/>
          <p:nvPr/>
        </p:nvSpPr>
        <p:spPr>
          <a:xfrm>
            <a:off x="990720" y="198036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f A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Narrow"/>
              </a:rPr>
              <a:t>j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is associated to 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Arial Narrow"/>
              </a:rPr>
              <a:t>non basic path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740040" y="4750920"/>
            <a:ext cx="2178000" cy="79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Cost of j-th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No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Basic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963880" y="4619880"/>
            <a:ext cx="3817800" cy="1242720"/>
          </a:xfrm>
          <a:prstGeom prst="rect">
            <a:avLst/>
          </a:prstGeom>
          <a:gradFill rotWithShape="0">
            <a:gsLst>
              <a:gs pos="0">
                <a:srgbClr val="5490a8"/>
              </a:gs>
              <a:gs pos="100000">
                <a:srgbClr val="26424d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um of dual values of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Satured arcs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of the j-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Non-Basic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9600800">
            <a:off x="2484360" y="3557160"/>
            <a:ext cx="444600" cy="1042920"/>
          </a:xfrm>
          <a:prstGeom prst="downArrow">
            <a:avLst>
              <a:gd name="adj1" fmla="val 50000"/>
              <a:gd name="adj2" fmla="val 58644"/>
            </a:avLst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rot="21589800">
            <a:off x="4584240" y="3672000"/>
            <a:ext cx="444600" cy="861840"/>
          </a:xfrm>
          <a:prstGeom prst="downArrow">
            <a:avLst>
              <a:gd name="adj1" fmla="val 50000"/>
              <a:gd name="adj2" fmla="val 48462"/>
            </a:avLst>
          </a:prstGeom>
          <a:gradFill rotWithShape="0">
            <a:gsLst>
              <a:gs pos="0">
                <a:srgbClr val="5490a8"/>
              </a:gs>
              <a:gs pos="100000">
                <a:srgbClr val="26424d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rot="2414400">
            <a:off x="7058160" y="3772080"/>
            <a:ext cx="444240" cy="838080"/>
          </a:xfrm>
          <a:prstGeom prst="downArrow">
            <a:avLst>
              <a:gd name="adj1" fmla="val 50000"/>
              <a:gd name="adj2" fmla="val 47164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rot="2868000">
            <a:off x="6075720" y="3859920"/>
            <a:ext cx="477720" cy="755640"/>
          </a:xfrm>
          <a:prstGeom prst="downArrow">
            <a:avLst>
              <a:gd name="adj1" fmla="val 50000"/>
              <a:gd name="adj2" fmla="val 39544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928960" y="4619880"/>
            <a:ext cx="4094280" cy="1242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um of dual valu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Satured arcs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of the j-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Non-Basic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28960" y="4638600"/>
            <a:ext cx="4573440" cy="124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Dual value of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-th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Key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associated to same commo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of Non-Basic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.2.2 - How to Calculate Reduced Co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486400" y="4756680"/>
            <a:ext cx="3276720" cy="1015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Dual value of i-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Saturated 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295280" y="4737960"/>
            <a:ext cx="3581640" cy="101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Cost of j-th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Non-Basic 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(Saturated A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143000" y="20566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f A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 Narrow"/>
              </a:rPr>
              <a:t>j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is associated to 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Arial Narrow"/>
              </a:rPr>
              <a:t>non basic arc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429000" y="2971800"/>
                <a:ext cx="2590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 flipH="1">
            <a:off x="3581280" y="3505320"/>
            <a:ext cx="914400" cy="1143000"/>
          </a:xfrm>
          <a:prstGeom prst="line">
            <a:avLst/>
          </a:prstGeom>
          <a:ln w="76320">
            <a:solidFill>
              <a:srgbClr val="e1e1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524560" y="3638520"/>
            <a:ext cx="685800" cy="990720"/>
          </a:xfrm>
          <a:prstGeom prst="line">
            <a:avLst/>
          </a:prstGeom>
          <a:ln w="76320">
            <a:solidFill>
              <a:srgbClr val="e1e1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2.2.5 - How to update Entering Colum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-4495680" y="685440"/>
            <a:ext cx="4114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 as transparências para os c-chapeu do mesmo jeito , mas na hora da apresentacao, não se detenha nelas, porque não dá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447920" y="2057400"/>
                <a:ext cx="15602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Â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8" name=""/>
          <p:cNvSpPr/>
          <p:nvPr/>
        </p:nvSpPr>
        <p:spPr>
          <a:xfrm>
            <a:off x="990720" y="319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f the entering variable is a 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Arial Narrow"/>
              </a:rPr>
              <a:t>Path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1523880" y="4038480"/>
                <a:ext cx="45133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Â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e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nBasic</m:t>
                        </m:r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523880" y="4876920"/>
                <a:ext cx="46576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Â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DÂ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ey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nBasic</m:t>
                        </m:r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523880" y="5791320"/>
                <a:ext cx="2324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Â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Â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4038480" y="1295280"/>
                <a:ext cx="171000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Â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Â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  <m:sup>
                                  <m:r>
                                    <m:t xml:space="preserve">j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Â</m:t>
                                  </m:r>
                                </m:e>
                                <m:sub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acc>
                                </m:sub>
                                <m:sup>
                                  <m:r>
                                    <m:t xml:space="preserve">j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Â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j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3" name=""/>
          <p:cNvSpPr/>
          <p:nvPr/>
        </p:nvSpPr>
        <p:spPr>
          <a:xfrm>
            <a:off x="5715000" y="1467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aturated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886360" y="2038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onSaturated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65776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mmod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63868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638680" y="2286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6386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2.2.5 - How to update Entering Colum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-4495680" y="685440"/>
            <a:ext cx="4114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 as transparências para os c-chapeu do mesmo jeito , mas na hora da apresentacao, não se detenha nelas, porque não dá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447920" y="2057400"/>
                <a:ext cx="15602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Â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990720" y="3199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If the entering variable is a </a:t>
            </a:r>
            <a:r>
              <a:rPr b="0" i="1" lang="pt-BR" sz="3200" spc="-1" strike="noStrike" u="sng">
                <a:solidFill>
                  <a:srgbClr val="000000"/>
                </a:solidFill>
                <a:uFillTx/>
                <a:latin typeface="Arial Narrow"/>
              </a:rPr>
              <a:t>Saturated Arc</a:t>
            </a: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1752480" y="4038480"/>
                <a:ext cx="18558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Â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1771560" y="4876920"/>
                <a:ext cx="1602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Â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DÂ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1778040" y="5753160"/>
                <a:ext cx="18144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Â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Â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4038480" y="1295280"/>
                <a:ext cx="171000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Â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Â</m:t>
                                  </m:r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  <m:sup>
                                  <m:r>
                                    <m:t xml:space="preserve">j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Â</m:t>
                                  </m:r>
                                </m:e>
                                <m:sub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acc>
                                </m:sub>
                                <m:sup>
                                  <m:r>
                                    <m:t xml:space="preserve">j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Â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j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7" name=""/>
          <p:cNvSpPr/>
          <p:nvPr/>
        </p:nvSpPr>
        <p:spPr>
          <a:xfrm>
            <a:off x="5715000" y="1467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aturated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886360" y="2038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onSaturated 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657760" y="25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mmod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638680" y="1676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638680" y="2286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6386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2.2.4 - How to choose the column to leave the basi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84" name=""/>
          <p:cNvGrpSpPr/>
          <p:nvPr/>
        </p:nvGrpSpPr>
        <p:grpSpPr>
          <a:xfrm>
            <a:off x="1143000" y="1981080"/>
            <a:ext cx="7086600" cy="4391280"/>
            <a:chOff x="1143000" y="1981080"/>
            <a:chExt cx="7086600" cy="4391280"/>
          </a:xfrm>
        </p:grpSpPr>
        <mc:AlternateContent>
          <mc:Choice xmlns:a14="http://schemas.microsoft.com/office/drawing/2010/main" Requires="a14">
            <p:sp>
              <p:nvSpPr>
                <p:cNvPr id="1485" name=""/>
                <p:cNvSpPr txBox="1"/>
                <p:nvPr/>
              </p:nvSpPr>
              <p:spPr>
                <a:xfrm>
                  <a:off x="1447560" y="2438280"/>
                  <a:ext cx="6782040" cy="9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Â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j</m:t>
                              </m:r>
                            </m:sup>
                          </m:sSubSup>
                          <m:r>
                            <m:t xml:space="preserve">[</m:t>
                          </m:r>
                          <m:r>
                            <m:t xml:space="preserve">r</m:t>
                          </m:r>
                          <m:r>
                            <m:t xml:space="preserve">]</m:t>
                          </m:r>
                        </m:den>
                      </m:f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sSubSup>
                            <m:e>
                              <m:r>
                                <m:t xml:space="preserve">Â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j</m:t>
                              </m:r>
                            </m:sup>
                          </m:sSubSup>
                          <m:r>
                            <m:t xml:space="preserve">[</m:t>
                          </m:r>
                          <m:r>
                            <m:t xml:space="preserve">i</m:t>
                          </m:r>
                          <m:r>
                            <m:t xml:space="preserve">]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lim>
                      </m:limLow>
                      <m:f>
                        <m:num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Â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j</m:t>
                              </m:r>
                            </m:sup>
                          </m:sSubSup>
                          <m:r>
                            <m:t xml:space="preserve">[</m:t>
                          </m:r>
                          <m:r>
                            <m:t xml:space="preserve">i</m:t>
                          </m:r>
                          <m:r>
                            <m:t xml:space="preserve">]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with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and</m:t>
                      </m:r>
                      <m:sSubSup>
                        <m:e>
                          <m:r>
                            <m:t xml:space="preserve">Â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j</m:t>
                          </m:r>
                        </m:sup>
                      </m:sSubSup>
                      <m:r>
                        <m:t xml:space="preserve">[</m:t>
                      </m:r>
                      <m:r>
                        <m:t xml:space="preserve">i</m:t>
                      </m:r>
                      <m:r>
                        <m:t xml:space="preserve">]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86" name=""/>
            <p:cNvSpPr/>
            <p:nvPr/>
          </p:nvSpPr>
          <p:spPr>
            <a:xfrm>
              <a:off x="1371600" y="19810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Non-Key Pa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295280" y="35053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Key Pa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8" name=""/>
                <p:cNvSpPr txBox="1"/>
                <p:nvPr/>
              </p:nvSpPr>
              <p:spPr>
                <a:xfrm>
                  <a:off x="1447560" y="3962520"/>
                  <a:ext cx="678204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Â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j</m:t>
                              </m:r>
                            </m:sup>
                          </m:sSubSup>
                          <m:r>
                            <m:t xml:space="preserve">[</m:t>
                          </m:r>
                          <m:r>
                            <m:t xml:space="preserve">r</m:t>
                          </m:r>
                          <m:r>
                            <m:t xml:space="preserve">]</m:t>
                          </m:r>
                        </m:den>
                      </m:f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sSubSup>
                            <m:e>
                              <m:r>
                                <m:t xml:space="preserve">Â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j</m:t>
                              </m:r>
                            </m:sup>
                          </m:sSubSup>
                          <m:r>
                            <m:t xml:space="preserve">[</m:t>
                          </m:r>
                          <m:r>
                            <m:t xml:space="preserve">i</m:t>
                          </m:r>
                          <m:r>
                            <m:t xml:space="preserve">]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lim>
                      </m:limLow>
                      <m:f>
                        <m:num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Â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j</m:t>
                              </m:r>
                            </m:sup>
                          </m:sSubSup>
                          <m:r>
                            <m:t xml:space="preserve">[</m:t>
                          </m:r>
                          <m:r>
                            <m:t xml:space="preserve">i</m:t>
                          </m:r>
                          <m:r>
                            <m:t xml:space="preserve">]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with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and</m:t>
                      </m:r>
                      <m:sSubSup>
                        <m:e>
                          <m:r>
                            <m:t xml:space="preserve">Â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j</m:t>
                          </m:r>
                        </m:sup>
                      </m:sSubSup>
                      <m:r>
                        <m:t xml:space="preserve">[</m:t>
                      </m:r>
                      <m:r>
                        <m:t xml:space="preserve">i</m:t>
                      </m:r>
                      <m:r>
                        <m:t xml:space="preserve">]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89" name=""/>
            <p:cNvSpPr/>
            <p:nvPr/>
          </p:nvSpPr>
          <p:spPr>
            <a:xfrm>
              <a:off x="1143000" y="495288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Non-Saturated Ar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0" name=""/>
                <p:cNvSpPr txBox="1"/>
                <p:nvPr/>
              </p:nvSpPr>
              <p:spPr>
                <a:xfrm>
                  <a:off x="1218960" y="5410080"/>
                  <a:ext cx="6782040" cy="96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Â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sub>
                            <m:sup>
                              <m:r>
                                <m:t xml:space="preserve">j</m:t>
                              </m:r>
                            </m:sup>
                          </m:sSubSup>
                          <m:r>
                            <m:t xml:space="preserve">[</m:t>
                          </m:r>
                          <m:r>
                            <m:t xml:space="preserve">r</m:t>
                          </m:r>
                          <m:r>
                            <m:t xml:space="preserve">]</m:t>
                          </m:r>
                        </m:den>
                      </m:f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sSubSup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sub>
                            <m:sup>
                              <m:r>
                                <m:t xml:space="preserve">j</m:t>
                              </m:r>
                            </m:sup>
                          </m:sSubSup>
                          <m:r>
                            <m:t xml:space="preserve">[</m:t>
                          </m:r>
                          <m:r>
                            <m:t xml:space="preserve">i</m:t>
                          </m:r>
                          <m:r>
                            <m:t xml:space="preserve">]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lim>
                      </m:limLow>
                      <m:f>
                        <m:num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b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Â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sub>
                            <m:sup>
                              <m:r>
                                <m:t xml:space="preserve">j</m:t>
                              </m:r>
                            </m:sup>
                          </m:sSubSup>
                          <m:r>
                            <m:t xml:space="preserve">[</m:t>
                          </m:r>
                          <m:r>
                            <m:t xml:space="preserve">i</m:t>
                          </m:r>
                          <m:r>
                            <m:t xml:space="preserve">]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with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l</m:t>
                          </m:r>
                        </m:e>
                      </m:d>
                      <m:r>
                        <m:t xml:space="preserve">,</m:t>
                      </m:r>
                      <m:sSubSup>
                        <m:e>
                          <m:r>
                            <m:t xml:space="preserve">Â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sub>
                        <m:sup>
                          <m:r>
                            <m:t xml:space="preserve">j</m:t>
                          </m:r>
                        </m:sup>
                      </m:sSubSup>
                      <m:r>
                        <m:t xml:space="preserve">[</m:t>
                      </m:r>
                      <m:r>
                        <m:t xml:space="preserve">i</m:t>
                      </m:r>
                      <m:r>
                        <m:t xml:space="preserve">]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2.2.4 - How to update RH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-472428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a as transparências para os c-chapeu do mesmo jeito , mas na hora da apresentacao, não se detenha nelas, porque não dá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990720" y="1981080"/>
                <a:ext cx="73152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ΔÂ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]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990720" y="2895480"/>
                <a:ext cx="17334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2895480" y="2971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the entering variable is a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at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"/>
              <p:cNvSpPr txBox="1"/>
              <p:nvPr/>
            </p:nvSpPr>
            <p:spPr>
              <a:xfrm>
                <a:off x="990720" y="3733920"/>
                <a:ext cx="25444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7" name=""/>
          <p:cNvSpPr/>
          <p:nvPr/>
        </p:nvSpPr>
        <p:spPr>
          <a:xfrm>
            <a:off x="3733920" y="3809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the entering variable is a 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3 - Cycle Matrix Inverse Updating Ca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 - product form of the in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- cycle matrix size changes along th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523880" y="4049640"/>
            <a:ext cx="175284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429000" y="4246560"/>
            <a:ext cx="1600200" cy="132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181480" y="4473720"/>
            <a:ext cx="1371600" cy="11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705720" y="5027760"/>
            <a:ext cx="685800" cy="58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620120" y="5185080"/>
            <a:ext cx="457200" cy="40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229600" y="5392800"/>
            <a:ext cx="304920" cy="22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-3633840" y="1140840"/>
            <a:ext cx="33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ac, incluir uma figura mostrando a forma produto da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many WB-inverse updating cas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different cycle inverse updating c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9" name=""/>
          <p:cNvGraphicFramePr/>
          <p:nvPr/>
        </p:nvGraphicFramePr>
        <p:xfrm>
          <a:off x="1219320" y="2438280"/>
          <a:ext cx="83055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83055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1" name=""/>
          <p:cNvSpPr/>
          <p:nvPr/>
        </p:nvSpPr>
        <p:spPr>
          <a:xfrm>
            <a:off x="-1724040" y="1903320"/>
            <a:ext cx="14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rar quadro sint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 - The Minimum Cost Multicommodity Network Flow Probl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- The MCMNF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 -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- linear programming problem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-arc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-path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 - solution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a cada caso,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re o particionamento original d problema, indicando qual o tipo de coluna que entra, e o particionamento da base, mostrando o tipo de coluna que s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transparencia seguinte, mostre a figura com o resumo do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Case 1a - </a:t>
            </a: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Path </a:t>
            </a:r>
            <a:r>
              <a:rPr b="0" i="1" lang="pt-BR" sz="36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i="1" lang="pt-BR" sz="3600" spc="-1" strike="noStrike" baseline="30000">
                <a:solidFill>
                  <a:srgbClr val="003366"/>
                </a:solidFill>
                <a:latin typeface="Times New Roman"/>
              </a:rPr>
              <a:t>j</a:t>
            </a: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 enters and a Non-Key Path </a:t>
            </a:r>
            <a:r>
              <a:rPr b="0" i="1" lang="pt-BR" sz="36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i="1" lang="pt-BR" sz="3600" spc="-1" strike="noStrike" baseline="30000">
                <a:solidFill>
                  <a:srgbClr val="003366"/>
                </a:solidFill>
                <a:latin typeface="Times New Roman"/>
              </a:rPr>
              <a:t>NonKey[r]</a:t>
            </a: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 leaves the bas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7848720" y="3124080"/>
            <a:ext cx="176040" cy="2977920"/>
            <a:chOff x="7848720" y="3124080"/>
            <a:chExt cx="176040" cy="2977920"/>
          </a:xfrm>
        </p:grpSpPr>
        <p:sp>
          <p:nvSpPr>
            <p:cNvPr id="1516" name=""/>
            <p:cNvSpPr/>
            <p:nvPr/>
          </p:nvSpPr>
          <p:spPr>
            <a:xfrm>
              <a:off x="7848720" y="312408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848720" y="411768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48720" y="510840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1447920" y="428616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895480" y="314316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138480" y="335268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22" name=""/>
          <p:cNvSpPr/>
          <p:nvPr/>
        </p:nvSpPr>
        <p:spPr>
          <a:xfrm>
            <a:off x="2895480" y="413388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3138480" y="434340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24" name=""/>
          <p:cNvSpPr/>
          <p:nvPr/>
        </p:nvSpPr>
        <p:spPr>
          <a:xfrm>
            <a:off x="2895480" y="512460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271680" y="5424480"/>
                <a:ext cx="233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6" name=""/>
          <p:cNvSpPr/>
          <p:nvPr/>
        </p:nvSpPr>
        <p:spPr>
          <a:xfrm>
            <a:off x="3886200" y="314316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4113360" y="3352680"/>
                <a:ext cx="533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28" name=""/>
          <p:cNvSpPr/>
          <p:nvPr/>
        </p:nvSpPr>
        <p:spPr>
          <a:xfrm>
            <a:off x="4876920" y="314316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5192640" y="3413160"/>
                <a:ext cx="352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0" name=""/>
          <p:cNvSpPr/>
          <p:nvPr/>
        </p:nvSpPr>
        <p:spPr>
          <a:xfrm>
            <a:off x="3886200" y="413388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4113360" y="4343400"/>
                <a:ext cx="533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32" name=""/>
          <p:cNvSpPr/>
          <p:nvPr/>
        </p:nvSpPr>
        <p:spPr>
          <a:xfrm>
            <a:off x="3890880" y="512460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4173480" y="5413320"/>
                <a:ext cx="380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4" name=""/>
          <p:cNvSpPr/>
          <p:nvPr/>
        </p:nvSpPr>
        <p:spPr>
          <a:xfrm>
            <a:off x="4881600" y="413388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119560" y="4452840"/>
                <a:ext cx="4701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6" name=""/>
          <p:cNvSpPr/>
          <p:nvPr/>
        </p:nvSpPr>
        <p:spPr>
          <a:xfrm>
            <a:off x="4881600" y="512460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5180040" y="5356080"/>
                <a:ext cx="35064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38" name=""/>
          <p:cNvGrpSpPr/>
          <p:nvPr/>
        </p:nvGrpSpPr>
        <p:grpSpPr>
          <a:xfrm>
            <a:off x="4038480" y="3143160"/>
            <a:ext cx="176040" cy="2977920"/>
            <a:chOff x="4038480" y="3143160"/>
            <a:chExt cx="176040" cy="2977920"/>
          </a:xfrm>
        </p:grpSpPr>
        <p:sp>
          <p:nvSpPr>
            <p:cNvPr id="1539" name=""/>
            <p:cNvSpPr/>
            <p:nvPr/>
          </p:nvSpPr>
          <p:spPr>
            <a:xfrm>
              <a:off x="4038480" y="314316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038480" y="413676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038480" y="512748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"/>
          <p:cNvSpPr/>
          <p:nvPr/>
        </p:nvSpPr>
        <p:spPr>
          <a:xfrm>
            <a:off x="7086600" y="1943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Enter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352680" y="1981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Leav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1148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924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se 1a - Updating of Q</a:t>
            </a:r>
            <a:r>
              <a:rPr b="0" lang="pt-BR" sz="44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1828440" y="3200400"/>
            <a:ext cx="6172560" cy="2211120"/>
            <a:chOff x="1828440" y="3200400"/>
            <a:chExt cx="6172560" cy="2211120"/>
          </a:xfrm>
        </p:grpSpPr>
        <p:sp>
          <p:nvSpPr>
            <p:cNvPr id="1548" name=""/>
            <p:cNvSpPr/>
            <p:nvPr/>
          </p:nvSpPr>
          <p:spPr>
            <a:xfrm>
              <a:off x="8001000" y="32004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1828440" y="5410080"/>
              <a:ext cx="617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1828800" y="32004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1828440" y="3200400"/>
              <a:ext cx="617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479680" y="3657600"/>
              <a:ext cx="1406520" cy="13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t-BR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962520" y="4343400"/>
              <a:ext cx="48888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496040" y="3657600"/>
              <a:ext cx="1406520" cy="13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065920" y="3657600"/>
              <a:ext cx="193680" cy="1366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019920" y="3657600"/>
              <a:ext cx="1406520" cy="13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t-BR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" name=""/>
          <p:cNvSpPr/>
          <p:nvPr/>
        </p:nvSpPr>
        <p:spPr>
          <a:xfrm>
            <a:off x="2133720" y="139752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. Pivoting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Case 1b - 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Path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i="1" lang="pt-BR" sz="2800" spc="-1" strike="noStrike" baseline="30000">
                <a:solidFill>
                  <a:srgbClr val="003366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enters and a Key Path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i="1" lang="pt-BR" sz="2800" spc="-1" strike="noStrike" baseline="30000">
                <a:solidFill>
                  <a:srgbClr val="003366"/>
                </a:solidFill>
                <a:latin typeface="Times New Roman"/>
              </a:rPr>
              <a:t>Key[r]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of an essential commodity leaves the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7010280" y="3117960"/>
            <a:ext cx="176040" cy="2977920"/>
            <a:chOff x="7010280" y="3117960"/>
            <a:chExt cx="176040" cy="2977920"/>
          </a:xfrm>
        </p:grpSpPr>
        <p:sp>
          <p:nvSpPr>
            <p:cNvPr id="1560" name=""/>
            <p:cNvSpPr/>
            <p:nvPr/>
          </p:nvSpPr>
          <p:spPr>
            <a:xfrm>
              <a:off x="7010280" y="311796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10280" y="411156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10280" y="510228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3" name=""/>
          <p:cNvSpPr/>
          <p:nvPr/>
        </p:nvSpPr>
        <p:spPr>
          <a:xfrm>
            <a:off x="838080" y="428616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286000" y="314316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2529000" y="335268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66" name=""/>
          <p:cNvSpPr/>
          <p:nvPr/>
        </p:nvSpPr>
        <p:spPr>
          <a:xfrm>
            <a:off x="2286000" y="413388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2529000" y="434340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68" name=""/>
          <p:cNvSpPr/>
          <p:nvPr/>
        </p:nvSpPr>
        <p:spPr>
          <a:xfrm>
            <a:off x="2286000" y="512460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2662200" y="5424480"/>
                <a:ext cx="2332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0" name=""/>
          <p:cNvSpPr/>
          <p:nvPr/>
        </p:nvSpPr>
        <p:spPr>
          <a:xfrm>
            <a:off x="3276720" y="314316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3503520" y="33526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72" name=""/>
          <p:cNvSpPr/>
          <p:nvPr/>
        </p:nvSpPr>
        <p:spPr>
          <a:xfrm>
            <a:off x="4267080" y="314316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4583160" y="3413160"/>
                <a:ext cx="352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4" name=""/>
          <p:cNvSpPr/>
          <p:nvPr/>
        </p:nvSpPr>
        <p:spPr>
          <a:xfrm>
            <a:off x="3276720" y="413388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3503520" y="434340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>
            <a:off x="3281400" y="512460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3564000" y="5413320"/>
                <a:ext cx="380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8" name=""/>
          <p:cNvSpPr/>
          <p:nvPr/>
        </p:nvSpPr>
        <p:spPr>
          <a:xfrm>
            <a:off x="4272120" y="413388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4510080" y="4452840"/>
                <a:ext cx="4698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0" name=""/>
          <p:cNvSpPr/>
          <p:nvPr/>
        </p:nvSpPr>
        <p:spPr>
          <a:xfrm>
            <a:off x="4272120" y="512460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0560" y="5356080"/>
                <a:ext cx="35064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82" name=""/>
          <p:cNvGrpSpPr/>
          <p:nvPr/>
        </p:nvGrpSpPr>
        <p:grpSpPr>
          <a:xfrm>
            <a:off x="3962520" y="3117960"/>
            <a:ext cx="176040" cy="2977920"/>
            <a:chOff x="3962520" y="3117960"/>
            <a:chExt cx="176040" cy="2977920"/>
          </a:xfrm>
        </p:grpSpPr>
        <p:sp>
          <p:nvSpPr>
            <p:cNvPr id="1583" name=""/>
            <p:cNvSpPr/>
            <p:nvPr/>
          </p:nvSpPr>
          <p:spPr>
            <a:xfrm>
              <a:off x="3962520" y="3117960"/>
              <a:ext cx="176040" cy="993600"/>
            </a:xfrm>
            <a:prstGeom prst="rect">
              <a:avLst/>
            </a:prstGeom>
            <a:solidFill>
              <a:srgbClr val="d1d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962520" y="4111560"/>
              <a:ext cx="176040" cy="993600"/>
            </a:xfrm>
            <a:prstGeom prst="rect">
              <a:avLst/>
            </a:prstGeom>
            <a:solidFill>
              <a:srgbClr val="d1d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962520" y="5102280"/>
              <a:ext cx="176040" cy="993600"/>
            </a:xfrm>
            <a:prstGeom prst="rect">
              <a:avLst/>
            </a:prstGeom>
            <a:solidFill>
              <a:srgbClr val="d1d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6324480" y="1981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Enter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752480" y="1981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Leav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2438280" y="3124080"/>
            <a:ext cx="176040" cy="2977920"/>
            <a:chOff x="2438280" y="3124080"/>
            <a:chExt cx="176040" cy="2977920"/>
          </a:xfrm>
        </p:grpSpPr>
        <p:sp>
          <p:nvSpPr>
            <p:cNvPr id="1589" name=""/>
            <p:cNvSpPr/>
            <p:nvPr/>
          </p:nvSpPr>
          <p:spPr>
            <a:xfrm>
              <a:off x="2438280" y="312408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438280" y="411768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438280" y="510840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2514600" y="27813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0866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038480" y="272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200400" y="1905120"/>
            <a:ext cx="2209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Narrow"/>
              </a:rPr>
              <a:t>NonKey column associated with R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 Narrow"/>
              </a:rPr>
              <a:t>key[r]</a:t>
            </a: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se 1b - Updating of Q</a:t>
            </a:r>
            <a:r>
              <a:rPr b="0" lang="pt-BR" sz="44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295280" y="14112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1. Interchanging key column with non-key column - generate (Q’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2. Pivoting Operation -  (case 1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1295280" y="3733560"/>
            <a:ext cx="7469280" cy="2210040"/>
            <a:chOff x="1295280" y="3733560"/>
            <a:chExt cx="7469280" cy="2210040"/>
          </a:xfrm>
        </p:grpSpPr>
        <p:sp>
          <p:nvSpPr>
            <p:cNvPr id="1599" name=""/>
            <p:cNvSpPr/>
            <p:nvPr/>
          </p:nvSpPr>
          <p:spPr>
            <a:xfrm>
              <a:off x="8763120" y="3733920"/>
              <a:ext cx="144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1295280" y="594360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1295280" y="3733560"/>
              <a:ext cx="0" cy="22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1295280" y="373392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3" name=""/>
            <p:cNvGrpSpPr/>
            <p:nvPr/>
          </p:nvGrpSpPr>
          <p:grpSpPr>
            <a:xfrm>
              <a:off x="1752480" y="4190760"/>
              <a:ext cx="6588360" cy="1374120"/>
              <a:chOff x="1752480" y="4190760"/>
              <a:chExt cx="6588360" cy="1374120"/>
            </a:xfrm>
          </p:grpSpPr>
          <p:sp>
            <p:nvSpPr>
              <p:cNvPr id="1604" name=""/>
              <p:cNvSpPr/>
              <p:nvPr/>
            </p:nvSpPr>
            <p:spPr>
              <a:xfrm>
                <a:off x="1752480" y="4190760"/>
                <a:ext cx="1406520" cy="137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pt-BR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t-BR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+1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pt-BR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235320" y="4876200"/>
                <a:ext cx="488880" cy="39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768840" y="4190760"/>
                <a:ext cx="1406520" cy="137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338720" y="4190760"/>
                <a:ext cx="193680" cy="1366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934320" y="4191840"/>
                <a:ext cx="1406520" cy="13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i="1" lang="pt-BR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pt-BR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334120" y="4191840"/>
                <a:ext cx="1406520" cy="13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 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334120" y="4801680"/>
                <a:ext cx="1403280" cy="190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Case 1c - 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Path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i="1" lang="pt-BR" sz="2800" spc="-1" strike="noStrike" baseline="30000">
                <a:solidFill>
                  <a:srgbClr val="003366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enters and a Key Path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i="1" lang="pt-BR" sz="2800" spc="-1" strike="noStrike" baseline="30000">
                <a:solidFill>
                  <a:srgbClr val="003366"/>
                </a:solidFill>
                <a:latin typeface="Times New Roman"/>
              </a:rPr>
              <a:t>Key[r]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of a non essential commodity leaves the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838080" y="428616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752480" y="196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Leav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6934320" y="3117960"/>
            <a:ext cx="176040" cy="2977920"/>
            <a:chOff x="6934320" y="3117960"/>
            <a:chExt cx="176040" cy="2977920"/>
          </a:xfrm>
        </p:grpSpPr>
        <p:sp>
          <p:nvSpPr>
            <p:cNvPr id="1615" name=""/>
            <p:cNvSpPr/>
            <p:nvPr/>
          </p:nvSpPr>
          <p:spPr>
            <a:xfrm>
              <a:off x="6934320" y="311796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934320" y="411156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34320" y="510228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8" name=""/>
          <p:cNvSpPr/>
          <p:nvPr/>
        </p:nvSpPr>
        <p:spPr>
          <a:xfrm>
            <a:off x="2286000" y="314316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2529000" y="335268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20" name=""/>
          <p:cNvSpPr/>
          <p:nvPr/>
        </p:nvSpPr>
        <p:spPr>
          <a:xfrm>
            <a:off x="2286000" y="413388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2529000" y="434340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2286000" y="512460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662200" y="5424480"/>
                <a:ext cx="2332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4" name=""/>
          <p:cNvSpPr/>
          <p:nvPr/>
        </p:nvSpPr>
        <p:spPr>
          <a:xfrm>
            <a:off x="3276720" y="314316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3503520" y="33526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26" name=""/>
          <p:cNvSpPr/>
          <p:nvPr/>
        </p:nvSpPr>
        <p:spPr>
          <a:xfrm>
            <a:off x="4267080" y="314316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83160" y="3413160"/>
                <a:ext cx="352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8" name=""/>
          <p:cNvSpPr/>
          <p:nvPr/>
        </p:nvSpPr>
        <p:spPr>
          <a:xfrm>
            <a:off x="3276720" y="413388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3503520" y="434340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30" name=""/>
          <p:cNvSpPr/>
          <p:nvPr/>
        </p:nvSpPr>
        <p:spPr>
          <a:xfrm>
            <a:off x="3281400" y="512460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3564000" y="5413320"/>
                <a:ext cx="380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2" name=""/>
          <p:cNvSpPr/>
          <p:nvPr/>
        </p:nvSpPr>
        <p:spPr>
          <a:xfrm>
            <a:off x="4272120" y="413388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4510080" y="4452840"/>
                <a:ext cx="4698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4" name=""/>
          <p:cNvSpPr/>
          <p:nvPr/>
        </p:nvSpPr>
        <p:spPr>
          <a:xfrm>
            <a:off x="4272120" y="512460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4570560" y="5356080"/>
                <a:ext cx="35064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6" name=""/>
          <p:cNvGrpSpPr/>
          <p:nvPr/>
        </p:nvGrpSpPr>
        <p:grpSpPr>
          <a:xfrm>
            <a:off x="2438280" y="3124080"/>
            <a:ext cx="176040" cy="2977920"/>
            <a:chOff x="2438280" y="3124080"/>
            <a:chExt cx="176040" cy="2977920"/>
          </a:xfrm>
        </p:grpSpPr>
        <p:sp>
          <p:nvSpPr>
            <p:cNvPr id="1637" name=""/>
            <p:cNvSpPr/>
            <p:nvPr/>
          </p:nvSpPr>
          <p:spPr>
            <a:xfrm>
              <a:off x="2438280" y="312408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438280" y="411768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438280" y="510840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6210360" y="196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Enter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010280" y="2838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5146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se 1c - Updating of Q</a:t>
            </a:r>
            <a:r>
              <a:rPr b="0" lang="pt-BR" sz="44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644" name=""/>
          <p:cNvGrpSpPr/>
          <p:nvPr/>
        </p:nvGrpSpPr>
        <p:grpSpPr>
          <a:xfrm>
            <a:off x="2514240" y="3276720"/>
            <a:ext cx="4800960" cy="2210760"/>
            <a:chOff x="2514240" y="3276720"/>
            <a:chExt cx="4800960" cy="2210760"/>
          </a:xfrm>
        </p:grpSpPr>
        <p:sp>
          <p:nvSpPr>
            <p:cNvPr id="1645" name=""/>
            <p:cNvSpPr/>
            <p:nvPr/>
          </p:nvSpPr>
          <p:spPr>
            <a:xfrm>
              <a:off x="7315200" y="32767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2514240" y="5486400"/>
              <a:ext cx="4800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2514600" y="32767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2514240" y="3276720"/>
              <a:ext cx="4800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165480" y="3733560"/>
              <a:ext cx="1406520" cy="13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t-BR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648320" y="4419360"/>
              <a:ext cx="48888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222880" y="3733560"/>
              <a:ext cx="1406520" cy="13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t-BR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1302120" y="1867680"/>
            <a:ext cx="251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te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1. Pivoting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Case 1d - Path </a:t>
            </a:r>
            <a:r>
              <a:rPr b="0" i="1" lang="pt-BR" sz="32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i="1" lang="pt-BR" sz="3200" spc="-1" strike="noStrike" baseline="30000">
                <a:solidFill>
                  <a:srgbClr val="003366"/>
                </a:solidFill>
                <a:latin typeface="Times New Roman"/>
              </a:rPr>
              <a:t>j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enters and the r-th non saturated arc         leaves the basi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3429000" y="1066680"/>
                <a:ext cx="6858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5" name=""/>
          <p:cNvSpPr/>
          <p:nvPr/>
        </p:nvSpPr>
        <p:spPr>
          <a:xfrm>
            <a:off x="838080" y="42768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133880" y="1981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Leav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286000" y="313380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2529000" y="334332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59" name=""/>
          <p:cNvSpPr/>
          <p:nvPr/>
        </p:nvSpPr>
        <p:spPr>
          <a:xfrm>
            <a:off x="2286000" y="412416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2529000" y="4334040"/>
                <a:ext cx="500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61" name=""/>
          <p:cNvSpPr/>
          <p:nvPr/>
        </p:nvSpPr>
        <p:spPr>
          <a:xfrm>
            <a:off x="2286000" y="511488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2662200" y="5415120"/>
                <a:ext cx="2332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3" name=""/>
          <p:cNvSpPr/>
          <p:nvPr/>
        </p:nvSpPr>
        <p:spPr>
          <a:xfrm>
            <a:off x="3276720" y="313380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3503520" y="334332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4267080" y="313380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6" name=""/>
              <p:cNvSpPr txBox="1"/>
              <p:nvPr/>
            </p:nvSpPr>
            <p:spPr>
              <a:xfrm>
                <a:off x="4583160" y="3403440"/>
                <a:ext cx="35244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7" name=""/>
          <p:cNvSpPr/>
          <p:nvPr/>
        </p:nvSpPr>
        <p:spPr>
          <a:xfrm>
            <a:off x="3276720" y="412416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3503520" y="433404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3281400" y="511488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64000" y="5403960"/>
                <a:ext cx="380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4272120" y="4124160"/>
            <a:ext cx="99036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4510080" y="4443480"/>
                <a:ext cx="4698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3" name=""/>
          <p:cNvSpPr/>
          <p:nvPr/>
        </p:nvSpPr>
        <p:spPr>
          <a:xfrm>
            <a:off x="4272120" y="5114880"/>
            <a:ext cx="99036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4570560" y="5346720"/>
                <a:ext cx="350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75" name=""/>
          <p:cNvGrpSpPr/>
          <p:nvPr/>
        </p:nvGrpSpPr>
        <p:grpSpPr>
          <a:xfrm>
            <a:off x="4876920" y="3124080"/>
            <a:ext cx="176040" cy="2977920"/>
            <a:chOff x="4876920" y="3124080"/>
            <a:chExt cx="176040" cy="2977920"/>
          </a:xfrm>
        </p:grpSpPr>
        <p:sp>
          <p:nvSpPr>
            <p:cNvPr id="1676" name=""/>
            <p:cNvSpPr/>
            <p:nvPr/>
          </p:nvSpPr>
          <p:spPr>
            <a:xfrm>
              <a:off x="4876920" y="312408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876920" y="411768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876920" y="510840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7543800" y="1905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Enter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2286000" y="4800240"/>
            <a:ext cx="2977920" cy="176040"/>
            <a:chOff x="2286000" y="4800240"/>
            <a:chExt cx="2977920" cy="176040"/>
          </a:xfrm>
        </p:grpSpPr>
        <p:sp>
          <p:nvSpPr>
            <p:cNvPr id="1681" name=""/>
            <p:cNvSpPr/>
            <p:nvPr/>
          </p:nvSpPr>
          <p:spPr>
            <a:xfrm flipV="1" rot="16200000">
              <a:off x="4678920" y="439092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 rot="16200000">
              <a:off x="3685320" y="439092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 rot="16200000">
              <a:off x="2694600" y="439092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4" name=""/>
          <p:cNvSpPr/>
          <p:nvPr/>
        </p:nvSpPr>
        <p:spPr>
          <a:xfrm>
            <a:off x="49528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8282160" y="2743200"/>
            <a:ext cx="176040" cy="3352680"/>
            <a:chOff x="8282160" y="2743200"/>
            <a:chExt cx="176040" cy="3352680"/>
          </a:xfrm>
        </p:grpSpPr>
        <p:grpSp>
          <p:nvGrpSpPr>
            <p:cNvPr id="1686" name=""/>
            <p:cNvGrpSpPr/>
            <p:nvPr/>
          </p:nvGrpSpPr>
          <p:grpSpPr>
            <a:xfrm>
              <a:off x="8282160" y="3117960"/>
              <a:ext cx="176040" cy="2977920"/>
              <a:chOff x="8282160" y="3117960"/>
              <a:chExt cx="176040" cy="2977920"/>
            </a:xfrm>
          </p:grpSpPr>
          <p:sp>
            <p:nvSpPr>
              <p:cNvPr id="1687" name=""/>
              <p:cNvSpPr/>
              <p:nvPr/>
            </p:nvSpPr>
            <p:spPr>
              <a:xfrm>
                <a:off x="8282160" y="3117960"/>
                <a:ext cx="176040" cy="993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282160" y="4111560"/>
                <a:ext cx="176040" cy="993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282160" y="5102280"/>
                <a:ext cx="176040" cy="993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0" name=""/>
            <p:cNvSpPr/>
            <p:nvPr/>
          </p:nvSpPr>
          <p:spPr>
            <a:xfrm>
              <a:off x="8358120" y="2743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1" name=""/>
          <p:cNvSpPr/>
          <p:nvPr/>
        </p:nvSpPr>
        <p:spPr>
          <a:xfrm>
            <a:off x="5486400" y="4648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Narrow"/>
              </a:rPr>
              <a:t>Row relative to non-saturated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5257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se 1d - Updating of Q</a:t>
            </a:r>
            <a:r>
              <a:rPr b="0" lang="pt-BR" sz="44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541760" y="41133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541760" y="41133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551480" y="4113360"/>
            <a:ext cx="533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084640" y="41133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094360" y="4113360"/>
            <a:ext cx="171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265720" y="41133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265720" y="41133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446800" y="41133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446800" y="41133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456160" y="4113360"/>
            <a:ext cx="533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989680" y="41133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99040" y="4113360"/>
            <a:ext cx="162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161040" y="41133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161040" y="41133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342120" y="41133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342120" y="41133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351480" y="4113360"/>
            <a:ext cx="532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883560" y="41133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892920" y="4113360"/>
            <a:ext cx="171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064280" y="41133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064280" y="411336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084640" y="4122720"/>
            <a:ext cx="972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446800" y="4122720"/>
            <a:ext cx="936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342120" y="4122720"/>
            <a:ext cx="936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7064280" y="4122720"/>
            <a:ext cx="972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541760" y="46465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551480" y="4646520"/>
            <a:ext cx="533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084640" y="46465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094360" y="4646520"/>
            <a:ext cx="171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265720" y="46465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446800" y="46465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456160" y="4646520"/>
            <a:ext cx="5335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989680" y="46465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999040" y="4646520"/>
            <a:ext cx="162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161040" y="46465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342120" y="46465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351480" y="4646520"/>
            <a:ext cx="532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883560" y="46465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892920" y="4646520"/>
            <a:ext cx="171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064280" y="464652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084640" y="465624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5446800" y="465624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342120" y="465624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064280" y="465624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084640" y="48276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446800" y="48276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446800" y="48276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342120" y="48276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342120" y="48276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064280" y="48276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064280" y="482760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990720" y="1604520"/>
            <a:ext cx="7924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1. Move column and row relative to non-saturated arc            to surround Q, generating (Q’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2. Pivoting Operation - the size of Q increases by 1.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7238880" y="2209680"/>
                <a:ext cx="5335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47" name=""/>
          <p:cNvGrpSpPr/>
          <p:nvPr/>
        </p:nvGrpSpPr>
        <p:grpSpPr>
          <a:xfrm>
            <a:off x="1295280" y="3733920"/>
            <a:ext cx="7469280" cy="2209680"/>
            <a:chOff x="1295280" y="3733920"/>
            <a:chExt cx="7469280" cy="2209680"/>
          </a:xfrm>
        </p:grpSpPr>
        <p:sp>
          <p:nvSpPr>
            <p:cNvPr id="1748" name=""/>
            <p:cNvSpPr/>
            <p:nvPr/>
          </p:nvSpPr>
          <p:spPr>
            <a:xfrm>
              <a:off x="8763120" y="3733920"/>
              <a:ext cx="144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1295280" y="594360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1295280" y="3733920"/>
              <a:ext cx="0" cy="22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1295280" y="373392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52480" y="4191120"/>
              <a:ext cx="1406520" cy="13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t-BR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235320" y="4876920"/>
              <a:ext cx="488880" cy="39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768840" y="4191120"/>
              <a:ext cx="1406520" cy="13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rot="5400000">
              <a:off x="4376160" y="4763880"/>
              <a:ext cx="193680" cy="1406520"/>
            </a:xfrm>
            <a:prstGeom prst="rect">
              <a:avLst/>
            </a:prstGeom>
            <a:solidFill>
              <a:srgbClr val="d1d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934320" y="4192560"/>
              <a:ext cx="1406520" cy="13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t-BR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334120" y="4192560"/>
              <a:ext cx="1406520" cy="13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334120" y="5372280"/>
              <a:ext cx="1403280" cy="190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rot="10800000">
              <a:off x="5003640" y="4187880"/>
              <a:ext cx="193680" cy="1363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rot="10800000">
              <a:off x="5003640" y="5369040"/>
              <a:ext cx="193680" cy="18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rot="10800000">
              <a:off x="6553080" y="4191120"/>
              <a:ext cx="193680" cy="1363680"/>
            </a:xfrm>
            <a:prstGeom prst="rect">
              <a:avLst/>
            </a:prstGeom>
            <a:solidFill>
              <a:srgbClr val="d1d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rot="10800000">
              <a:off x="6553080" y="5372280"/>
              <a:ext cx="193680" cy="18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rot="10800000">
              <a:off x="8153280" y="4191120"/>
              <a:ext cx="193680" cy="1363680"/>
            </a:xfrm>
            <a:prstGeom prst="rect">
              <a:avLst/>
            </a:prstGeom>
            <a:solidFill>
              <a:srgbClr val="d1d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5400000">
              <a:off x="7540200" y="4784400"/>
              <a:ext cx="193680" cy="1406520"/>
            </a:xfrm>
            <a:prstGeom prst="rect">
              <a:avLst/>
            </a:prstGeom>
            <a:solidFill>
              <a:srgbClr val="d1d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rot="10800000">
              <a:off x="8153280" y="5390640"/>
              <a:ext cx="193680" cy="187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Case 2a - 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Saturated arc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enters and a non key path R</a:t>
            </a:r>
            <a:r>
              <a:rPr b="0" lang="pt-BR" sz="2800" spc="-1" strike="noStrike" baseline="30000">
                <a:solidFill>
                  <a:srgbClr val="003366"/>
                </a:solidFill>
                <a:latin typeface="Times New Roman"/>
              </a:rPr>
              <a:t>NonKey[r]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leaves the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67" name=""/>
          <p:cNvGrpSpPr/>
          <p:nvPr/>
        </p:nvGrpSpPr>
        <p:grpSpPr>
          <a:xfrm>
            <a:off x="7848720" y="3117960"/>
            <a:ext cx="176040" cy="2977920"/>
            <a:chOff x="7848720" y="3117960"/>
            <a:chExt cx="176040" cy="2977920"/>
          </a:xfrm>
        </p:grpSpPr>
        <p:sp>
          <p:nvSpPr>
            <p:cNvPr id="1768" name=""/>
            <p:cNvSpPr/>
            <p:nvPr/>
          </p:nvSpPr>
          <p:spPr>
            <a:xfrm>
              <a:off x="7848720" y="311796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848720" y="411156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848720" y="510228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1" name=""/>
          <p:cNvSpPr/>
          <p:nvPr/>
        </p:nvSpPr>
        <p:spPr>
          <a:xfrm>
            <a:off x="838080" y="428616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286000" y="314316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3" name=""/>
              <p:cNvSpPr txBox="1"/>
              <p:nvPr/>
            </p:nvSpPr>
            <p:spPr>
              <a:xfrm>
                <a:off x="2529000" y="335268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74" name=""/>
          <p:cNvSpPr/>
          <p:nvPr/>
        </p:nvSpPr>
        <p:spPr>
          <a:xfrm>
            <a:off x="2286000" y="413388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5" name=""/>
              <p:cNvSpPr txBox="1"/>
              <p:nvPr/>
            </p:nvSpPr>
            <p:spPr>
              <a:xfrm>
                <a:off x="2529000" y="434340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76" name=""/>
          <p:cNvSpPr/>
          <p:nvPr/>
        </p:nvSpPr>
        <p:spPr>
          <a:xfrm>
            <a:off x="2286000" y="512460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7" name=""/>
              <p:cNvSpPr txBox="1"/>
              <p:nvPr/>
            </p:nvSpPr>
            <p:spPr>
              <a:xfrm>
                <a:off x="2662200" y="5424480"/>
                <a:ext cx="2332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8" name=""/>
          <p:cNvSpPr/>
          <p:nvPr/>
        </p:nvSpPr>
        <p:spPr>
          <a:xfrm>
            <a:off x="3276720" y="3143160"/>
            <a:ext cx="99036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3503520" y="33526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80" name=""/>
          <p:cNvSpPr/>
          <p:nvPr/>
        </p:nvSpPr>
        <p:spPr>
          <a:xfrm>
            <a:off x="4267080" y="314316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4583160" y="3413160"/>
                <a:ext cx="352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2" name=""/>
          <p:cNvSpPr/>
          <p:nvPr/>
        </p:nvSpPr>
        <p:spPr>
          <a:xfrm>
            <a:off x="3276720" y="4133880"/>
            <a:ext cx="99036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3503520" y="434340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3281400" y="512460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564000" y="5413320"/>
                <a:ext cx="380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6" name=""/>
          <p:cNvSpPr/>
          <p:nvPr/>
        </p:nvSpPr>
        <p:spPr>
          <a:xfrm>
            <a:off x="4272120" y="413388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7" name=""/>
              <p:cNvSpPr txBox="1"/>
              <p:nvPr/>
            </p:nvSpPr>
            <p:spPr>
              <a:xfrm>
                <a:off x="4510080" y="4452840"/>
                <a:ext cx="4698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8" name=""/>
          <p:cNvSpPr/>
          <p:nvPr/>
        </p:nvSpPr>
        <p:spPr>
          <a:xfrm>
            <a:off x="4272120" y="512460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9" name=""/>
              <p:cNvSpPr txBox="1"/>
              <p:nvPr/>
            </p:nvSpPr>
            <p:spPr>
              <a:xfrm>
                <a:off x="4570560" y="5356080"/>
                <a:ext cx="35064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0" name=""/>
          <p:cNvGrpSpPr/>
          <p:nvPr/>
        </p:nvGrpSpPr>
        <p:grpSpPr>
          <a:xfrm>
            <a:off x="3429000" y="3143160"/>
            <a:ext cx="176040" cy="2977920"/>
            <a:chOff x="3429000" y="3143160"/>
            <a:chExt cx="176040" cy="2977920"/>
          </a:xfrm>
        </p:grpSpPr>
        <p:sp>
          <p:nvSpPr>
            <p:cNvPr id="1791" name=""/>
            <p:cNvSpPr/>
            <p:nvPr/>
          </p:nvSpPr>
          <p:spPr>
            <a:xfrm>
              <a:off x="3429000" y="314316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429000" y="413676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429000" y="512748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4" name=""/>
          <p:cNvSpPr/>
          <p:nvPr/>
        </p:nvSpPr>
        <p:spPr>
          <a:xfrm>
            <a:off x="7086600" y="1981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Enter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743200" y="1981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Leav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2286000" y="3809880"/>
            <a:ext cx="2977920" cy="176040"/>
            <a:chOff x="2286000" y="3809880"/>
            <a:chExt cx="2977920" cy="176040"/>
          </a:xfrm>
        </p:grpSpPr>
        <p:sp>
          <p:nvSpPr>
            <p:cNvPr id="1797" name=""/>
            <p:cNvSpPr/>
            <p:nvPr/>
          </p:nvSpPr>
          <p:spPr>
            <a:xfrm rot="5400000">
              <a:off x="4678920" y="340092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rot="5400000">
              <a:off x="3685320" y="340092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rot="5400000">
              <a:off x="2694600" y="340092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0" name=""/>
          <p:cNvSpPr/>
          <p:nvPr/>
        </p:nvSpPr>
        <p:spPr>
          <a:xfrm>
            <a:off x="5410080" y="3581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Narrow"/>
              </a:rPr>
              <a:t>Row relative to saturated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H="1">
            <a:off x="525744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5244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924680" y="2685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.1 - The MCMNF Probl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Network and a set of commodities to be routed through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the cost of using network arcs and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rc has a maximum capaci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modity has-to-be completely ro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esign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amp; non-split commod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se 2a - Updating of Q</a:t>
            </a:r>
            <a:r>
              <a:rPr b="0" lang="pt-BR" sz="44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990360" y="4191120"/>
            <a:ext cx="7926480" cy="2209680"/>
            <a:chOff x="990360" y="4191120"/>
            <a:chExt cx="7926480" cy="2209680"/>
          </a:xfrm>
        </p:grpSpPr>
        <p:sp>
          <p:nvSpPr>
            <p:cNvPr id="1806" name=""/>
            <p:cNvSpPr/>
            <p:nvPr/>
          </p:nvSpPr>
          <p:spPr>
            <a:xfrm>
              <a:off x="8915400" y="4191120"/>
              <a:ext cx="144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990360" y="6400800"/>
              <a:ext cx="792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990720" y="4191120"/>
              <a:ext cx="0" cy="22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990360" y="4191120"/>
              <a:ext cx="792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143000" y="4570560"/>
              <a:ext cx="1406520" cy="13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t-BR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590920" y="5105520"/>
              <a:ext cx="26964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2" name=""/>
            <p:cNvGrpSpPr/>
            <p:nvPr/>
          </p:nvGrpSpPr>
          <p:grpSpPr>
            <a:xfrm>
              <a:off x="4305240" y="4572000"/>
              <a:ext cx="1406520" cy="1373040"/>
              <a:chOff x="4305240" y="4572000"/>
              <a:chExt cx="1406520" cy="1373040"/>
            </a:xfrm>
          </p:grpSpPr>
          <p:sp>
            <p:nvSpPr>
              <p:cNvPr id="1813" name=""/>
              <p:cNvSpPr/>
              <p:nvPr/>
            </p:nvSpPr>
            <p:spPr>
              <a:xfrm>
                <a:off x="4305240" y="4572000"/>
                <a:ext cx="1406520" cy="137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875120" y="4572000"/>
                <a:ext cx="193680" cy="1366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5" name=""/>
            <p:cNvSpPr/>
            <p:nvPr/>
          </p:nvSpPr>
          <p:spPr>
            <a:xfrm>
              <a:off x="5848200" y="4572000"/>
              <a:ext cx="1406520" cy="13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t-BR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2819520" y="4702320"/>
              <a:ext cx="1406520" cy="1241280"/>
              <a:chOff x="2819520" y="4702320"/>
              <a:chExt cx="1406520" cy="1241280"/>
            </a:xfrm>
          </p:grpSpPr>
          <p:sp>
            <p:nvSpPr>
              <p:cNvPr id="1817" name=""/>
              <p:cNvSpPr/>
              <p:nvPr/>
            </p:nvSpPr>
            <p:spPr>
              <a:xfrm>
                <a:off x="2819520" y="4702320"/>
                <a:ext cx="1406520" cy="124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819520" y="5388120"/>
                <a:ext cx="1403280" cy="190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5400000">
                <a:off x="2832120" y="5235480"/>
                <a:ext cx="1224000" cy="1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0" name=""/>
            <p:cNvGrpSpPr/>
            <p:nvPr/>
          </p:nvGrpSpPr>
          <p:grpSpPr>
            <a:xfrm>
              <a:off x="7353360" y="4572000"/>
              <a:ext cx="1278000" cy="1378080"/>
              <a:chOff x="7353360" y="4572000"/>
              <a:chExt cx="1278000" cy="1378080"/>
            </a:xfrm>
          </p:grpSpPr>
          <p:sp>
            <p:nvSpPr>
              <p:cNvPr id="1821" name=""/>
              <p:cNvSpPr/>
              <p:nvPr/>
            </p:nvSpPr>
            <p:spPr>
              <a:xfrm>
                <a:off x="7353360" y="4576680"/>
                <a:ext cx="1266840" cy="137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  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353360" y="5257800"/>
                <a:ext cx="1278000" cy="190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rot="5400000">
                <a:off x="7295040" y="5171400"/>
                <a:ext cx="1374840" cy="176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4" name=""/>
          <p:cNvSpPr/>
          <p:nvPr/>
        </p:nvSpPr>
        <p:spPr>
          <a:xfrm>
            <a:off x="1048680" y="1662480"/>
            <a:ext cx="563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1. Pivoting Operation, yielding (Q’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2. Column related with </a:t>
            </a: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 Narrow"/>
              </a:rPr>
              <a:t>NonKey[r]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and row relat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re discarded of (Q’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- size of Q decrease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Case 2b - 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 saturated arc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enters and a key path R</a:t>
            </a:r>
            <a:r>
              <a:rPr b="0" lang="pt-BR" sz="2800" spc="-1" strike="noStrike" baseline="30000">
                <a:solidFill>
                  <a:srgbClr val="003366"/>
                </a:solidFill>
                <a:latin typeface="Times New Roman"/>
              </a:rPr>
              <a:t>Key[r]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of an essential  commodity leaves the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7467480" y="3117960"/>
            <a:ext cx="176040" cy="2977920"/>
            <a:chOff x="7467480" y="3117960"/>
            <a:chExt cx="176040" cy="2977920"/>
          </a:xfrm>
        </p:grpSpPr>
        <p:sp>
          <p:nvSpPr>
            <p:cNvPr id="1827" name=""/>
            <p:cNvSpPr/>
            <p:nvPr/>
          </p:nvSpPr>
          <p:spPr>
            <a:xfrm>
              <a:off x="7467480" y="311796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467480" y="411156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467480" y="510228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838080" y="428616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286000" y="314316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2529000" y="335268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33" name=""/>
          <p:cNvSpPr/>
          <p:nvPr/>
        </p:nvSpPr>
        <p:spPr>
          <a:xfrm>
            <a:off x="2286000" y="413388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2529000" y="434340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2286000" y="512460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2662200" y="5424480"/>
                <a:ext cx="2332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7" name=""/>
          <p:cNvSpPr/>
          <p:nvPr/>
        </p:nvSpPr>
        <p:spPr>
          <a:xfrm>
            <a:off x="3276720" y="314316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503520" y="33526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39" name=""/>
          <p:cNvSpPr/>
          <p:nvPr/>
        </p:nvSpPr>
        <p:spPr>
          <a:xfrm>
            <a:off x="4267080" y="314316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4583160" y="3413160"/>
                <a:ext cx="352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1" name=""/>
          <p:cNvSpPr/>
          <p:nvPr/>
        </p:nvSpPr>
        <p:spPr>
          <a:xfrm>
            <a:off x="3276720" y="413388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3503520" y="434340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81400" y="512460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3564000" y="5413320"/>
                <a:ext cx="380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4272120" y="413388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0080" y="4452840"/>
                <a:ext cx="4698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272120" y="512460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4570560" y="5356080"/>
                <a:ext cx="35064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9" name=""/>
          <p:cNvGrpSpPr/>
          <p:nvPr/>
        </p:nvGrpSpPr>
        <p:grpSpPr>
          <a:xfrm>
            <a:off x="3962520" y="3117960"/>
            <a:ext cx="176040" cy="2977920"/>
            <a:chOff x="3962520" y="3117960"/>
            <a:chExt cx="176040" cy="2977920"/>
          </a:xfrm>
        </p:grpSpPr>
        <p:sp>
          <p:nvSpPr>
            <p:cNvPr id="1850" name=""/>
            <p:cNvSpPr/>
            <p:nvPr/>
          </p:nvSpPr>
          <p:spPr>
            <a:xfrm>
              <a:off x="3962520" y="3117960"/>
              <a:ext cx="176040" cy="993600"/>
            </a:xfrm>
            <a:prstGeom prst="rect">
              <a:avLst/>
            </a:prstGeom>
            <a:solidFill>
              <a:srgbClr val="d1d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962520" y="4111560"/>
              <a:ext cx="176040" cy="993600"/>
            </a:xfrm>
            <a:prstGeom prst="rect">
              <a:avLst/>
            </a:prstGeom>
            <a:solidFill>
              <a:srgbClr val="d1d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962520" y="5102280"/>
              <a:ext cx="176040" cy="993600"/>
            </a:xfrm>
            <a:prstGeom prst="rect">
              <a:avLst/>
            </a:prstGeom>
            <a:solidFill>
              <a:srgbClr val="d1d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3" name=""/>
          <p:cNvSpPr/>
          <p:nvPr/>
        </p:nvSpPr>
        <p:spPr>
          <a:xfrm>
            <a:off x="6781680" y="1981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Enter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828800" y="1981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Leav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5" name=""/>
          <p:cNvGrpSpPr/>
          <p:nvPr/>
        </p:nvGrpSpPr>
        <p:grpSpPr>
          <a:xfrm>
            <a:off x="2438280" y="3124080"/>
            <a:ext cx="176040" cy="2977920"/>
            <a:chOff x="2438280" y="3124080"/>
            <a:chExt cx="176040" cy="2977920"/>
          </a:xfrm>
        </p:grpSpPr>
        <p:sp>
          <p:nvSpPr>
            <p:cNvPr id="1856" name=""/>
            <p:cNvSpPr/>
            <p:nvPr/>
          </p:nvSpPr>
          <p:spPr>
            <a:xfrm>
              <a:off x="2438280" y="312408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438280" y="411768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438280" y="510840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9" name=""/>
          <p:cNvGrpSpPr/>
          <p:nvPr/>
        </p:nvGrpSpPr>
        <p:grpSpPr>
          <a:xfrm>
            <a:off x="2286000" y="3733560"/>
            <a:ext cx="2977920" cy="176040"/>
            <a:chOff x="2286000" y="3733560"/>
            <a:chExt cx="2977920" cy="176040"/>
          </a:xfrm>
        </p:grpSpPr>
        <p:sp>
          <p:nvSpPr>
            <p:cNvPr id="1860" name=""/>
            <p:cNvSpPr/>
            <p:nvPr/>
          </p:nvSpPr>
          <p:spPr>
            <a:xfrm rot="16200000">
              <a:off x="2694600" y="332460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rot="16200000">
              <a:off x="3688200" y="332460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rot="16200000">
              <a:off x="4678920" y="332460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3" name=""/>
          <p:cNvSpPr/>
          <p:nvPr/>
        </p:nvSpPr>
        <p:spPr>
          <a:xfrm>
            <a:off x="25146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0384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257800" y="3429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Narrow"/>
              </a:rPr>
              <a:t>Row relative to saturated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52578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971800" y="1965240"/>
            <a:ext cx="2209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Narrow"/>
              </a:rPr>
              <a:t>NonKey column associated with R</a:t>
            </a:r>
            <a:r>
              <a:rPr b="0" i="1" lang="pt-BR" sz="2000" spc="-1" strike="noStrike" baseline="30000">
                <a:solidFill>
                  <a:srgbClr val="000000"/>
                </a:solidFill>
                <a:latin typeface="Arial Narrow"/>
              </a:rPr>
              <a:t>key[r]</a:t>
            </a: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5438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se 2b - Updating of Q</a:t>
            </a:r>
            <a:r>
              <a:rPr b="0" lang="pt-BR" sz="44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914400" y="887760"/>
            <a:ext cx="8991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1. Interchanging key column with non-key column - generate (Q’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Narrow"/>
              </a:rPr>
              <a:t>-1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- (case 1b - stag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2. Operation pivot, generate (Q”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-  (case 2a - stag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3. Column related with </a:t>
            </a: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 Narrow"/>
              </a:rPr>
              <a:t>NonKey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and row related to </a:t>
            </a: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] are disc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of (Q”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- size of Q decrease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990360" y="4572000"/>
            <a:ext cx="7926480" cy="1761840"/>
            <a:chOff x="990360" y="4572000"/>
            <a:chExt cx="7926480" cy="1761840"/>
          </a:xfrm>
        </p:grpSpPr>
        <p:sp>
          <p:nvSpPr>
            <p:cNvPr id="1872" name=""/>
            <p:cNvSpPr/>
            <p:nvPr/>
          </p:nvSpPr>
          <p:spPr>
            <a:xfrm>
              <a:off x="8915400" y="4572000"/>
              <a:ext cx="1440" cy="176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990720" y="4572000"/>
              <a:ext cx="0" cy="17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990360" y="4572000"/>
              <a:ext cx="792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127160" y="4979880"/>
              <a:ext cx="1116000" cy="11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362320" y="5410080"/>
              <a:ext cx="24264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7" name=""/>
            <p:cNvGrpSpPr/>
            <p:nvPr/>
          </p:nvGrpSpPr>
          <p:grpSpPr>
            <a:xfrm>
              <a:off x="3905280" y="4979880"/>
              <a:ext cx="1116000" cy="1116000"/>
              <a:chOff x="3905280" y="4979880"/>
              <a:chExt cx="1116000" cy="1116000"/>
            </a:xfrm>
          </p:grpSpPr>
          <p:sp>
            <p:nvSpPr>
              <p:cNvPr id="1878" name=""/>
              <p:cNvSpPr/>
              <p:nvPr/>
            </p:nvSpPr>
            <p:spPr>
              <a:xfrm>
                <a:off x="3905280" y="4979880"/>
                <a:ext cx="1116000" cy="11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357440" y="4979880"/>
                <a:ext cx="153720" cy="1110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0" name=""/>
            <p:cNvSpPr/>
            <p:nvPr/>
          </p:nvSpPr>
          <p:spPr>
            <a:xfrm>
              <a:off x="6400800" y="4979880"/>
              <a:ext cx="1116000" cy="11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pt-BR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pt-BR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673360" y="5128920"/>
              <a:ext cx="1100160" cy="96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666880" y="5616360"/>
              <a:ext cx="1105200" cy="16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rot="5400000">
              <a:off x="2745360" y="5540760"/>
              <a:ext cx="971640" cy="13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620120" y="5127480"/>
              <a:ext cx="1116000" cy="96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1 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1  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620120" y="5524560"/>
              <a:ext cx="111600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rot="5400000">
              <a:off x="7746840" y="5530680"/>
              <a:ext cx="96840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7" name=""/>
            <p:cNvGrpSpPr/>
            <p:nvPr/>
          </p:nvGrpSpPr>
          <p:grpSpPr>
            <a:xfrm>
              <a:off x="5181480" y="4979880"/>
              <a:ext cx="1116000" cy="1116000"/>
              <a:chOff x="5181480" y="4979880"/>
              <a:chExt cx="1116000" cy="1116000"/>
            </a:xfrm>
          </p:grpSpPr>
          <p:sp>
            <p:nvSpPr>
              <p:cNvPr id="1888" name=""/>
              <p:cNvSpPr/>
              <p:nvPr/>
            </p:nvSpPr>
            <p:spPr>
              <a:xfrm>
                <a:off x="5181480" y="4979880"/>
                <a:ext cx="1116000" cy="11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 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181480" y="5475240"/>
                <a:ext cx="1113480" cy="154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0" name=""/>
            <p:cNvSpPr/>
            <p:nvPr/>
          </p:nvSpPr>
          <p:spPr>
            <a:xfrm flipH="1">
              <a:off x="990360" y="6324480"/>
              <a:ext cx="792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Case 2c - 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 saturated arc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enters and a non saturated arc           leaves the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838080" y="427680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114800" y="1905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Leav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8077320" y="3117960"/>
            <a:ext cx="176040" cy="2977920"/>
            <a:chOff x="8077320" y="3117960"/>
            <a:chExt cx="176040" cy="2977920"/>
          </a:xfrm>
        </p:grpSpPr>
        <p:sp>
          <p:nvSpPr>
            <p:cNvPr id="1895" name=""/>
            <p:cNvSpPr/>
            <p:nvPr/>
          </p:nvSpPr>
          <p:spPr>
            <a:xfrm>
              <a:off x="8077320" y="311796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077320" y="411156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077320" y="5102280"/>
              <a:ext cx="176040" cy="993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8" name=""/>
          <p:cNvSpPr/>
          <p:nvPr/>
        </p:nvSpPr>
        <p:spPr>
          <a:xfrm>
            <a:off x="2286000" y="313380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9" name=""/>
              <p:cNvSpPr txBox="1"/>
              <p:nvPr/>
            </p:nvSpPr>
            <p:spPr>
              <a:xfrm>
                <a:off x="2529000" y="3343320"/>
                <a:ext cx="500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00" name=""/>
          <p:cNvSpPr/>
          <p:nvPr/>
        </p:nvSpPr>
        <p:spPr>
          <a:xfrm>
            <a:off x="2286000" y="412416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2529000" y="4334040"/>
                <a:ext cx="500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02" name=""/>
          <p:cNvSpPr/>
          <p:nvPr/>
        </p:nvSpPr>
        <p:spPr>
          <a:xfrm>
            <a:off x="2286000" y="511488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2662200" y="5415120"/>
                <a:ext cx="2332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4" name=""/>
          <p:cNvSpPr/>
          <p:nvPr/>
        </p:nvSpPr>
        <p:spPr>
          <a:xfrm>
            <a:off x="3276720" y="313380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3503520" y="334332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06" name=""/>
          <p:cNvSpPr/>
          <p:nvPr/>
        </p:nvSpPr>
        <p:spPr>
          <a:xfrm>
            <a:off x="4267080" y="3133800"/>
            <a:ext cx="99072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4583160" y="3403440"/>
                <a:ext cx="35244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8" name=""/>
          <p:cNvSpPr/>
          <p:nvPr/>
        </p:nvSpPr>
        <p:spPr>
          <a:xfrm>
            <a:off x="3276720" y="4124160"/>
            <a:ext cx="99036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9" name=""/>
              <p:cNvSpPr txBox="1"/>
              <p:nvPr/>
            </p:nvSpPr>
            <p:spPr>
              <a:xfrm>
                <a:off x="3503520" y="433404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sub>
                      <m: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10" name=""/>
          <p:cNvSpPr/>
          <p:nvPr/>
        </p:nvSpPr>
        <p:spPr>
          <a:xfrm>
            <a:off x="3281400" y="5114880"/>
            <a:ext cx="990720" cy="95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3564000" y="5403960"/>
                <a:ext cx="380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2" name=""/>
          <p:cNvSpPr/>
          <p:nvPr/>
        </p:nvSpPr>
        <p:spPr>
          <a:xfrm>
            <a:off x="4272120" y="4124160"/>
            <a:ext cx="99036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4510080" y="4443480"/>
                <a:ext cx="4698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Ι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4" name=""/>
          <p:cNvSpPr/>
          <p:nvPr/>
        </p:nvSpPr>
        <p:spPr>
          <a:xfrm>
            <a:off x="4272120" y="5114880"/>
            <a:ext cx="990360" cy="955800"/>
          </a:xfrm>
          <a:prstGeom prst="rect">
            <a:avLst/>
          </a:prstGeom>
          <a:solidFill>
            <a:srgbClr val="d1d1d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4570560" y="5346720"/>
                <a:ext cx="350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16" name=""/>
          <p:cNvGrpSpPr/>
          <p:nvPr/>
        </p:nvGrpSpPr>
        <p:grpSpPr>
          <a:xfrm>
            <a:off x="4876920" y="3124080"/>
            <a:ext cx="176040" cy="2977920"/>
            <a:chOff x="4876920" y="3124080"/>
            <a:chExt cx="176040" cy="2977920"/>
          </a:xfrm>
        </p:grpSpPr>
        <p:sp>
          <p:nvSpPr>
            <p:cNvPr id="1917" name=""/>
            <p:cNvSpPr/>
            <p:nvPr/>
          </p:nvSpPr>
          <p:spPr>
            <a:xfrm>
              <a:off x="4876920" y="312408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876920" y="411768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876920" y="510840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7391520" y="1905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Narrow"/>
              </a:rPr>
              <a:t>Entering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2286000" y="4800240"/>
            <a:ext cx="2977920" cy="176040"/>
            <a:chOff x="2286000" y="4800240"/>
            <a:chExt cx="2977920" cy="176040"/>
          </a:xfrm>
        </p:grpSpPr>
        <p:sp>
          <p:nvSpPr>
            <p:cNvPr id="1922" name=""/>
            <p:cNvSpPr/>
            <p:nvPr/>
          </p:nvSpPr>
          <p:spPr>
            <a:xfrm flipV="1" rot="16200000">
              <a:off x="4678920" y="439092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 rot="16200000">
              <a:off x="3685320" y="439092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 rot="16200000">
              <a:off x="2694600" y="439092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2286000" y="3657240"/>
            <a:ext cx="2977920" cy="176040"/>
            <a:chOff x="2286000" y="3657240"/>
            <a:chExt cx="2977920" cy="176040"/>
          </a:xfrm>
        </p:grpSpPr>
        <p:sp>
          <p:nvSpPr>
            <p:cNvPr id="1926" name=""/>
            <p:cNvSpPr/>
            <p:nvPr/>
          </p:nvSpPr>
          <p:spPr>
            <a:xfrm flipV="1" rot="16200000">
              <a:off x="4678920" y="324792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 rot="16200000">
              <a:off x="3685320" y="324792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 rot="16200000">
              <a:off x="2694600" y="3247920"/>
              <a:ext cx="176040" cy="99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29" name=""/>
              <p:cNvSpPr txBox="1"/>
              <p:nvPr/>
            </p:nvSpPr>
            <p:spPr>
              <a:xfrm>
                <a:off x="3200400" y="1066680"/>
                <a:ext cx="6858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0" name=""/>
          <p:cNvSpPr/>
          <p:nvPr/>
        </p:nvSpPr>
        <p:spPr>
          <a:xfrm>
            <a:off x="49528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81532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5315040" y="3429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Narrow"/>
              </a:rPr>
              <a:t>Row relative to saturated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181480" y="44956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Narrow"/>
              </a:rPr>
              <a:t>Row relative to Non-Saturated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525780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5257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se 2c - Updating of Q</a:t>
            </a:r>
            <a:r>
              <a:rPr b="0" lang="pt-BR" sz="44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8915400" y="4029120"/>
            <a:ext cx="1440" cy="17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990720" y="4029120"/>
            <a:ext cx="0" cy="176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990360" y="40291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127160" y="4437000"/>
            <a:ext cx="111600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2362320" y="4867200"/>
            <a:ext cx="24264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400800" y="4437000"/>
            <a:ext cx="111600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3" name=""/>
          <p:cNvGrpSpPr/>
          <p:nvPr/>
        </p:nvGrpSpPr>
        <p:grpSpPr>
          <a:xfrm>
            <a:off x="2666880" y="4586400"/>
            <a:ext cx="1106640" cy="968400"/>
            <a:chOff x="2666880" y="4586400"/>
            <a:chExt cx="1106640" cy="968400"/>
          </a:xfrm>
        </p:grpSpPr>
        <p:sp>
          <p:nvSpPr>
            <p:cNvPr id="1944" name=""/>
            <p:cNvSpPr/>
            <p:nvPr/>
          </p:nvSpPr>
          <p:spPr>
            <a:xfrm>
              <a:off x="2673360" y="4586400"/>
              <a:ext cx="110016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666880" y="5073480"/>
              <a:ext cx="1105200" cy="16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rot="5400000">
              <a:off x="2744280" y="5005440"/>
              <a:ext cx="960480" cy="13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7" name=""/>
          <p:cNvGrpSpPr/>
          <p:nvPr/>
        </p:nvGrpSpPr>
        <p:grpSpPr>
          <a:xfrm>
            <a:off x="7620120" y="4584600"/>
            <a:ext cx="1116000" cy="979560"/>
            <a:chOff x="7620120" y="4584600"/>
            <a:chExt cx="1116000" cy="979560"/>
          </a:xfrm>
        </p:grpSpPr>
        <p:sp>
          <p:nvSpPr>
            <p:cNvPr id="1948" name=""/>
            <p:cNvSpPr/>
            <p:nvPr/>
          </p:nvSpPr>
          <p:spPr>
            <a:xfrm>
              <a:off x="7620120" y="4584600"/>
              <a:ext cx="1116000" cy="96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1 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1  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620120" y="4981680"/>
              <a:ext cx="111600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5400000">
              <a:off x="7737120" y="5000400"/>
              <a:ext cx="97164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1" name=""/>
          <p:cNvSpPr/>
          <p:nvPr/>
        </p:nvSpPr>
        <p:spPr>
          <a:xfrm flipH="1">
            <a:off x="990360" y="5781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3905280" y="4437000"/>
            <a:ext cx="1125360" cy="1127160"/>
            <a:chOff x="3905280" y="4437000"/>
            <a:chExt cx="1125360" cy="1127160"/>
          </a:xfrm>
        </p:grpSpPr>
        <p:sp>
          <p:nvSpPr>
            <p:cNvPr id="1953" name=""/>
            <p:cNvSpPr/>
            <p:nvPr/>
          </p:nvSpPr>
          <p:spPr>
            <a:xfrm>
              <a:off x="3905280" y="4437000"/>
              <a:ext cx="1116000" cy="11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75120" y="4437000"/>
              <a:ext cx="154080" cy="1109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rot="5400000">
              <a:off x="4383000" y="4932360"/>
              <a:ext cx="154080" cy="1109520"/>
            </a:xfrm>
            <a:prstGeom prst="rect">
              <a:avLst/>
            </a:prstGeom>
            <a:solidFill>
              <a:srgbClr val="d1d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876920" y="5432400"/>
              <a:ext cx="153720" cy="130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5181120" y="4437000"/>
            <a:ext cx="1145160" cy="1127160"/>
            <a:chOff x="5181120" y="4437000"/>
            <a:chExt cx="1145160" cy="1127160"/>
          </a:xfrm>
        </p:grpSpPr>
        <p:sp>
          <p:nvSpPr>
            <p:cNvPr id="1958" name=""/>
            <p:cNvSpPr/>
            <p:nvPr/>
          </p:nvSpPr>
          <p:spPr>
            <a:xfrm>
              <a:off x="5181480" y="4437000"/>
              <a:ext cx="1116000" cy="11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172200" y="4438800"/>
              <a:ext cx="154080" cy="1109520"/>
            </a:xfrm>
            <a:prstGeom prst="rect">
              <a:avLst/>
            </a:prstGeom>
            <a:solidFill>
              <a:srgbClr val="d1d1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rot="5400000">
              <a:off x="5658840" y="4932000"/>
              <a:ext cx="154080" cy="1109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172200" y="5429160"/>
              <a:ext cx="154080" cy="130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2" name=""/>
          <p:cNvSpPr/>
          <p:nvPr/>
        </p:nvSpPr>
        <p:spPr>
          <a:xfrm>
            <a:off x="990720" y="1430640"/>
            <a:ext cx="7924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Step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1. Column and row related with        are moved closer  to Q, generating (Q’)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size of Q increase by 1 - (case 1d - stage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2. Pivot operation - (case 1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3. Column and row related t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are discarded of (Q’)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- size of Q decrease b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3962520" y="1920960"/>
                <a:ext cx="457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12952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Summary of Cycle Matrix Chang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65" name=""/>
          <p:cNvGraphicFramePr/>
          <p:nvPr/>
        </p:nvGraphicFramePr>
        <p:xfrm>
          <a:off x="1527120" y="1397160"/>
          <a:ext cx="608976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397160"/>
                    <a:ext cx="60897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7" name=""/>
          <p:cNvGraphicFramePr/>
          <p:nvPr/>
        </p:nvGraphicFramePr>
        <p:xfrm>
          <a:off x="1523880" y="1143000"/>
          <a:ext cx="6191280" cy="7810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143000"/>
                    <a:ext cx="6191280" cy="781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9" name=""/>
          <p:cNvSpPr/>
          <p:nvPr/>
        </p:nvSpPr>
        <p:spPr>
          <a:xfrm>
            <a:off x="2057400" y="60876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se 1 - Enters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248520" y="4410000"/>
            <a:ext cx="3429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eno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H = column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L = row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U = row cancel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V = column cancel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Summary of Cycle Matrix Chang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981080" y="1370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se 2 - Enters Saturated A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3" name=""/>
          <p:cNvGraphicFramePr/>
          <p:nvPr/>
        </p:nvGraphicFramePr>
        <p:xfrm>
          <a:off x="1905120" y="1905120"/>
          <a:ext cx="619128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05120"/>
                    <a:ext cx="619128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4 - Applying the Algorith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7053120" y="3230640"/>
            <a:ext cx="209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(Arc, Cost, Capa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1295280" y="1905120"/>
            <a:ext cx="7010640" cy="4243680"/>
            <a:chOff x="1295280" y="1905120"/>
            <a:chExt cx="7010640" cy="4243680"/>
          </a:xfrm>
        </p:grpSpPr>
        <p:sp>
          <p:nvSpPr>
            <p:cNvPr id="1978" name=""/>
            <p:cNvSpPr/>
            <p:nvPr/>
          </p:nvSpPr>
          <p:spPr>
            <a:xfrm>
              <a:off x="5715000" y="5105520"/>
              <a:ext cx="237960" cy="210960"/>
            </a:xfrm>
            <a:prstGeom prst="ellipse">
              <a:avLst/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637000" y="4280040"/>
              <a:ext cx="237960" cy="20952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589200" y="3309840"/>
              <a:ext cx="236520" cy="212760"/>
            </a:xfrm>
            <a:prstGeom prst="ellipse">
              <a:avLst/>
            </a:prstGeom>
            <a:solidFill>
              <a:srgbClr val="67c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589200" y="5122800"/>
              <a:ext cx="236520" cy="211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75480" y="3309840"/>
              <a:ext cx="237960" cy="212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858000" y="4267080"/>
              <a:ext cx="237960" cy="2095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3684600" y="352224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5870520" y="352224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2827440" y="3479400"/>
              <a:ext cx="807840" cy="80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827440" y="4448160"/>
              <a:ext cx="761760" cy="75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825720" y="5249880"/>
              <a:ext cx="190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825720" y="3394080"/>
              <a:ext cx="194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013440" y="3479760"/>
              <a:ext cx="855720" cy="84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5965920" y="4448160"/>
              <a:ext cx="903240" cy="75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778200" y="3479760"/>
              <a:ext cx="1997280" cy="168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3809880" y="3505320"/>
              <a:ext cx="1998720" cy="168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580920" y="3278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591000" y="50785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776920" y="331488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729400" y="512136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824520" y="424008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343400" y="3124080"/>
              <a:ext cx="95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, 6, 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286000" y="4419720"/>
              <a:ext cx="30492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162920" y="4419720"/>
              <a:ext cx="30456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 flipV="1">
              <a:off x="3312720" y="3102840"/>
              <a:ext cx="232560" cy="196560"/>
            </a:xfrm>
            <a:prstGeom prst="line">
              <a:avLst/>
            </a:prstGeom>
            <a:ln w="38160">
              <a:solidFill>
                <a:srgbClr val="67c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H="1">
              <a:off x="6067800" y="3013920"/>
              <a:ext cx="210240" cy="22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3314880" y="5386320"/>
              <a:ext cx="228240" cy="20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 flipV="1">
              <a:off x="5958720" y="5331240"/>
              <a:ext cx="257040" cy="154800"/>
            </a:xfrm>
            <a:prstGeom prst="line">
              <a:avLst/>
            </a:prstGeom>
            <a:ln w="38160">
              <a:solidFill>
                <a:srgbClr val="67c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rot="18952200">
              <a:off x="2675880" y="3607560"/>
              <a:ext cx="95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, 5, 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rot="2693400">
              <a:off x="2581200" y="4796640"/>
              <a:ext cx="95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, 6, 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rot="16255200">
              <a:off x="3101760" y="4136760"/>
              <a:ext cx="95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, 4, 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419720" y="5257800"/>
              <a:ext cx="95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, 5, 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rot="2301600">
              <a:off x="4106160" y="3731040"/>
              <a:ext cx="95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, 10, 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rot="19216800">
              <a:off x="3742560" y="4492440"/>
              <a:ext cx="955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, 11, 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rot="16213800">
              <a:off x="5235480" y="4212720"/>
              <a:ext cx="95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, 6, 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2745600">
              <a:off x="6126480" y="3688920"/>
              <a:ext cx="95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, 4, 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rot="19218600">
              <a:off x="5875920" y="4568400"/>
              <a:ext cx="955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1" lang="pt-BR" sz="12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, 3, 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6705720" y="3352680"/>
              <a:ext cx="3808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238880" y="3886200"/>
              <a:ext cx="32400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543800" y="38098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99ff"/>
                  </a:solidFill>
                  <a:latin typeface="Times New Roman"/>
                </a:rPr>
                <a:t>P</a:t>
              </a:r>
              <a:r>
                <a:rPr b="1" lang="pt-BR" sz="2400" spc="-1" strike="noStrike" baseline="-25000">
                  <a:solidFill>
                    <a:srgbClr val="3399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752480" y="3943440"/>
              <a:ext cx="324000" cy="32364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057400" y="3886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99ff"/>
                  </a:solidFill>
                  <a:latin typeface="Times New Roman"/>
                </a:rPr>
                <a:t>P</a:t>
              </a:r>
              <a:r>
                <a:rPr b="1" lang="pt-BR" sz="2400" spc="-1" strike="noStrike" baseline="-25000">
                  <a:solidFill>
                    <a:srgbClr val="3399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629400" y="5029200"/>
              <a:ext cx="228600" cy="38088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124080" y="2666880"/>
              <a:ext cx="228600" cy="38124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172200" y="518148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7ce00"/>
                  </a:solidFill>
                  <a:latin typeface="Times New Roman"/>
                </a:rPr>
                <a:t>P</a:t>
              </a:r>
              <a:r>
                <a:rPr b="1" lang="pt-BR" sz="2400" spc="-1" strike="noStrike" baseline="-25000">
                  <a:solidFill>
                    <a:srgbClr val="67ce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352680" y="259092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67ce00"/>
                  </a:solidFill>
                  <a:latin typeface="Times New Roman"/>
                </a:rPr>
                <a:t>P</a:t>
              </a:r>
              <a:r>
                <a:rPr b="1" lang="pt-BR" sz="2400" spc="-1" strike="noStrike" baseline="-25000">
                  <a:solidFill>
                    <a:srgbClr val="67ce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819520" y="5638680"/>
              <a:ext cx="304560" cy="30492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124080" y="563868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pt-BR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391520" y="2514600"/>
              <a:ext cx="304560" cy="30492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248520" y="26668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pt-BR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209680" y="3429000"/>
              <a:ext cx="32400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371600" y="3276720"/>
              <a:ext cx="324000" cy="32364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95280" y="3867120"/>
              <a:ext cx="32400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428840" y="4324320"/>
              <a:ext cx="32364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809720" y="4419720"/>
              <a:ext cx="324000" cy="32364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238880" y="5638680"/>
              <a:ext cx="228600" cy="38124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315200" y="5181480"/>
              <a:ext cx="228600" cy="38124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934320" y="5334120"/>
              <a:ext cx="228600" cy="38088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934320" y="4876920"/>
              <a:ext cx="228600" cy="38088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629400" y="5638680"/>
              <a:ext cx="228600" cy="38124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477120" y="2362320"/>
              <a:ext cx="304560" cy="30456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705720" y="1905120"/>
              <a:ext cx="304560" cy="30456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238880" y="1981080"/>
              <a:ext cx="304920" cy="30492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934320" y="2819520"/>
              <a:ext cx="304560" cy="30456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934320" y="2362320"/>
              <a:ext cx="304560" cy="30456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52480" y="3505320"/>
              <a:ext cx="324000" cy="32364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96080" y="1981080"/>
              <a:ext cx="304920" cy="30492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696080" y="5410080"/>
              <a:ext cx="228600" cy="38124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etwork 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523880" y="2039040"/>
            <a:ext cx="47246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10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6 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3  commod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7  units for each 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6  paths for each 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Linear Programming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49" name=""/>
          <p:cNvGraphicFramePr/>
          <p:nvPr/>
        </p:nvGraphicFramePr>
        <p:xfrm>
          <a:off x="1295280" y="1600200"/>
          <a:ext cx="7053480" cy="46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705348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1.2 - Application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a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mmunica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19320" y="2438280"/>
            <a:ext cx="7848360" cy="4244040"/>
            <a:chOff x="1219320" y="2438280"/>
            <a:chExt cx="7848360" cy="4244040"/>
          </a:xfrm>
        </p:grpSpPr>
        <p:sp>
          <p:nvSpPr>
            <p:cNvPr id="138" name=""/>
            <p:cNvSpPr/>
            <p:nvPr/>
          </p:nvSpPr>
          <p:spPr>
            <a:xfrm>
              <a:off x="6977160" y="3763800"/>
              <a:ext cx="20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(Arc, Cost, Capa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219320" y="2438280"/>
              <a:ext cx="7010280" cy="4244040"/>
              <a:chOff x="1219320" y="2438280"/>
              <a:chExt cx="7010280" cy="4244040"/>
            </a:xfrm>
          </p:grpSpPr>
          <p:sp>
            <p:nvSpPr>
              <p:cNvPr id="140" name=""/>
              <p:cNvSpPr/>
              <p:nvPr/>
            </p:nvSpPr>
            <p:spPr>
              <a:xfrm>
                <a:off x="5638680" y="5638680"/>
                <a:ext cx="238320" cy="211320"/>
              </a:xfrm>
              <a:prstGeom prst="ellipse">
                <a:avLst/>
              </a:prstGeom>
              <a:solidFill>
                <a:srgbClr val="67ce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60680" y="4813200"/>
                <a:ext cx="237960" cy="209520"/>
              </a:xfrm>
              <a:prstGeom prst="ellipse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13240" y="3843360"/>
                <a:ext cx="236520" cy="212760"/>
              </a:xfrm>
              <a:prstGeom prst="ellipse">
                <a:avLst/>
              </a:prstGeom>
              <a:solidFill>
                <a:srgbClr val="67c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13240" y="5656320"/>
                <a:ext cx="236520" cy="210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99160" y="3843360"/>
                <a:ext cx="237960" cy="212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81680" y="4800600"/>
                <a:ext cx="238320" cy="2095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3608280" y="4055760"/>
                <a:ext cx="0" cy="160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5794200" y="4055760"/>
                <a:ext cx="0" cy="160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751120" y="4013280"/>
                <a:ext cx="808200" cy="79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51120" y="4981680"/>
                <a:ext cx="762120" cy="75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49760" y="5783400"/>
                <a:ext cx="190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749760" y="3927600"/>
                <a:ext cx="194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37120" y="4013280"/>
                <a:ext cx="855720" cy="84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5889600" y="4981680"/>
                <a:ext cx="903240" cy="758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01880" y="4013280"/>
                <a:ext cx="1997280" cy="1684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3733920" y="4038120"/>
                <a:ext cx="1998720" cy="1684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04600" y="38116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14680" y="5611680"/>
                <a:ext cx="25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00600" y="3848040"/>
                <a:ext cx="258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53080" y="5654520"/>
                <a:ext cx="258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48560" y="47736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267080" y="3657600"/>
                <a:ext cx="95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(a</a:t>
                </a:r>
                <a:r>
                  <a:rPr b="1" lang="pt-BR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, 6, 5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09680" y="49528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86600" y="49528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3236040" y="3636360"/>
                <a:ext cx="232920" cy="196560"/>
              </a:xfrm>
              <a:prstGeom prst="line">
                <a:avLst/>
              </a:prstGeom>
              <a:ln w="38160">
                <a:solidFill>
                  <a:srgbClr val="67c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991480" y="3547440"/>
                <a:ext cx="210240" cy="220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3238200" y="5919840"/>
                <a:ext cx="228600" cy="20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5894280" y="5846760"/>
                <a:ext cx="246600" cy="172440"/>
              </a:xfrm>
              <a:prstGeom prst="line">
                <a:avLst/>
              </a:prstGeom>
              <a:ln w="38160">
                <a:solidFill>
                  <a:srgbClr val="67c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952200">
                <a:off x="2599920" y="4141080"/>
                <a:ext cx="95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(a</a:t>
                </a:r>
                <a:r>
                  <a:rPr b="1" lang="pt-BR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, 5, 6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2693400">
                <a:off x="2504880" y="5330160"/>
                <a:ext cx="95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(a</a:t>
                </a:r>
                <a:r>
                  <a:rPr b="0" lang="pt-BR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, 6, 7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6255200">
                <a:off x="3025440" y="4670280"/>
                <a:ext cx="95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(a</a:t>
                </a:r>
                <a:r>
                  <a:rPr b="1" lang="pt-BR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, 4, 7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43400" y="5791320"/>
                <a:ext cx="95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(a</a:t>
                </a:r>
                <a:r>
                  <a:rPr b="1" lang="pt-BR" sz="12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, 5, 6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2301600">
                <a:off x="4029840" y="4264200"/>
                <a:ext cx="95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(a</a:t>
                </a:r>
                <a:r>
                  <a:rPr b="1" lang="pt-BR" sz="1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, 10, 4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216800">
                <a:off x="3665880" y="5025600"/>
                <a:ext cx="95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(a</a:t>
                </a:r>
                <a:r>
                  <a:rPr b="1" lang="pt-BR" sz="12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, 11, 6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6213800">
                <a:off x="5159160" y="4746600"/>
                <a:ext cx="95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(a</a:t>
                </a:r>
                <a:r>
                  <a:rPr b="1" lang="pt-BR" sz="1200" spc="-1" strike="noStrike" baseline="-25000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, 6, 3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2745600">
                <a:off x="6050160" y="4222440"/>
                <a:ext cx="9558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(a</a:t>
                </a:r>
                <a:r>
                  <a:rPr b="1" lang="pt-BR" sz="1200" spc="-1" strike="noStrike" baseline="-25000">
                    <a:solidFill>
                      <a:srgbClr val="000000"/>
                    </a:solidFill>
                    <a:latin typeface="Arial"/>
                  </a:rPr>
                  <a:t>9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, 4, 5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218600">
                <a:off x="5799960" y="5102280"/>
                <a:ext cx="95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(a</a:t>
                </a:r>
                <a:r>
                  <a:rPr b="1" lang="pt-BR" sz="1200" spc="-1" strike="noStrike" baseline="-25000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, 3, 6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6629400" y="3886200"/>
                <a:ext cx="3808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62920" y="4419720"/>
                <a:ext cx="323640" cy="323640"/>
              </a:xfrm>
              <a:prstGeom prst="cube">
                <a:avLst>
                  <a:gd name="adj" fmla="val 25000"/>
                </a:avLst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67480" y="434340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99ff"/>
                    </a:solidFill>
                    <a:latin typeface="Times New Roman"/>
                  </a:rPr>
                  <a:t>P</a:t>
                </a:r>
                <a:r>
                  <a:rPr b="1" lang="pt-BR" sz="2400" spc="-1" strike="noStrike" baseline="-25000">
                    <a:solidFill>
                      <a:srgbClr val="3399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76520" y="4476600"/>
                <a:ext cx="323640" cy="324000"/>
              </a:xfrm>
              <a:prstGeom prst="cube">
                <a:avLst>
                  <a:gd name="adj" fmla="val 25000"/>
                </a:avLst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81080" y="441972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99ff"/>
                    </a:solidFill>
                    <a:latin typeface="Times New Roman"/>
                  </a:rPr>
                  <a:t>P</a:t>
                </a:r>
                <a:r>
                  <a:rPr b="1" lang="pt-BR" sz="2400" spc="-1" strike="noStrike" baseline="-25000">
                    <a:solidFill>
                      <a:srgbClr val="3399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562720"/>
                <a:ext cx="228600" cy="380880"/>
              </a:xfrm>
              <a:prstGeom prst="can">
                <a:avLst>
                  <a:gd name="adj" fmla="val 25000"/>
                </a:avLst>
              </a:prstGeom>
              <a:solidFill>
                <a:srgbClr val="67ce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48120" y="3200400"/>
                <a:ext cx="228600" cy="380880"/>
              </a:xfrm>
              <a:prstGeom prst="can">
                <a:avLst>
                  <a:gd name="adj" fmla="val 25000"/>
                </a:avLst>
              </a:prstGeom>
              <a:solidFill>
                <a:srgbClr val="67ce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95880" y="5715000"/>
                <a:ext cx="838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67ce00"/>
                    </a:solidFill>
                    <a:latin typeface="Times New Roman"/>
                  </a:rPr>
                  <a:t>P</a:t>
                </a:r>
                <a:r>
                  <a:rPr b="1" lang="pt-BR" sz="2400" spc="-1" strike="noStrike" baseline="-25000">
                    <a:solidFill>
                      <a:srgbClr val="67ce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76720" y="31240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67ce00"/>
                    </a:solidFill>
                    <a:latin typeface="Times New Roman"/>
                  </a:rPr>
                  <a:t>P</a:t>
                </a:r>
                <a:r>
                  <a:rPr b="1" lang="pt-BR" sz="2400" spc="-1" strike="noStrike" baseline="-25000">
                    <a:solidFill>
                      <a:srgbClr val="67ce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743200" y="6172200"/>
                <a:ext cx="304920" cy="30492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048120" y="617220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1" lang="pt-BR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15200" y="3048120"/>
                <a:ext cx="304920" cy="30456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172200" y="320040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r>
                  <a:rPr b="1" lang="pt-BR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81080" y="4038480"/>
                <a:ext cx="324000" cy="324000"/>
              </a:xfrm>
              <a:prstGeom prst="cube">
                <a:avLst>
                  <a:gd name="adj" fmla="val 25000"/>
                </a:avLst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23880" y="4019400"/>
                <a:ext cx="324000" cy="324000"/>
              </a:xfrm>
              <a:prstGeom prst="cube">
                <a:avLst>
                  <a:gd name="adj" fmla="val 25000"/>
                </a:avLst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19320" y="4400640"/>
                <a:ext cx="323640" cy="323640"/>
              </a:xfrm>
              <a:prstGeom prst="cube">
                <a:avLst>
                  <a:gd name="adj" fmla="val 25000"/>
                </a:avLst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52520" y="4857840"/>
                <a:ext cx="324000" cy="323640"/>
              </a:xfrm>
              <a:prstGeom prst="cube">
                <a:avLst>
                  <a:gd name="adj" fmla="val 25000"/>
                </a:avLst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33400" y="4952880"/>
                <a:ext cx="324000" cy="324000"/>
              </a:xfrm>
              <a:prstGeom prst="cube">
                <a:avLst>
                  <a:gd name="adj" fmla="val 25000"/>
                </a:avLst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62920" y="6172200"/>
                <a:ext cx="228600" cy="380880"/>
              </a:xfrm>
              <a:prstGeom prst="can">
                <a:avLst>
                  <a:gd name="adj" fmla="val 25000"/>
                </a:avLst>
              </a:prstGeom>
              <a:solidFill>
                <a:srgbClr val="67ce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238880" y="5715000"/>
                <a:ext cx="228600" cy="380880"/>
              </a:xfrm>
              <a:prstGeom prst="can">
                <a:avLst>
                  <a:gd name="adj" fmla="val 25000"/>
                </a:avLst>
              </a:prstGeom>
              <a:solidFill>
                <a:srgbClr val="67ce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858000" y="5867280"/>
                <a:ext cx="228600" cy="381240"/>
              </a:xfrm>
              <a:prstGeom prst="can">
                <a:avLst>
                  <a:gd name="adj" fmla="val 25000"/>
                </a:avLst>
              </a:prstGeom>
              <a:solidFill>
                <a:srgbClr val="67ce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58000" y="5410080"/>
                <a:ext cx="228600" cy="381240"/>
              </a:xfrm>
              <a:prstGeom prst="can">
                <a:avLst>
                  <a:gd name="adj" fmla="val 25000"/>
                </a:avLst>
              </a:prstGeom>
              <a:solidFill>
                <a:srgbClr val="67ce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53080" y="6172200"/>
                <a:ext cx="228600" cy="380880"/>
              </a:xfrm>
              <a:prstGeom prst="can">
                <a:avLst>
                  <a:gd name="adj" fmla="val 25000"/>
                </a:avLst>
              </a:prstGeom>
              <a:solidFill>
                <a:srgbClr val="67ce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00800" y="2895480"/>
                <a:ext cx="304920" cy="30492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29400" y="2438280"/>
                <a:ext cx="304920" cy="30492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62920" y="2514600"/>
                <a:ext cx="304560" cy="30492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58000" y="3352680"/>
                <a:ext cx="304920" cy="30492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858000" y="2895480"/>
                <a:ext cx="304920" cy="30492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itial S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52" name=""/>
          <p:cNvGrpSpPr/>
          <p:nvPr/>
        </p:nvGrpSpPr>
        <p:grpSpPr>
          <a:xfrm>
            <a:off x="1295280" y="2286000"/>
            <a:ext cx="7086600" cy="3507840"/>
            <a:chOff x="1295280" y="2286000"/>
            <a:chExt cx="7086600" cy="3507840"/>
          </a:xfrm>
        </p:grpSpPr>
        <p:sp>
          <p:nvSpPr>
            <p:cNvPr id="2053" name=""/>
            <p:cNvSpPr/>
            <p:nvPr/>
          </p:nvSpPr>
          <p:spPr>
            <a:xfrm>
              <a:off x="2281320" y="3821400"/>
              <a:ext cx="23796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233880" y="2851200"/>
              <a:ext cx="236520" cy="21276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233880" y="4664160"/>
              <a:ext cx="236520" cy="211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334120" y="4648320"/>
              <a:ext cx="237960" cy="21096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419800" y="2851200"/>
              <a:ext cx="237960" cy="212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467400" y="3821400"/>
              <a:ext cx="23832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3328920" y="30636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5514840" y="30636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V="1">
              <a:off x="2471760" y="3020760"/>
              <a:ext cx="80784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471760" y="3989520"/>
              <a:ext cx="762120" cy="75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470400" y="4791240"/>
              <a:ext cx="19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470400" y="293544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657760" y="3021120"/>
              <a:ext cx="855720" cy="8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5610240" y="3989520"/>
              <a:ext cx="903240" cy="75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422520" y="3021120"/>
              <a:ext cx="1997280" cy="168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V="1">
              <a:off x="3470400" y="3020760"/>
              <a:ext cx="1998360" cy="168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225240" y="281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235320" y="461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421240" y="285588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359320" y="464688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469200" y="3781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921120" y="40467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807000" y="3400560"/>
              <a:ext cx="25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230720" y="448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327560" y="293688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490920" y="3808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754360" y="413244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835360" y="3341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243400" y="373248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942160" y="4046760"/>
              <a:ext cx="37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850000" y="3275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158920" y="4418280"/>
              <a:ext cx="4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133720" y="2855880"/>
              <a:ext cx="3378240" cy="2222640"/>
            </a:xfrm>
            <a:custGeom>
              <a:avLst/>
              <a:gdLst/>
              <a:ahLst/>
              <a:rect l="l" t="t" r="r" b="b"/>
              <a:pathLst>
                <a:path w="2128" h="1400">
                  <a:moveTo>
                    <a:pt x="656" y="0"/>
                  </a:moveTo>
                  <a:lnTo>
                    <a:pt x="528" y="32"/>
                  </a:lnTo>
                  <a:lnTo>
                    <a:pt x="0" y="648"/>
                  </a:lnTo>
                  <a:lnTo>
                    <a:pt x="24" y="792"/>
                  </a:lnTo>
                  <a:lnTo>
                    <a:pt x="584" y="1312"/>
                  </a:lnTo>
                  <a:lnTo>
                    <a:pt x="752" y="1376"/>
                  </a:lnTo>
                  <a:lnTo>
                    <a:pt x="1888" y="1400"/>
                  </a:lnTo>
                  <a:lnTo>
                    <a:pt x="2056" y="1384"/>
                  </a:lnTo>
                  <a:lnTo>
                    <a:pt x="2128" y="1312"/>
                  </a:lnTo>
                </a:path>
              </a:pathLst>
            </a:custGeom>
            <a:noFill/>
            <a:ln w="38160">
              <a:solidFill>
                <a:srgbClr val="01d7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489040" y="4075200"/>
              <a:ext cx="4089600" cy="1219320"/>
            </a:xfrm>
            <a:custGeom>
              <a:avLst/>
              <a:gdLst/>
              <a:ahLst/>
              <a:rect l="l" t="t" r="r" b="b"/>
              <a:pathLst>
                <a:path w="2576" h="768">
                  <a:moveTo>
                    <a:pt x="0" y="0"/>
                  </a:moveTo>
                  <a:lnTo>
                    <a:pt x="280" y="696"/>
                  </a:lnTo>
                  <a:lnTo>
                    <a:pt x="424" y="768"/>
                  </a:lnTo>
                  <a:lnTo>
                    <a:pt x="2048" y="768"/>
                  </a:lnTo>
                  <a:lnTo>
                    <a:pt x="2192" y="664"/>
                  </a:lnTo>
                  <a:lnTo>
                    <a:pt x="2576" y="24"/>
                  </a:lnTo>
                </a:path>
              </a:pathLst>
            </a:custGeom>
            <a:noFill/>
            <a:ln w="3816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140360" y="52563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378240" y="2894040"/>
              <a:ext cx="3530520" cy="2286000"/>
            </a:xfrm>
            <a:custGeom>
              <a:avLst/>
              <a:gdLst/>
              <a:ahLst/>
              <a:rect l="l" t="t" r="r" b="b"/>
              <a:pathLst>
                <a:path w="2224" h="1440">
                  <a:moveTo>
                    <a:pt x="0" y="1248"/>
                  </a:moveTo>
                  <a:lnTo>
                    <a:pt x="96" y="1440"/>
                  </a:lnTo>
                  <a:lnTo>
                    <a:pt x="1296" y="1440"/>
                  </a:lnTo>
                  <a:lnTo>
                    <a:pt x="2168" y="776"/>
                  </a:lnTo>
                  <a:lnTo>
                    <a:pt x="2224" y="632"/>
                  </a:lnTo>
                  <a:lnTo>
                    <a:pt x="2160" y="504"/>
                  </a:lnTo>
                  <a:lnTo>
                    <a:pt x="2056" y="408"/>
                  </a:lnTo>
                  <a:lnTo>
                    <a:pt x="1536" y="0"/>
                  </a:lnTo>
                  <a:lnTo>
                    <a:pt x="14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121440" y="29703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676520" y="3581640"/>
              <a:ext cx="323640" cy="32364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095880" y="4800600"/>
              <a:ext cx="228600" cy="38124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019920" y="2286000"/>
              <a:ext cx="304560" cy="30492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286000" y="53341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raA 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53080" y="30481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raB 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295280" y="2819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1c101"/>
                  </a:solidFill>
                  <a:latin typeface="Arial"/>
                </a:rPr>
                <a:t>raB 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 flipV="1">
              <a:off x="5638320" y="4876560"/>
              <a:ext cx="38124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 flipV="1">
              <a:off x="2819520" y="259056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5638320" y="2590920"/>
              <a:ext cx="304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2971440" y="4876920"/>
              <a:ext cx="304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752480" y="3962520"/>
              <a:ext cx="60984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705720" y="396252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2" name=""/>
          <p:cNvSpPr/>
          <p:nvPr/>
        </p:nvSpPr>
        <p:spPr>
          <a:xfrm>
            <a:off x="4724280" y="5791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tificial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 flipV="1">
            <a:off x="5028840" y="5181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teration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05" name=""/>
          <p:cNvGrpSpPr/>
          <p:nvPr/>
        </p:nvGrpSpPr>
        <p:grpSpPr>
          <a:xfrm>
            <a:off x="1219320" y="1676520"/>
            <a:ext cx="7391160" cy="4952520"/>
            <a:chOff x="1219320" y="1676520"/>
            <a:chExt cx="7391160" cy="4952520"/>
          </a:xfrm>
        </p:grpSpPr>
        <p:grpSp>
          <p:nvGrpSpPr>
            <p:cNvPr id="2106" name=""/>
            <p:cNvGrpSpPr/>
            <p:nvPr/>
          </p:nvGrpSpPr>
          <p:grpSpPr>
            <a:xfrm>
              <a:off x="1219320" y="1676520"/>
              <a:ext cx="7391160" cy="3507480"/>
              <a:chOff x="1219320" y="1676520"/>
              <a:chExt cx="7391160" cy="3507480"/>
            </a:xfrm>
          </p:grpSpPr>
          <p:sp>
            <p:nvSpPr>
              <p:cNvPr id="2107" name=""/>
              <p:cNvSpPr/>
              <p:nvPr/>
            </p:nvSpPr>
            <p:spPr>
              <a:xfrm>
                <a:off x="2509920" y="3211200"/>
                <a:ext cx="237960" cy="20916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462480" y="2241360"/>
                <a:ext cx="236520" cy="212400"/>
              </a:xfrm>
              <a:prstGeom prst="ellipse">
                <a:avLst/>
              </a:prstGeom>
              <a:solidFill>
                <a:srgbClr val="01d7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462480" y="4054320"/>
                <a:ext cx="236520" cy="210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562720" y="4038480"/>
                <a:ext cx="237960" cy="210600"/>
              </a:xfrm>
              <a:prstGeom prst="ellipse">
                <a:avLst/>
              </a:prstGeom>
              <a:solidFill>
                <a:srgbClr val="01d7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648400" y="2241360"/>
                <a:ext cx="237960" cy="212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696000" y="3211200"/>
                <a:ext cx="238320" cy="20916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3557520" y="2454120"/>
                <a:ext cx="0" cy="1599840"/>
              </a:xfrm>
              <a:prstGeom prst="line">
                <a:avLst/>
              </a:prstGeom>
              <a:ln w="76320">
                <a:solidFill>
                  <a:srgbClr val="01c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5743440" y="245412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V="1">
                <a:off x="2700360" y="2410920"/>
                <a:ext cx="807840" cy="79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700360" y="3379680"/>
                <a:ext cx="762120" cy="75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699000" y="4181400"/>
                <a:ext cx="1901880" cy="0"/>
              </a:xfrm>
              <a:prstGeom prst="line">
                <a:avLst/>
              </a:prstGeom>
              <a:ln w="76320">
                <a:solidFill>
                  <a:srgbClr val="01c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699000" y="2325600"/>
                <a:ext cx="194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886360" y="2411280"/>
                <a:ext cx="85572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V="1">
                <a:off x="5838840" y="3379680"/>
                <a:ext cx="903240" cy="75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651120" y="2411280"/>
                <a:ext cx="1997280" cy="168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3699000" y="2410920"/>
                <a:ext cx="1998360" cy="168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453840" y="22096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463920" y="40096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649840" y="2246040"/>
                <a:ext cx="258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587920" y="4036680"/>
                <a:ext cx="258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697800" y="31716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149720" y="34365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035600" y="2790720"/>
                <a:ext cx="255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4495680" y="4190760"/>
                <a:ext cx="257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4556160" y="2327040"/>
                <a:ext cx="258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719520" y="31986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982960" y="3522600"/>
                <a:ext cx="253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063960" y="27316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472000" y="3122280"/>
                <a:ext cx="255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170760" y="3436560"/>
                <a:ext cx="37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078600" y="266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387520" y="3808080"/>
                <a:ext cx="42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362320" y="2246040"/>
                <a:ext cx="3378240" cy="2222280"/>
              </a:xfrm>
              <a:custGeom>
                <a:avLst/>
                <a:gdLst/>
                <a:ahLst/>
                <a:rect l="l" t="t" r="r" b="b"/>
                <a:pathLst>
                  <a:path w="2128" h="1400">
                    <a:moveTo>
                      <a:pt x="656" y="0"/>
                    </a:moveTo>
                    <a:lnTo>
                      <a:pt x="528" y="32"/>
                    </a:lnTo>
                    <a:lnTo>
                      <a:pt x="0" y="648"/>
                    </a:lnTo>
                    <a:lnTo>
                      <a:pt x="24" y="792"/>
                    </a:lnTo>
                    <a:lnTo>
                      <a:pt x="584" y="1312"/>
                    </a:lnTo>
                    <a:lnTo>
                      <a:pt x="752" y="1376"/>
                    </a:lnTo>
                    <a:lnTo>
                      <a:pt x="1888" y="1400"/>
                    </a:lnTo>
                    <a:lnTo>
                      <a:pt x="2056" y="1384"/>
                    </a:lnTo>
                    <a:lnTo>
                      <a:pt x="2128" y="1312"/>
                    </a:lnTo>
                  </a:path>
                </a:pathLst>
              </a:custGeom>
              <a:noFill/>
              <a:ln w="38160">
                <a:solidFill>
                  <a:srgbClr val="01d7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717640" y="3465360"/>
                <a:ext cx="4089600" cy="1218600"/>
              </a:xfrm>
              <a:custGeom>
                <a:avLst/>
                <a:gdLst/>
                <a:ahLst/>
                <a:rect l="l" t="t" r="r" b="b"/>
                <a:pathLst>
                  <a:path w="2576" h="768">
                    <a:moveTo>
                      <a:pt x="0" y="0"/>
                    </a:moveTo>
                    <a:lnTo>
                      <a:pt x="280" y="696"/>
                    </a:lnTo>
                    <a:lnTo>
                      <a:pt x="424" y="768"/>
                    </a:lnTo>
                    <a:lnTo>
                      <a:pt x="2048" y="768"/>
                    </a:lnTo>
                    <a:lnTo>
                      <a:pt x="2192" y="664"/>
                    </a:lnTo>
                    <a:lnTo>
                      <a:pt x="2576" y="24"/>
                    </a:lnTo>
                  </a:path>
                </a:pathLst>
              </a:custGeom>
              <a:noFill/>
              <a:ln w="38160">
                <a:solidFill>
                  <a:srgbClr val="33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4368960" y="46465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606840" y="2284200"/>
                <a:ext cx="3530520" cy="2285640"/>
              </a:xfrm>
              <a:custGeom>
                <a:avLst/>
                <a:gdLst/>
                <a:ahLst/>
                <a:rect l="l" t="t" r="r" b="b"/>
                <a:pathLst>
                  <a:path w="2224" h="1440">
                    <a:moveTo>
                      <a:pt x="0" y="1248"/>
                    </a:moveTo>
                    <a:lnTo>
                      <a:pt x="96" y="1440"/>
                    </a:lnTo>
                    <a:lnTo>
                      <a:pt x="1296" y="1440"/>
                    </a:lnTo>
                    <a:lnTo>
                      <a:pt x="2168" y="776"/>
                    </a:lnTo>
                    <a:lnTo>
                      <a:pt x="2224" y="632"/>
                    </a:lnTo>
                    <a:lnTo>
                      <a:pt x="2160" y="504"/>
                    </a:lnTo>
                    <a:lnTo>
                      <a:pt x="2056" y="408"/>
                    </a:lnTo>
                    <a:lnTo>
                      <a:pt x="1536" y="0"/>
                    </a:lnTo>
                    <a:lnTo>
                      <a:pt x="1488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350040" y="236052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905120" y="2971440"/>
                <a:ext cx="323640" cy="323640"/>
              </a:xfrm>
              <a:prstGeom prst="cube">
                <a:avLst>
                  <a:gd name="adj" fmla="val 25000"/>
                </a:avLst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324480" y="4190760"/>
                <a:ext cx="228600" cy="380520"/>
              </a:xfrm>
              <a:prstGeom prst="can">
                <a:avLst>
                  <a:gd name="adj" fmla="val 25000"/>
                </a:avLst>
              </a:prstGeom>
              <a:solidFill>
                <a:srgbClr val="67ce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248520" y="1676520"/>
                <a:ext cx="304560" cy="304560"/>
              </a:xfrm>
              <a:prstGeom prst="bevel">
                <a:avLst>
                  <a:gd name="adj" fmla="val 125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514600" y="47242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3366cc"/>
                    </a:solidFill>
                    <a:latin typeface="Arial"/>
                  </a:rPr>
                  <a:t>raA = 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781680" y="24382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0000"/>
                    </a:solidFill>
                    <a:latin typeface="Arial"/>
                  </a:rPr>
                  <a:t>raB = 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1219320" y="22096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1c101"/>
                    </a:solidFill>
                    <a:latin typeface="Arial"/>
                  </a:rPr>
                  <a:t>raB = 7</a:t>
                </a:r>
                <a:r>
                  <a:rPr b="1" lang="pt-BR" sz="2400" spc="-1" strike="noStrike">
                    <a:solidFill>
                      <a:srgbClr val="01c101"/>
                    </a:solidFill>
                    <a:latin typeface="Symbol"/>
                    <a:ea typeface="Symbol"/>
                  </a:rPr>
                  <a:t></a:t>
                </a:r>
                <a:r>
                  <a:rPr b="1" lang="pt-BR" sz="2400" spc="-1" strike="noStrike">
                    <a:solidFill>
                      <a:srgbClr val="01c101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H="1" flipV="1">
                <a:off x="5866920" y="4267080"/>
                <a:ext cx="381240" cy="228240"/>
              </a:xfrm>
              <a:prstGeom prst="line">
                <a:avLst/>
              </a:prstGeom>
              <a:ln w="38160">
                <a:solidFill>
                  <a:srgbClr val="01c10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H="1" flipV="1">
                <a:off x="3048120" y="1981080"/>
                <a:ext cx="380880" cy="228240"/>
              </a:xfrm>
              <a:prstGeom prst="line">
                <a:avLst/>
              </a:prstGeom>
              <a:ln w="38160">
                <a:solidFill>
                  <a:srgbClr val="01c10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>
                <a:off x="5866920" y="1981080"/>
                <a:ext cx="30492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H="1">
                <a:off x="3200040" y="4267080"/>
                <a:ext cx="30492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981080" y="3352680"/>
                <a:ext cx="609840" cy="0"/>
              </a:xfrm>
              <a:prstGeom prst="line">
                <a:avLst/>
              </a:prstGeom>
              <a:ln w="38160">
                <a:solidFill>
                  <a:srgbClr val="33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934320" y="3352680"/>
                <a:ext cx="609480" cy="0"/>
              </a:xfrm>
              <a:prstGeom prst="line">
                <a:avLst/>
              </a:prstGeom>
              <a:ln w="38160">
                <a:solidFill>
                  <a:srgbClr val="3366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86200" y="3885840"/>
                <a:ext cx="152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1c101"/>
                    </a:solidFill>
                    <a:latin typeface="Arial"/>
                  </a:rPr>
                  <a:t>r3C = 0</a:t>
                </a:r>
                <a:r>
                  <a:rPr b="1" lang="pt-BR" sz="1600" spc="-1" strike="noStrike">
                    <a:solidFill>
                      <a:srgbClr val="01c101"/>
                    </a:solidFill>
                    <a:latin typeface="Symbol"/>
                    <a:ea typeface="Symbol"/>
                  </a:rPr>
                  <a:t></a:t>
                </a:r>
                <a:r>
                  <a:rPr b="1" lang="pt-BR" sz="1600" spc="-1" strike="noStrike">
                    <a:solidFill>
                      <a:srgbClr val="01c101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>
              <a:off x="4724280" y="502920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(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pt-BR" sz="24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= 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724280" y="5562720"/>
              <a:ext cx="34290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aturated Arc: {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onKey Path: {r3C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9" name=""/>
          <p:cNvSpPr/>
          <p:nvPr/>
        </p:nvSpPr>
        <p:spPr>
          <a:xfrm>
            <a:off x="3581280" y="83808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3C enters, y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teration 2 - r1C enters, raC leav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61" name=""/>
          <p:cNvGrpSpPr/>
          <p:nvPr/>
        </p:nvGrpSpPr>
        <p:grpSpPr>
          <a:xfrm>
            <a:off x="1219320" y="1676520"/>
            <a:ext cx="7391160" cy="4952520"/>
            <a:chOff x="1219320" y="1676520"/>
            <a:chExt cx="7391160" cy="4952520"/>
          </a:xfrm>
        </p:grpSpPr>
        <p:sp>
          <p:nvSpPr>
            <p:cNvPr id="2162" name=""/>
            <p:cNvSpPr/>
            <p:nvPr/>
          </p:nvSpPr>
          <p:spPr>
            <a:xfrm>
              <a:off x="2509920" y="3211560"/>
              <a:ext cx="23796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62480" y="2241720"/>
              <a:ext cx="236520" cy="21240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62480" y="4054320"/>
              <a:ext cx="236520" cy="211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562720" y="4038480"/>
              <a:ext cx="237960" cy="21132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648400" y="2241720"/>
              <a:ext cx="237960" cy="21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696000" y="3211560"/>
              <a:ext cx="23832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557520" y="2453760"/>
              <a:ext cx="0" cy="160020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5743440" y="24537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>
              <a:off x="2700360" y="2410920"/>
              <a:ext cx="80784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700360" y="3379680"/>
              <a:ext cx="762120" cy="75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699000" y="4181400"/>
              <a:ext cx="1901880" cy="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699000" y="232560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886360" y="2411280"/>
              <a:ext cx="855720" cy="8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838840" y="3379680"/>
              <a:ext cx="903240" cy="75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651120" y="2411280"/>
              <a:ext cx="1997280" cy="168444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V="1">
              <a:off x="3699000" y="2410920"/>
              <a:ext cx="1998360" cy="168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453840" y="2209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63920" y="4010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649840" y="224640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587920" y="40370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697800" y="3171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149720" y="3436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035600" y="2790720"/>
              <a:ext cx="25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495680" y="419112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556160" y="232740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719520" y="3198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982960" y="352260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063960" y="2732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472000" y="312264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170760" y="3436920"/>
              <a:ext cx="37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078600" y="2665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387520" y="3808440"/>
              <a:ext cx="4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362320" y="2246400"/>
              <a:ext cx="3378240" cy="2222280"/>
            </a:xfrm>
            <a:custGeom>
              <a:avLst/>
              <a:gdLst/>
              <a:ahLst/>
              <a:rect l="l" t="t" r="r" b="b"/>
              <a:pathLst>
                <a:path w="2128" h="1400">
                  <a:moveTo>
                    <a:pt x="656" y="0"/>
                  </a:moveTo>
                  <a:lnTo>
                    <a:pt x="528" y="32"/>
                  </a:lnTo>
                  <a:lnTo>
                    <a:pt x="0" y="648"/>
                  </a:lnTo>
                  <a:lnTo>
                    <a:pt x="24" y="792"/>
                  </a:lnTo>
                  <a:lnTo>
                    <a:pt x="584" y="1312"/>
                  </a:lnTo>
                  <a:lnTo>
                    <a:pt x="752" y="1376"/>
                  </a:lnTo>
                  <a:lnTo>
                    <a:pt x="1888" y="1400"/>
                  </a:lnTo>
                  <a:lnTo>
                    <a:pt x="2056" y="1384"/>
                  </a:lnTo>
                  <a:lnTo>
                    <a:pt x="2128" y="1312"/>
                  </a:lnTo>
                </a:path>
              </a:pathLst>
            </a:custGeom>
            <a:noFill/>
            <a:ln w="38160">
              <a:solidFill>
                <a:srgbClr val="01d7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717640" y="3465360"/>
              <a:ext cx="4089600" cy="1219320"/>
            </a:xfrm>
            <a:custGeom>
              <a:avLst/>
              <a:gdLst/>
              <a:ahLst/>
              <a:rect l="l" t="t" r="r" b="b"/>
              <a:pathLst>
                <a:path w="2576" h="768">
                  <a:moveTo>
                    <a:pt x="0" y="0"/>
                  </a:moveTo>
                  <a:lnTo>
                    <a:pt x="280" y="696"/>
                  </a:lnTo>
                  <a:lnTo>
                    <a:pt x="424" y="768"/>
                  </a:lnTo>
                  <a:lnTo>
                    <a:pt x="2048" y="768"/>
                  </a:lnTo>
                  <a:lnTo>
                    <a:pt x="2192" y="664"/>
                  </a:lnTo>
                  <a:lnTo>
                    <a:pt x="2576" y="24"/>
                  </a:lnTo>
                </a:path>
              </a:pathLst>
            </a:custGeom>
            <a:noFill/>
            <a:ln w="3816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368960" y="464652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606840" y="2284560"/>
              <a:ext cx="3530520" cy="2286000"/>
            </a:xfrm>
            <a:custGeom>
              <a:avLst/>
              <a:gdLst/>
              <a:ahLst/>
              <a:rect l="l" t="t" r="r" b="b"/>
              <a:pathLst>
                <a:path w="2224" h="1440">
                  <a:moveTo>
                    <a:pt x="0" y="1248"/>
                  </a:moveTo>
                  <a:lnTo>
                    <a:pt x="96" y="1440"/>
                  </a:lnTo>
                  <a:lnTo>
                    <a:pt x="1296" y="1440"/>
                  </a:lnTo>
                  <a:lnTo>
                    <a:pt x="2168" y="776"/>
                  </a:lnTo>
                  <a:lnTo>
                    <a:pt x="2224" y="632"/>
                  </a:lnTo>
                  <a:lnTo>
                    <a:pt x="2160" y="504"/>
                  </a:lnTo>
                  <a:lnTo>
                    <a:pt x="2056" y="408"/>
                  </a:lnTo>
                  <a:lnTo>
                    <a:pt x="1536" y="0"/>
                  </a:lnTo>
                  <a:lnTo>
                    <a:pt x="14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350040" y="2360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905120" y="2971800"/>
              <a:ext cx="32364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324480" y="4191120"/>
              <a:ext cx="228600" cy="38088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248520" y="1676520"/>
              <a:ext cx="304560" cy="30456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514600" y="47242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raA 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781680" y="24382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raB 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219320" y="2209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1c101"/>
                  </a:solidFill>
                  <a:latin typeface="Arial"/>
                </a:rPr>
                <a:t>raC = 1</a:t>
              </a:r>
              <a:r>
                <a:rPr b="1" lang="pt-BR" sz="2400" spc="-1" strike="noStrike">
                  <a:solidFill>
                    <a:srgbClr val="01c101"/>
                  </a:solidFill>
                  <a:latin typeface="Symbol"/>
                  <a:ea typeface="Symbol"/>
                </a:rPr>
                <a:t></a:t>
              </a:r>
              <a:r>
                <a:rPr b="1" lang="pt-BR" sz="2400" spc="-1" strike="noStrike">
                  <a:solidFill>
                    <a:srgbClr val="01c101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H="1" flipV="1">
              <a:off x="5866920" y="4266720"/>
              <a:ext cx="38124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 flipV="1">
              <a:off x="3048120" y="198072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5866920" y="1981080"/>
              <a:ext cx="304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3200040" y="4267080"/>
              <a:ext cx="304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981080" y="3352680"/>
              <a:ext cx="60984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934320" y="335268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886200" y="38862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3C =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724280" y="502920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(Q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pt-BR" sz="24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= [-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724280" y="5562720"/>
              <a:ext cx="34290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aturated Arc: {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onKey Path: {r1C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733920" y="25146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1C = 0</a:t>
              </a:r>
              <a:r>
                <a:rPr b="1" lang="pt-BR" sz="1600" spc="-1" strike="noStrike">
                  <a:solidFill>
                    <a:srgbClr val="01c101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teration 3 - enters </a:t>
            </a:r>
            <a:r>
              <a:rPr b="0" lang="pt-BR" sz="4400" spc="-1" strike="noStrike">
                <a:solidFill>
                  <a:srgbClr val="ff0000"/>
                </a:solidFill>
                <a:latin typeface="Times New Roman"/>
              </a:rPr>
              <a:t>r3B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, leaves y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905120" y="1676520"/>
            <a:ext cx="6781680" cy="4952520"/>
            <a:chOff x="1905120" y="1676520"/>
            <a:chExt cx="6781680" cy="4952520"/>
          </a:xfrm>
        </p:grpSpPr>
        <p:sp>
          <p:nvSpPr>
            <p:cNvPr id="2217" name=""/>
            <p:cNvSpPr/>
            <p:nvPr/>
          </p:nvSpPr>
          <p:spPr>
            <a:xfrm>
              <a:off x="2509920" y="3211560"/>
              <a:ext cx="23796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462480" y="2241720"/>
              <a:ext cx="236520" cy="21240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462480" y="4054320"/>
              <a:ext cx="236520" cy="211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562720" y="4038480"/>
              <a:ext cx="237960" cy="21132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648400" y="2241720"/>
              <a:ext cx="237960" cy="21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696000" y="3211560"/>
              <a:ext cx="23832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3581280" y="2476080"/>
              <a:ext cx="0" cy="160020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5743440" y="24537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2700360" y="2410920"/>
              <a:ext cx="80784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700360" y="3379680"/>
              <a:ext cx="762120" cy="75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699000" y="4181400"/>
              <a:ext cx="1901880" cy="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699000" y="2325600"/>
              <a:ext cx="1949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886360" y="2411280"/>
              <a:ext cx="855720" cy="8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5838840" y="3379680"/>
              <a:ext cx="903240" cy="75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651120" y="2411280"/>
              <a:ext cx="1997280" cy="168444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3699000" y="2410920"/>
              <a:ext cx="1998360" cy="168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453840" y="2209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463920" y="4010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649840" y="224640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587920" y="40370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697800" y="3171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149720" y="3436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035600" y="2790720"/>
              <a:ext cx="25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495680" y="419112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556160" y="232740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581280" y="319896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82960" y="352260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63960" y="2732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472000" y="312264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170760" y="3436920"/>
              <a:ext cx="37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078600" y="2665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387520" y="3808440"/>
              <a:ext cx="4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717640" y="3465360"/>
              <a:ext cx="4089600" cy="1219320"/>
            </a:xfrm>
            <a:custGeom>
              <a:avLst/>
              <a:gdLst/>
              <a:ahLst/>
              <a:rect l="l" t="t" r="r" b="b"/>
              <a:pathLst>
                <a:path w="2576" h="768">
                  <a:moveTo>
                    <a:pt x="0" y="0"/>
                  </a:moveTo>
                  <a:lnTo>
                    <a:pt x="280" y="696"/>
                  </a:lnTo>
                  <a:lnTo>
                    <a:pt x="424" y="768"/>
                  </a:lnTo>
                  <a:lnTo>
                    <a:pt x="2048" y="768"/>
                  </a:lnTo>
                  <a:lnTo>
                    <a:pt x="2192" y="664"/>
                  </a:lnTo>
                  <a:lnTo>
                    <a:pt x="2576" y="24"/>
                  </a:lnTo>
                </a:path>
              </a:pathLst>
            </a:custGeom>
            <a:noFill/>
            <a:ln w="3816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368960" y="464652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606840" y="2284560"/>
              <a:ext cx="3530520" cy="2286000"/>
            </a:xfrm>
            <a:custGeom>
              <a:avLst/>
              <a:gdLst/>
              <a:ahLst/>
              <a:rect l="l" t="t" r="r" b="b"/>
              <a:pathLst>
                <a:path w="2224" h="1440">
                  <a:moveTo>
                    <a:pt x="0" y="1248"/>
                  </a:moveTo>
                  <a:lnTo>
                    <a:pt x="96" y="1440"/>
                  </a:lnTo>
                  <a:lnTo>
                    <a:pt x="1296" y="1440"/>
                  </a:lnTo>
                  <a:lnTo>
                    <a:pt x="2168" y="776"/>
                  </a:lnTo>
                  <a:lnTo>
                    <a:pt x="2224" y="632"/>
                  </a:lnTo>
                  <a:lnTo>
                    <a:pt x="2160" y="504"/>
                  </a:lnTo>
                  <a:lnTo>
                    <a:pt x="2056" y="408"/>
                  </a:lnTo>
                  <a:lnTo>
                    <a:pt x="1536" y="0"/>
                  </a:lnTo>
                  <a:lnTo>
                    <a:pt x="14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350040" y="2360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905120" y="2971800"/>
              <a:ext cx="32364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324480" y="4191120"/>
              <a:ext cx="228600" cy="38088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248520" y="1676520"/>
              <a:ext cx="304560" cy="30456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514600" y="47242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raA =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781680" y="24382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raB = 7</a:t>
              </a:r>
              <a:r>
                <a:rPr b="1" lang="pt-BR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 flipV="1">
              <a:off x="5866920" y="4266720"/>
              <a:ext cx="38124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 flipV="1">
              <a:off x="3048120" y="198072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5866920" y="1981080"/>
              <a:ext cx="304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H="1">
              <a:off x="3200040" y="4267080"/>
              <a:ext cx="304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981080" y="3352680"/>
              <a:ext cx="60984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934320" y="335268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886200" y="38862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3C =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724280" y="5562720"/>
              <a:ext cx="38862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aturated Arc: {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onKey Path: {r1C, r3B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733920" y="25146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1C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V="1">
              <a:off x="3505320" y="2476080"/>
              <a:ext cx="0" cy="1600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809880" y="198108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3B = 0</a:t>
              </a:r>
              <a:r>
                <a:rPr b="1" lang="pt-BR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9" name=""/>
                <p:cNvSpPr txBox="1"/>
                <p:nvPr/>
              </p:nvSpPr>
              <p:spPr>
                <a:xfrm>
                  <a:off x="6858000" y="4572000"/>
                  <a:ext cx="182880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teration 4 - enters r3A, leaves y</a:t>
            </a:r>
            <a:r>
              <a:rPr b="0" lang="pt-BR" sz="4400" spc="-1" strike="noStrike" baseline="-25000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271" name=""/>
          <p:cNvGrpSpPr/>
          <p:nvPr/>
        </p:nvGrpSpPr>
        <p:grpSpPr>
          <a:xfrm>
            <a:off x="1523880" y="1676520"/>
            <a:ext cx="7162920" cy="4877640"/>
            <a:chOff x="1523880" y="1676520"/>
            <a:chExt cx="7162920" cy="4877640"/>
          </a:xfrm>
        </p:grpSpPr>
        <p:sp>
          <p:nvSpPr>
            <p:cNvPr id="2272" name=""/>
            <p:cNvSpPr/>
            <p:nvPr/>
          </p:nvSpPr>
          <p:spPr>
            <a:xfrm>
              <a:off x="2128680" y="3211560"/>
              <a:ext cx="23832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081240" y="2241720"/>
              <a:ext cx="236520" cy="21240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081240" y="4054320"/>
              <a:ext cx="236520" cy="211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181480" y="4038480"/>
              <a:ext cx="238320" cy="21132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267160" y="2241720"/>
              <a:ext cx="238320" cy="21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315120" y="3211560"/>
              <a:ext cx="23796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3200400" y="2476080"/>
              <a:ext cx="0" cy="160020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V="1">
              <a:off x="5362560" y="24537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V="1">
              <a:off x="2319480" y="2410920"/>
              <a:ext cx="80784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319480" y="3379680"/>
              <a:ext cx="761760" cy="75888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317760" y="4143240"/>
              <a:ext cx="1901880" cy="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317760" y="2325600"/>
              <a:ext cx="1949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505480" y="2411280"/>
              <a:ext cx="855720" cy="8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V="1">
              <a:off x="5457960" y="3379680"/>
              <a:ext cx="903240" cy="75888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270240" y="2411280"/>
              <a:ext cx="1996920" cy="168444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V="1">
              <a:off x="3317760" y="2410920"/>
              <a:ext cx="1998720" cy="168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072960" y="2209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083040" y="4010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268960" y="224640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207040" y="40370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316560" y="317196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768840" y="3436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092480" y="292428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114800" y="3943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175280" y="23274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200400" y="3198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602080" y="352260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682720" y="273204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91120" y="312264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89520" y="3436920"/>
              <a:ext cx="37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697360" y="266544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006640" y="3808440"/>
              <a:ext cx="42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336760" y="3465360"/>
              <a:ext cx="4089600" cy="1219320"/>
            </a:xfrm>
            <a:custGeom>
              <a:avLst/>
              <a:gdLst/>
              <a:ahLst/>
              <a:rect l="l" t="t" r="r" b="b"/>
              <a:pathLst>
                <a:path w="2576" h="768">
                  <a:moveTo>
                    <a:pt x="0" y="0"/>
                  </a:moveTo>
                  <a:lnTo>
                    <a:pt x="280" y="696"/>
                  </a:lnTo>
                  <a:lnTo>
                    <a:pt x="424" y="768"/>
                  </a:lnTo>
                  <a:lnTo>
                    <a:pt x="2048" y="768"/>
                  </a:lnTo>
                  <a:lnTo>
                    <a:pt x="2192" y="664"/>
                  </a:lnTo>
                  <a:lnTo>
                    <a:pt x="2576" y="24"/>
                  </a:lnTo>
                </a:path>
              </a:pathLst>
            </a:custGeom>
            <a:noFill/>
            <a:ln w="3816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987720" y="4646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225960" y="2284560"/>
              <a:ext cx="3530520" cy="2286000"/>
            </a:xfrm>
            <a:custGeom>
              <a:avLst/>
              <a:gdLst/>
              <a:ahLst/>
              <a:rect l="l" t="t" r="r" b="b"/>
              <a:pathLst>
                <a:path w="2224" h="1440">
                  <a:moveTo>
                    <a:pt x="0" y="1248"/>
                  </a:moveTo>
                  <a:lnTo>
                    <a:pt x="96" y="1440"/>
                  </a:lnTo>
                  <a:lnTo>
                    <a:pt x="1296" y="1440"/>
                  </a:lnTo>
                  <a:lnTo>
                    <a:pt x="2168" y="776"/>
                  </a:lnTo>
                  <a:lnTo>
                    <a:pt x="2224" y="632"/>
                  </a:lnTo>
                  <a:lnTo>
                    <a:pt x="2160" y="504"/>
                  </a:lnTo>
                  <a:lnTo>
                    <a:pt x="2056" y="408"/>
                  </a:lnTo>
                  <a:lnTo>
                    <a:pt x="1536" y="0"/>
                  </a:lnTo>
                  <a:lnTo>
                    <a:pt x="14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969160" y="236052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523880" y="2971800"/>
              <a:ext cx="32400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943600" y="4191120"/>
              <a:ext cx="228600" cy="38088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867280" y="1676520"/>
              <a:ext cx="304920" cy="30456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133720" y="47242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raA = 7</a:t>
              </a:r>
              <a:r>
                <a:rPr b="1" lang="pt-BR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</a:t>
              </a: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400800" y="24382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raB = 6</a:t>
              </a:r>
              <a:r>
                <a:rPr b="1" lang="pt-BR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 flipV="1">
              <a:off x="5486400" y="426672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 flipV="1">
              <a:off x="2666520" y="1980720"/>
              <a:ext cx="38124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>
              <a:off x="5486040" y="1981080"/>
              <a:ext cx="304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H="1">
              <a:off x="2819520" y="4267080"/>
              <a:ext cx="3045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600200" y="335268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553080" y="3352680"/>
              <a:ext cx="60984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50532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3C = 6</a:t>
              </a:r>
              <a:r>
                <a:rPr b="1" lang="pt-BR" sz="1600" spc="-1" strike="noStrike">
                  <a:solidFill>
                    <a:srgbClr val="01c101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200400" y="5487840"/>
              <a:ext cx="518148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aturated Arc: {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onKey Path: {r1C, r3B, r3A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467160" y="25146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1C = 1</a:t>
              </a:r>
              <a:r>
                <a:rPr b="1" lang="pt-BR" sz="1600" spc="-1" strike="noStrike">
                  <a:solidFill>
                    <a:srgbClr val="01c101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3124080" y="2476080"/>
              <a:ext cx="0" cy="1600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429000" y="19810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3B = 1</a:t>
              </a:r>
              <a:r>
                <a:rPr b="1" lang="pt-BR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295800" y="4210200"/>
              <a:ext cx="1901520" cy="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505320" y="41911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r3A = 0</a:t>
              </a:r>
              <a:r>
                <a:rPr b="1" lang="pt-BR" sz="16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6" name=""/>
                <p:cNvSpPr txBox="1"/>
                <p:nvPr/>
              </p:nvSpPr>
              <p:spPr>
                <a:xfrm>
                  <a:off x="6781680" y="4343400"/>
                  <a:ext cx="190512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teration 5 - </a:t>
            </a: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enters r1B, leaves raB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28" name=""/>
          <p:cNvGrpSpPr/>
          <p:nvPr/>
        </p:nvGrpSpPr>
        <p:grpSpPr>
          <a:xfrm>
            <a:off x="1523880" y="1676520"/>
            <a:ext cx="7162920" cy="4877640"/>
            <a:chOff x="1523880" y="1676520"/>
            <a:chExt cx="7162920" cy="4877640"/>
          </a:xfrm>
        </p:grpSpPr>
        <p:sp>
          <p:nvSpPr>
            <p:cNvPr id="2329" name=""/>
            <p:cNvSpPr/>
            <p:nvPr/>
          </p:nvSpPr>
          <p:spPr>
            <a:xfrm>
              <a:off x="2128680" y="3211560"/>
              <a:ext cx="23832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081240" y="2241720"/>
              <a:ext cx="236520" cy="21240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081240" y="4054320"/>
              <a:ext cx="236520" cy="211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181480" y="4038480"/>
              <a:ext cx="238320" cy="21132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267160" y="2241720"/>
              <a:ext cx="238320" cy="21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315120" y="3211560"/>
              <a:ext cx="23796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3200400" y="2476080"/>
              <a:ext cx="0" cy="1600200"/>
            </a:xfrm>
            <a:prstGeom prst="line">
              <a:avLst/>
            </a:prstGeom>
            <a:ln w="5724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V="1">
              <a:off x="5362560" y="24537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2319480" y="2410920"/>
              <a:ext cx="80784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319480" y="3379680"/>
              <a:ext cx="761760" cy="75888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317760" y="4143240"/>
              <a:ext cx="1901880" cy="0"/>
            </a:xfrm>
            <a:prstGeom prst="line">
              <a:avLst/>
            </a:prstGeom>
            <a:ln w="5724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317760" y="2325600"/>
              <a:ext cx="1949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505480" y="2411280"/>
              <a:ext cx="855720" cy="8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457960" y="3379680"/>
              <a:ext cx="903240" cy="75888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3270240" y="2411280"/>
              <a:ext cx="1996920" cy="168444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3317760" y="2410920"/>
              <a:ext cx="1998720" cy="1684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072960" y="2209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083040" y="4010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268960" y="224640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207040" y="40370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316560" y="317196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730680" y="3379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092480" y="292428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114800" y="3943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175280" y="23274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200400" y="3198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602080" y="352260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682720" y="273204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091120" y="312264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789520" y="3436920"/>
              <a:ext cx="37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697360" y="266544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006640" y="3808440"/>
              <a:ext cx="42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36760" y="3465360"/>
              <a:ext cx="4089600" cy="1219320"/>
            </a:xfrm>
            <a:custGeom>
              <a:avLst/>
              <a:gdLst/>
              <a:ahLst/>
              <a:rect l="l" t="t" r="r" b="b"/>
              <a:pathLst>
                <a:path w="2576" h="768">
                  <a:moveTo>
                    <a:pt x="0" y="0"/>
                  </a:moveTo>
                  <a:lnTo>
                    <a:pt x="280" y="696"/>
                  </a:lnTo>
                  <a:lnTo>
                    <a:pt x="424" y="768"/>
                  </a:lnTo>
                  <a:lnTo>
                    <a:pt x="2048" y="768"/>
                  </a:lnTo>
                  <a:lnTo>
                    <a:pt x="2192" y="664"/>
                  </a:lnTo>
                  <a:lnTo>
                    <a:pt x="2576" y="24"/>
                  </a:lnTo>
                </a:path>
              </a:pathLst>
            </a:custGeom>
            <a:noFill/>
            <a:ln w="3816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987720" y="4646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225960" y="2284560"/>
              <a:ext cx="3530520" cy="2286000"/>
            </a:xfrm>
            <a:custGeom>
              <a:avLst/>
              <a:gdLst/>
              <a:ahLst/>
              <a:rect l="l" t="t" r="r" b="b"/>
              <a:pathLst>
                <a:path w="2224" h="1440">
                  <a:moveTo>
                    <a:pt x="0" y="1248"/>
                  </a:moveTo>
                  <a:lnTo>
                    <a:pt x="96" y="1440"/>
                  </a:lnTo>
                  <a:lnTo>
                    <a:pt x="1296" y="1440"/>
                  </a:lnTo>
                  <a:lnTo>
                    <a:pt x="2168" y="776"/>
                  </a:lnTo>
                  <a:lnTo>
                    <a:pt x="2224" y="632"/>
                  </a:lnTo>
                  <a:lnTo>
                    <a:pt x="2160" y="504"/>
                  </a:lnTo>
                  <a:lnTo>
                    <a:pt x="2056" y="408"/>
                  </a:lnTo>
                  <a:lnTo>
                    <a:pt x="1536" y="0"/>
                  </a:lnTo>
                  <a:lnTo>
                    <a:pt x="14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969160" y="236052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523880" y="2971800"/>
              <a:ext cx="32400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943600" y="4191120"/>
              <a:ext cx="228600" cy="38088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867280" y="1676520"/>
              <a:ext cx="304920" cy="30456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133720" y="47242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raA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400800" y="24382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raB = 3 </a:t>
              </a:r>
              <a:r>
                <a:rPr b="1" lang="pt-BR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 flipV="1">
              <a:off x="5486400" y="426672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 flipV="1">
              <a:off x="2666520" y="1980720"/>
              <a:ext cx="38124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5486040" y="1981080"/>
              <a:ext cx="304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2819520" y="4267080"/>
              <a:ext cx="3045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600200" y="335268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553080" y="3352680"/>
              <a:ext cx="60984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50532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3C 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200400" y="5487840"/>
              <a:ext cx="518148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aturated Arc: {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onKey Path: {r1C, r1B, r3A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467160" y="25146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1C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3124080" y="247608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429000" y="19810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3B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295800" y="4210200"/>
              <a:ext cx="190152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505320" y="41911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r3A 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343400" y="28195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1B = 0</a:t>
              </a:r>
              <a:r>
                <a:rPr b="1" lang="pt-BR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4" name=""/>
                <p:cNvSpPr txBox="1"/>
                <p:nvPr/>
              </p:nvSpPr>
              <p:spPr>
                <a:xfrm>
                  <a:off x="6324480" y="4267080"/>
                  <a:ext cx="236232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r>
                        <m:rPr>
                          <m:lit/>
                          <m:nor/>
                        </m:rPr>
                        <m:t xml:space="preserve">=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teration 6 - enters r4C, leaves y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86" name=""/>
          <p:cNvGrpSpPr/>
          <p:nvPr/>
        </p:nvGrpSpPr>
        <p:grpSpPr>
          <a:xfrm>
            <a:off x="1523880" y="1676520"/>
            <a:ext cx="7391520" cy="4877640"/>
            <a:chOff x="1523880" y="1676520"/>
            <a:chExt cx="7391520" cy="4877640"/>
          </a:xfrm>
        </p:grpSpPr>
        <p:sp>
          <p:nvSpPr>
            <p:cNvPr id="2387" name=""/>
            <p:cNvSpPr/>
            <p:nvPr/>
          </p:nvSpPr>
          <p:spPr>
            <a:xfrm>
              <a:off x="2128680" y="3211560"/>
              <a:ext cx="23832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081240" y="2241720"/>
              <a:ext cx="236520" cy="21240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081240" y="4054320"/>
              <a:ext cx="236520" cy="211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181480" y="4038480"/>
              <a:ext cx="238320" cy="21132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267160" y="2241720"/>
              <a:ext cx="238320" cy="21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315120" y="3211560"/>
              <a:ext cx="23796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3200400" y="2476080"/>
              <a:ext cx="0" cy="1600200"/>
            </a:xfrm>
            <a:prstGeom prst="line">
              <a:avLst/>
            </a:prstGeom>
            <a:ln w="5724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V="1">
              <a:off x="5362560" y="24537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2319480" y="2410920"/>
              <a:ext cx="80784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319480" y="3379680"/>
              <a:ext cx="761760" cy="75888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317760" y="4143240"/>
              <a:ext cx="1901880" cy="0"/>
            </a:xfrm>
            <a:prstGeom prst="line">
              <a:avLst/>
            </a:prstGeom>
            <a:ln w="5724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336840" y="2343240"/>
              <a:ext cx="1949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505480" y="2411280"/>
              <a:ext cx="855720" cy="843120"/>
            </a:xfrm>
            <a:prstGeom prst="line">
              <a:avLst/>
            </a:prstGeom>
            <a:ln w="76320">
              <a:solidFill>
                <a:srgbClr val="01d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V="1">
              <a:off x="5410080" y="3429000"/>
              <a:ext cx="903240" cy="758880"/>
            </a:xfrm>
            <a:prstGeom prst="line">
              <a:avLst/>
            </a:prstGeom>
            <a:ln w="76320">
              <a:solidFill>
                <a:srgbClr val="01d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270240" y="2411280"/>
              <a:ext cx="1996920" cy="168444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3317760" y="2410920"/>
              <a:ext cx="1998720" cy="1684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072960" y="2209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083040" y="4010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268960" y="224640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207040" y="40370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316560" y="317196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730680" y="3379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092480" y="292428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114800" y="3943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175280" y="23274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200400" y="3198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602080" y="352260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682720" y="273204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091120" y="312264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638680" y="3429000"/>
              <a:ext cx="37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97360" y="266544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06640" y="3808440"/>
              <a:ext cx="42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336760" y="3465360"/>
              <a:ext cx="4089600" cy="1219320"/>
            </a:xfrm>
            <a:custGeom>
              <a:avLst/>
              <a:gdLst/>
              <a:ahLst/>
              <a:rect l="l" t="t" r="r" b="b"/>
              <a:pathLst>
                <a:path w="2576" h="768">
                  <a:moveTo>
                    <a:pt x="0" y="0"/>
                  </a:moveTo>
                  <a:lnTo>
                    <a:pt x="280" y="696"/>
                  </a:lnTo>
                  <a:lnTo>
                    <a:pt x="424" y="768"/>
                  </a:lnTo>
                  <a:lnTo>
                    <a:pt x="2048" y="768"/>
                  </a:lnTo>
                  <a:lnTo>
                    <a:pt x="2192" y="664"/>
                  </a:lnTo>
                  <a:lnTo>
                    <a:pt x="2576" y="24"/>
                  </a:lnTo>
                </a:path>
              </a:pathLst>
            </a:custGeom>
            <a:noFill/>
            <a:ln w="3816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987720" y="4646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969160" y="236052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523880" y="2971800"/>
              <a:ext cx="32400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943600" y="4191120"/>
              <a:ext cx="228600" cy="38088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867280" y="1676520"/>
              <a:ext cx="304920" cy="30456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05120" y="4572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raA = 4 </a:t>
              </a:r>
              <a:r>
                <a:rPr b="1" lang="pt-BR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</a:t>
              </a: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 3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H="1" flipV="1">
              <a:off x="5486400" y="426672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H="1" flipV="1">
              <a:off x="2666520" y="1980720"/>
              <a:ext cx="38124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5486040" y="1981080"/>
              <a:ext cx="304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2819520" y="4267080"/>
              <a:ext cx="3045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600200" y="335268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553080" y="3352680"/>
              <a:ext cx="60984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50532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3C = 3</a:t>
              </a:r>
              <a:r>
                <a:rPr b="1" lang="pt-BR" sz="1600" spc="-1" strike="noStrike">
                  <a:solidFill>
                    <a:srgbClr val="01c101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200400" y="5487840"/>
              <a:ext cx="518148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aturated Arc: {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onKey Path: {r1C, r1B, r3A, r4C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467160" y="25146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1C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V="1">
              <a:off x="3124080" y="247608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429000" y="19810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3B = 4 </a:t>
              </a:r>
              <a:r>
                <a:rPr b="1" lang="pt-BR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4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295800" y="4210200"/>
              <a:ext cx="190152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505320" y="41911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r3A = 3</a:t>
              </a:r>
              <a:r>
                <a:rPr b="1" lang="pt-BR" sz="16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343400" y="28195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1B = 3</a:t>
              </a:r>
              <a:r>
                <a:rPr b="1" lang="pt-BR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5486400" y="3429000"/>
              <a:ext cx="903240" cy="75888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333600" y="2286000"/>
              <a:ext cx="1949760" cy="0"/>
            </a:xfrm>
            <a:prstGeom prst="line">
              <a:avLst/>
            </a:prstGeom>
            <a:ln w="57240">
              <a:solidFill>
                <a:srgbClr val="01d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019920" y="27432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d701"/>
                  </a:solidFill>
                  <a:latin typeface="Arial"/>
                </a:rPr>
                <a:t>r4C = 0 </a:t>
              </a:r>
              <a:r>
                <a:rPr b="1" lang="pt-BR" sz="1600" spc="-1" strike="noStrike">
                  <a:solidFill>
                    <a:srgbClr val="01d701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01d701"/>
                  </a:solidFill>
                  <a:latin typeface="Arial"/>
                </a:rPr>
                <a:t> 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3" name=""/>
                <p:cNvSpPr txBox="1"/>
                <p:nvPr/>
              </p:nvSpPr>
              <p:spPr>
                <a:xfrm>
                  <a:off x="6400800" y="3809880"/>
                  <a:ext cx="2514600" cy="174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6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teration 7 -</a:t>
            </a:r>
            <a:r>
              <a:rPr b="0" i="1" lang="pt-BR" sz="4400" spc="-1" strike="noStrike">
                <a:solidFill>
                  <a:srgbClr val="003366"/>
                </a:solidFill>
                <a:latin typeface="Times New Roman"/>
              </a:rPr>
              <a:t> enters y3, leaves y1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445" name=""/>
          <p:cNvGrpSpPr/>
          <p:nvPr/>
        </p:nvGrpSpPr>
        <p:grpSpPr>
          <a:xfrm>
            <a:off x="1523880" y="1676520"/>
            <a:ext cx="7315200" cy="4877640"/>
            <a:chOff x="1523880" y="1676520"/>
            <a:chExt cx="7315200" cy="4877640"/>
          </a:xfrm>
        </p:grpSpPr>
        <p:sp>
          <p:nvSpPr>
            <p:cNvPr id="2446" name=""/>
            <p:cNvSpPr/>
            <p:nvPr/>
          </p:nvSpPr>
          <p:spPr>
            <a:xfrm>
              <a:off x="2128680" y="3211560"/>
              <a:ext cx="23832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081240" y="2241720"/>
              <a:ext cx="236520" cy="21240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081240" y="4054320"/>
              <a:ext cx="236520" cy="211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181480" y="4038480"/>
              <a:ext cx="238320" cy="21132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267160" y="2241720"/>
              <a:ext cx="238320" cy="21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315120" y="3211560"/>
              <a:ext cx="23796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3200400" y="2476080"/>
              <a:ext cx="0" cy="160020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>
              <a:off x="5362560" y="24537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2319480" y="2410920"/>
              <a:ext cx="80784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2319480" y="3379680"/>
              <a:ext cx="761760" cy="75888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317760" y="4143240"/>
              <a:ext cx="1901880" cy="0"/>
            </a:xfrm>
            <a:prstGeom prst="line">
              <a:avLst/>
            </a:prstGeom>
            <a:ln w="5724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336840" y="2343240"/>
              <a:ext cx="1949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05480" y="2411280"/>
              <a:ext cx="855720" cy="843120"/>
            </a:xfrm>
            <a:prstGeom prst="line">
              <a:avLst/>
            </a:prstGeom>
            <a:ln w="76320">
              <a:solidFill>
                <a:srgbClr val="01d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V="1">
              <a:off x="5448240" y="3371760"/>
              <a:ext cx="903240" cy="758880"/>
            </a:xfrm>
            <a:prstGeom prst="line">
              <a:avLst/>
            </a:prstGeom>
            <a:ln w="76320">
              <a:solidFill>
                <a:srgbClr val="01d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270240" y="2411280"/>
              <a:ext cx="1996920" cy="168444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3317760" y="2410920"/>
              <a:ext cx="1998720" cy="1684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072960" y="2209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083040" y="4010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268960" y="224640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207040" y="403704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316560" y="317196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730680" y="3379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092480" y="292428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114800" y="3943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175280" y="232740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200400" y="31989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602080" y="352260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682720" y="273204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091120" y="312264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638680" y="3429000"/>
              <a:ext cx="37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697360" y="266544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006640" y="3808440"/>
              <a:ext cx="42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336760" y="3465360"/>
              <a:ext cx="4089600" cy="1219320"/>
            </a:xfrm>
            <a:custGeom>
              <a:avLst/>
              <a:gdLst/>
              <a:ahLst/>
              <a:rect l="l" t="t" r="r" b="b"/>
              <a:pathLst>
                <a:path w="2576" h="768">
                  <a:moveTo>
                    <a:pt x="0" y="0"/>
                  </a:moveTo>
                  <a:lnTo>
                    <a:pt x="280" y="696"/>
                  </a:lnTo>
                  <a:lnTo>
                    <a:pt x="424" y="768"/>
                  </a:lnTo>
                  <a:lnTo>
                    <a:pt x="2048" y="768"/>
                  </a:lnTo>
                  <a:lnTo>
                    <a:pt x="2192" y="664"/>
                  </a:lnTo>
                  <a:lnTo>
                    <a:pt x="2576" y="24"/>
                  </a:lnTo>
                </a:path>
              </a:pathLst>
            </a:custGeom>
            <a:noFill/>
            <a:ln w="3816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987720" y="4646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969160" y="236052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523880" y="2971800"/>
              <a:ext cx="32400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943600" y="4191120"/>
              <a:ext cx="228600" cy="38088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867280" y="1676520"/>
              <a:ext cx="304920" cy="30456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676520" y="45720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raA = 3.5 </a:t>
              </a:r>
              <a:r>
                <a:rPr b="1" lang="pt-BR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</a:t>
              </a: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 2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H="1" flipV="1">
              <a:off x="5486400" y="426672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H="1" flipV="1">
              <a:off x="2666520" y="1980720"/>
              <a:ext cx="38124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H="1">
              <a:off x="5486040" y="1981080"/>
              <a:ext cx="304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2819520" y="4267080"/>
              <a:ext cx="3045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600200" y="335268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553080" y="3352680"/>
              <a:ext cx="60984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505320" y="37339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3C = 2.5</a:t>
              </a:r>
              <a:r>
                <a:rPr b="1" lang="pt-BR" sz="1600" spc="-1" strike="noStrike">
                  <a:solidFill>
                    <a:srgbClr val="01c101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200400" y="5487840"/>
              <a:ext cx="518148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aturated Arc: {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onKey Path: {r1C, r1B, r3A, r4C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467160" y="25146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1C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V="1">
              <a:off x="3124080" y="2476080"/>
              <a:ext cx="0" cy="1600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429000" y="19810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3B = 4.5 </a:t>
              </a:r>
              <a:r>
                <a:rPr b="1" lang="pt-BR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295800" y="4210200"/>
              <a:ext cx="190152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505320" y="41911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r3A = 3.5</a:t>
              </a:r>
              <a:r>
                <a:rPr b="1" lang="pt-BR" sz="16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4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343400" y="28195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1B = 2.5</a:t>
              </a:r>
              <a:r>
                <a:rPr b="1" lang="pt-BR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3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V="1">
              <a:off x="5486400" y="3429000"/>
              <a:ext cx="903240" cy="75888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333600" y="2286000"/>
              <a:ext cx="1949760" cy="0"/>
            </a:xfrm>
            <a:prstGeom prst="line">
              <a:avLst/>
            </a:prstGeom>
            <a:ln w="57240">
              <a:solidFill>
                <a:srgbClr val="01d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019920" y="274320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d701"/>
                  </a:solidFill>
                  <a:latin typeface="Arial"/>
                </a:rPr>
                <a:t>r4C = 0.5 </a:t>
              </a:r>
              <a:r>
                <a:rPr b="1" lang="pt-BR" sz="1600" spc="-1" strike="noStrike">
                  <a:solidFill>
                    <a:srgbClr val="01d701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01d701"/>
                  </a:solidFill>
                  <a:latin typeface="Arial"/>
                </a:rPr>
                <a:t> 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2" name=""/>
                <p:cNvSpPr txBox="1"/>
                <p:nvPr/>
              </p:nvSpPr>
              <p:spPr>
                <a:xfrm>
                  <a:off x="6324480" y="3733920"/>
                  <a:ext cx="2514600" cy="17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7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teration 8 - enters r1A, leaves y7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5715000" y="16002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276720" y="1600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r3B = 3.5 </a:t>
            </a:r>
            <a:r>
              <a:rPr b="1" lang="pt-BR" sz="16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1143000" y="1904760"/>
            <a:ext cx="7620120" cy="4573440"/>
            <a:chOff x="1143000" y="1904760"/>
            <a:chExt cx="7620120" cy="4573440"/>
          </a:xfrm>
        </p:grpSpPr>
        <p:sp>
          <p:nvSpPr>
            <p:cNvPr id="2507" name=""/>
            <p:cNvSpPr/>
            <p:nvPr/>
          </p:nvSpPr>
          <p:spPr>
            <a:xfrm>
              <a:off x="1976400" y="3135240"/>
              <a:ext cx="23832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928960" y="2165400"/>
              <a:ext cx="236520" cy="21276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928960" y="3978360"/>
              <a:ext cx="236520" cy="210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029200" y="3962520"/>
              <a:ext cx="237960" cy="21096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114880" y="2165400"/>
              <a:ext cx="238320" cy="212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162840" y="3135240"/>
              <a:ext cx="23796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V="1">
              <a:off x="3048120" y="2400120"/>
              <a:ext cx="0" cy="160020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V="1">
              <a:off x="5210280" y="2377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V="1">
              <a:off x="2166840" y="2335320"/>
              <a:ext cx="808200" cy="79992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166840" y="3303720"/>
              <a:ext cx="762120" cy="75852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165480" y="4067280"/>
              <a:ext cx="1901880" cy="0"/>
            </a:xfrm>
            <a:prstGeom prst="line">
              <a:avLst/>
            </a:prstGeom>
            <a:ln w="5724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184560" y="2266920"/>
              <a:ext cx="1949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353200" y="2335320"/>
              <a:ext cx="855360" cy="842760"/>
            </a:xfrm>
            <a:prstGeom prst="line">
              <a:avLst/>
            </a:prstGeom>
            <a:ln w="76320">
              <a:solidFill>
                <a:srgbClr val="01d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 flipV="1">
              <a:off x="5295960" y="3295440"/>
              <a:ext cx="903240" cy="758520"/>
            </a:xfrm>
            <a:prstGeom prst="line">
              <a:avLst/>
            </a:prstGeom>
            <a:ln w="76320">
              <a:solidFill>
                <a:srgbClr val="01d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117960" y="2335320"/>
              <a:ext cx="1996920" cy="168408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V="1">
              <a:off x="3165480" y="2335320"/>
              <a:ext cx="1998720" cy="1684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920320" y="21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930400" y="393372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116680" y="21700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054760" y="3960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164280" y="3095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578400" y="3303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940200" y="284796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962520" y="386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4022640" y="225108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048120" y="3122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449440" y="3446640"/>
              <a:ext cx="25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530440" y="2655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938840" y="304632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486400" y="3352680"/>
              <a:ext cx="37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545080" y="258912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184480" y="3389400"/>
              <a:ext cx="4089240" cy="1218960"/>
            </a:xfrm>
            <a:custGeom>
              <a:avLst/>
              <a:gdLst/>
              <a:ahLst/>
              <a:rect l="l" t="t" r="r" b="b"/>
              <a:pathLst>
                <a:path w="2576" h="768">
                  <a:moveTo>
                    <a:pt x="0" y="0"/>
                  </a:moveTo>
                  <a:lnTo>
                    <a:pt x="280" y="696"/>
                  </a:lnTo>
                  <a:lnTo>
                    <a:pt x="424" y="768"/>
                  </a:lnTo>
                  <a:lnTo>
                    <a:pt x="2048" y="768"/>
                  </a:lnTo>
                  <a:lnTo>
                    <a:pt x="2192" y="664"/>
                  </a:lnTo>
                  <a:lnTo>
                    <a:pt x="2576" y="24"/>
                  </a:lnTo>
                </a:path>
              </a:pathLst>
            </a:custGeom>
            <a:noFill/>
            <a:ln w="3816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835440" y="457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371600" y="2895480"/>
              <a:ext cx="32400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791320" y="4114800"/>
              <a:ext cx="228600" cy="38088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523880" y="44956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raA = 2.5 </a:t>
              </a:r>
              <a:r>
                <a:rPr b="1" lang="pt-BR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</a:t>
              </a: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 flipH="1" flipV="1">
              <a:off x="5334120" y="419076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H="1" flipV="1">
              <a:off x="2514600" y="190476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5334120" y="1905120"/>
              <a:ext cx="30456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H="1">
              <a:off x="2666520" y="4191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447920" y="327672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400800" y="327672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352680" y="365760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3C = 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438280" y="5411880"/>
              <a:ext cx="579132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aturated Arc: {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onKey Path: {r1C, r1B, r3A, r4C, r1A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314880" y="24382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1C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2971800" y="2400120"/>
              <a:ext cx="0" cy="1600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143160" y="4133880"/>
              <a:ext cx="190188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352680" y="411480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r3A = 4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495680" y="274320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1B = 3.5</a:t>
              </a:r>
              <a:r>
                <a:rPr b="1" lang="pt-BR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V="1">
              <a:off x="5334120" y="3352680"/>
              <a:ext cx="903240" cy="75888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3181320" y="2209680"/>
              <a:ext cx="1949400" cy="0"/>
            </a:xfrm>
            <a:prstGeom prst="line">
              <a:avLst/>
            </a:prstGeom>
            <a:ln w="57240">
              <a:solidFill>
                <a:srgbClr val="01d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048120" y="2152800"/>
              <a:ext cx="220968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410080" y="23623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d701"/>
                  </a:solidFill>
                  <a:latin typeface="Arial"/>
                </a:rPr>
                <a:t>r4C = 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273640" y="2174760"/>
              <a:ext cx="1050840" cy="102564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143000" y="24382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r1A = 0</a:t>
              </a:r>
              <a:r>
                <a:rPr b="1" lang="pt-BR" sz="16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2" name=""/>
                <p:cNvSpPr txBox="1"/>
                <p:nvPr/>
              </p:nvSpPr>
              <p:spPr>
                <a:xfrm>
                  <a:off x="6248520" y="3733920"/>
                  <a:ext cx="2514600" cy="17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teration 9 - </a:t>
            </a: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enters y10, leaves r4C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564" name=""/>
          <p:cNvGrpSpPr/>
          <p:nvPr/>
        </p:nvGrpSpPr>
        <p:grpSpPr>
          <a:xfrm>
            <a:off x="1143000" y="1600200"/>
            <a:ext cx="7620120" cy="4878000"/>
            <a:chOff x="1143000" y="1600200"/>
            <a:chExt cx="7620120" cy="4878000"/>
          </a:xfrm>
        </p:grpSpPr>
        <p:sp>
          <p:nvSpPr>
            <p:cNvPr id="2565" name=""/>
            <p:cNvSpPr/>
            <p:nvPr/>
          </p:nvSpPr>
          <p:spPr>
            <a:xfrm>
              <a:off x="1976400" y="3135240"/>
              <a:ext cx="23832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2928960" y="2165400"/>
              <a:ext cx="236520" cy="21276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928960" y="3978360"/>
              <a:ext cx="236520" cy="210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029200" y="3962520"/>
              <a:ext cx="237960" cy="21096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114880" y="2165400"/>
              <a:ext cx="238320" cy="212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162840" y="3135240"/>
              <a:ext cx="23796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3048120" y="2400120"/>
              <a:ext cx="0" cy="160020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V="1">
              <a:off x="5210280" y="2377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2166840" y="2335320"/>
              <a:ext cx="808200" cy="79992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166840" y="3303720"/>
              <a:ext cx="762120" cy="75852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165480" y="4067280"/>
              <a:ext cx="1901880" cy="0"/>
            </a:xfrm>
            <a:prstGeom prst="line">
              <a:avLst/>
            </a:prstGeom>
            <a:ln w="5724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184560" y="2266920"/>
              <a:ext cx="1949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353200" y="2335320"/>
              <a:ext cx="855360" cy="842760"/>
            </a:xfrm>
            <a:prstGeom prst="line">
              <a:avLst/>
            </a:prstGeom>
            <a:ln w="76320">
              <a:solidFill>
                <a:srgbClr val="01d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5295960" y="3295440"/>
              <a:ext cx="903240" cy="758520"/>
            </a:xfrm>
            <a:prstGeom prst="line">
              <a:avLst/>
            </a:prstGeom>
            <a:ln w="76320">
              <a:solidFill>
                <a:srgbClr val="01d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117960" y="2335320"/>
              <a:ext cx="1996920" cy="168408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3165480" y="2335320"/>
              <a:ext cx="1998720" cy="1684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920320" y="21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930400" y="393372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116680" y="21700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054760" y="3960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6164280" y="3095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578400" y="3303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940200" y="284796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962520" y="386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022640" y="225108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048120" y="3122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449440" y="3446640"/>
              <a:ext cx="25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530440" y="2655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938840" y="304632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486400" y="3352680"/>
              <a:ext cx="37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545080" y="258912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84480" y="3389400"/>
              <a:ext cx="4089240" cy="1218960"/>
            </a:xfrm>
            <a:custGeom>
              <a:avLst/>
              <a:gdLst/>
              <a:ahLst/>
              <a:rect l="l" t="t" r="r" b="b"/>
              <a:pathLst>
                <a:path w="2576" h="768">
                  <a:moveTo>
                    <a:pt x="0" y="0"/>
                  </a:moveTo>
                  <a:lnTo>
                    <a:pt x="280" y="696"/>
                  </a:lnTo>
                  <a:lnTo>
                    <a:pt x="424" y="768"/>
                  </a:lnTo>
                  <a:lnTo>
                    <a:pt x="2048" y="768"/>
                  </a:lnTo>
                  <a:lnTo>
                    <a:pt x="2192" y="664"/>
                  </a:lnTo>
                  <a:lnTo>
                    <a:pt x="2576" y="24"/>
                  </a:lnTo>
                </a:path>
              </a:pathLst>
            </a:custGeom>
            <a:noFill/>
            <a:ln w="38160">
              <a:solidFill>
                <a:srgbClr val="3366cc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835440" y="457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371600" y="2895480"/>
              <a:ext cx="32400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791320" y="4114800"/>
              <a:ext cx="228600" cy="38088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715000" y="1600200"/>
              <a:ext cx="304920" cy="30492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523880" y="44956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raA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H="1" flipV="1">
              <a:off x="5334120" y="419076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H="1" flipV="1">
              <a:off x="2514600" y="190476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>
              <a:off x="5334120" y="1905120"/>
              <a:ext cx="30456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>
              <a:off x="2666520" y="4191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447920" y="327672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6400800" y="327672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352680" y="365760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3C = 1.5</a:t>
              </a:r>
              <a:r>
                <a:rPr b="1" lang="pt-BR" sz="1600" spc="-1" strike="noStrike">
                  <a:solidFill>
                    <a:srgbClr val="01c101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438280" y="5411880"/>
              <a:ext cx="579132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aturated Arc: {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onKey Path: {r1C, r1B, r3A, r1A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314880" y="24382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1C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2971800" y="2400120"/>
              <a:ext cx="0" cy="1600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276720" y="18288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3B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143160" y="4133880"/>
              <a:ext cx="190188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352680" y="411480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r3A = 4.5</a:t>
              </a:r>
              <a:r>
                <a:rPr b="1" lang="pt-BR" sz="16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495680" y="274320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1B =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V="1">
              <a:off x="5334120" y="3352680"/>
              <a:ext cx="903240" cy="75888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181320" y="2209680"/>
              <a:ext cx="1949400" cy="0"/>
            </a:xfrm>
            <a:prstGeom prst="line">
              <a:avLst/>
            </a:prstGeom>
            <a:ln w="57240">
              <a:solidFill>
                <a:srgbClr val="01d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048120" y="2152800"/>
              <a:ext cx="220968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410080" y="236232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d701"/>
                  </a:solidFill>
                  <a:latin typeface="Arial"/>
                </a:rPr>
                <a:t>r4C = 1.5</a:t>
              </a:r>
              <a:r>
                <a:rPr b="1" lang="pt-BR" sz="1600" spc="-1" strike="noStrike">
                  <a:solidFill>
                    <a:srgbClr val="01d701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01d701"/>
                  </a:solidFill>
                  <a:latin typeface="Arial"/>
                </a:rPr>
                <a:t> 0 (leavi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273640" y="2174760"/>
              <a:ext cx="1050840" cy="102564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143000" y="24382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r1A = 2.5 </a:t>
              </a:r>
              <a:r>
                <a:rPr b="1" lang="pt-BR" sz="16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</a:t>
              </a: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2" name=""/>
                <p:cNvSpPr txBox="1"/>
                <p:nvPr/>
              </p:nvSpPr>
              <p:spPr>
                <a:xfrm>
                  <a:off x="6324480" y="3886200"/>
                  <a:ext cx="24386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9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.3 - Linear Programming Problem Siz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094200" y="456840"/>
            <a:ext cx="3094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locar 3 figu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sma redinha, só que pequenin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a seta saindo dela para esquerda e abaixo, dando no desenho do nó-ar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a outra seta dela para direita e abaixo, dando no desenho do arco-camin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5120" y="4481640"/>
            <a:ext cx="3729240" cy="1984320"/>
            <a:chOff x="4875120" y="4481640"/>
            <a:chExt cx="3729240" cy="1984320"/>
          </a:xfrm>
        </p:grpSpPr>
        <p:sp>
          <p:nvSpPr>
            <p:cNvPr id="208" name=""/>
            <p:cNvSpPr/>
            <p:nvPr/>
          </p:nvSpPr>
          <p:spPr>
            <a:xfrm>
              <a:off x="4875120" y="4486320"/>
              <a:ext cx="40644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81760" y="448164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23080" y="48639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/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4960" y="4486320"/>
              <a:ext cx="2101680" cy="1900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85360" y="4524120"/>
              <a:ext cx="275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pt-BR" sz="7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23000" y="4486320"/>
              <a:ext cx="1440" cy="18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32480" y="4486320"/>
              <a:ext cx="1800" cy="18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43760" y="4486320"/>
              <a:ext cx="1440" cy="18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46800" y="4486320"/>
              <a:ext cx="1800" cy="18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4960" y="4938480"/>
              <a:ext cx="2101680" cy="62352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23000" y="4938480"/>
              <a:ext cx="1440" cy="620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32480" y="4938480"/>
              <a:ext cx="1800" cy="620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43760" y="4991040"/>
              <a:ext cx="1440" cy="56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46800" y="4991040"/>
              <a:ext cx="1800" cy="56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84960" y="5622840"/>
              <a:ext cx="341280" cy="12816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59480" y="565632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Times New Roman"/>
                </a:rPr>
                <a:t>1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23000" y="5749920"/>
              <a:ext cx="612720" cy="12816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17320" y="5783040"/>
              <a:ext cx="39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Times New Roman"/>
                </a:rPr>
                <a:t>111111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32480" y="5875200"/>
              <a:ext cx="612720" cy="12816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6280" y="5910120"/>
              <a:ext cx="39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Times New Roman"/>
                </a:rPr>
                <a:t>111111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43760" y="6002280"/>
              <a:ext cx="338040" cy="1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08920" y="6035400"/>
              <a:ext cx="6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46800" y="6191280"/>
              <a:ext cx="339840" cy="12816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21680" y="622620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Times New Roman"/>
                </a:rPr>
                <a:t>11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481720" y="6316560"/>
              <a:ext cx="1969920" cy="6120"/>
              <a:chOff x="5481720" y="6316560"/>
              <a:chExt cx="1969920" cy="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39296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1844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24392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16904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09452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02000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4548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7060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9608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2156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4848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7396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99080" y="6316560"/>
                <a:ext cx="5904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42456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5004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552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200640" y="6316560"/>
                <a:ext cx="5904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612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05160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97708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902200" y="6316560"/>
                <a:ext cx="5904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2768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75316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7864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0376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529240" y="63165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7" y="4"/>
                    </a:move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81720" y="6316560"/>
                <a:ext cx="31680" cy="612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4"/>
                    </a:moveTo>
                    <a:lnTo>
                      <a:pt x="20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2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481720" y="5746680"/>
              <a:ext cx="7920" cy="572400"/>
              <a:chOff x="5481720" y="5746680"/>
              <a:chExt cx="7920" cy="572400"/>
            </a:xfrm>
          </p:grpSpPr>
          <p:sp>
            <p:nvSpPr>
              <p:cNvPr id="261" name=""/>
              <p:cNvSpPr/>
              <p:nvPr/>
            </p:nvSpPr>
            <p:spPr>
              <a:xfrm>
                <a:off x="5481720" y="574668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81720" y="5814720"/>
                <a:ext cx="7920" cy="5652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81720" y="5884560"/>
                <a:ext cx="7920" cy="5652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5" y="3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81720" y="595440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81720" y="6022440"/>
                <a:ext cx="7920" cy="5688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5" y="3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1720" y="6092280"/>
                <a:ext cx="7920" cy="5688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5" y="3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481720" y="6162120"/>
                <a:ext cx="7920" cy="5688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81720" y="62319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481720" y="630036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821200" y="5621400"/>
              <a:ext cx="1765440" cy="5760"/>
              <a:chOff x="5821200" y="5621400"/>
              <a:chExt cx="1765440" cy="5760"/>
            </a:xfrm>
          </p:grpSpPr>
          <p:sp>
            <p:nvSpPr>
              <p:cNvPr id="271" name=""/>
              <p:cNvSpPr/>
              <p:nvPr/>
            </p:nvSpPr>
            <p:spPr>
              <a:xfrm>
                <a:off x="5821200" y="5621400"/>
                <a:ext cx="59040" cy="576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840" y="5621400"/>
                <a:ext cx="61920" cy="576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967360" y="5621400"/>
                <a:ext cx="61920" cy="576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41880" y="5621400"/>
                <a:ext cx="61920" cy="576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16760" y="5621400"/>
                <a:ext cx="61920" cy="576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91280" y="5621400"/>
                <a:ext cx="61920" cy="576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265800" y="56214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340320" y="56214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15200" y="5621400"/>
                <a:ext cx="6012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89720" y="56214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64240" y="56214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38760" y="56214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13640" y="5621400"/>
                <a:ext cx="6012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788160" y="56214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862680" y="56214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37200" y="56214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012080" y="5621400"/>
                <a:ext cx="6012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086600" y="56214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61120" y="56214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1"/>
                    </a:lnTo>
                    <a:lnTo>
                      <a:pt x="3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234200" y="5621400"/>
                <a:ext cx="61920" cy="576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08720" y="5621400"/>
                <a:ext cx="61920" cy="576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83600" y="5621400"/>
                <a:ext cx="61920" cy="576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458120" y="5621400"/>
                <a:ext cx="61920" cy="576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32640" y="5621400"/>
                <a:ext cx="54000" cy="576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3" y="4"/>
                    </a:lnTo>
                    <a:lnTo>
                      <a:pt x="33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583400" y="5621400"/>
              <a:ext cx="6480" cy="572040"/>
              <a:chOff x="7583400" y="5621400"/>
              <a:chExt cx="6480" cy="572040"/>
            </a:xfrm>
          </p:grpSpPr>
          <p:sp>
            <p:nvSpPr>
              <p:cNvPr id="296" name=""/>
              <p:cNvSpPr/>
              <p:nvPr/>
            </p:nvSpPr>
            <p:spPr>
              <a:xfrm>
                <a:off x="7583400" y="5621400"/>
                <a:ext cx="6480" cy="5328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4" y="3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" y="34"/>
                    </a:lnTo>
                    <a:lnTo>
                      <a:pt x="2" y="34"/>
                    </a:lnTo>
                    <a:lnTo>
                      <a:pt x="4" y="3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83400" y="5687640"/>
                <a:ext cx="6480" cy="5652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3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4" y="3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583400" y="5757480"/>
                <a:ext cx="6480" cy="5688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3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4" y="3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83400" y="5827320"/>
                <a:ext cx="6480" cy="5688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3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4" y="34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83400" y="5897160"/>
                <a:ext cx="6480" cy="5688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4" y="3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583400" y="5965200"/>
                <a:ext cx="6480" cy="5688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3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4" y="3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583400" y="6035040"/>
                <a:ext cx="6480" cy="5688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3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4" y="3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83400" y="6104880"/>
                <a:ext cx="6480" cy="5688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3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4" y="3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583400" y="6175080"/>
                <a:ext cx="6480" cy="1836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2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4" y="1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7585200" y="4938480"/>
              <a:ext cx="612720" cy="62352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74280" y="51768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63080" y="5181480"/>
              <a:ext cx="203040" cy="1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32200" y="52149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63080" y="5875200"/>
              <a:ext cx="20304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32200" y="591012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66120" y="4991040"/>
              <a:ext cx="138240" cy="57096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66120" y="5622840"/>
              <a:ext cx="138240" cy="69660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45120" y="5118120"/>
              <a:ext cx="271440" cy="31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5063760" y="517104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r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45120" y="5622840"/>
              <a:ext cx="271440" cy="63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748400" y="5895360"/>
              <a:ext cx="92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commod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48160" y="5622840"/>
              <a:ext cx="68400" cy="694800"/>
            </a:xfrm>
            <a:custGeom>
              <a:avLst/>
              <a:gdLst/>
              <a:ahLst/>
              <a:rect l="l" t="t" r="r" b="b"/>
              <a:pathLst>
                <a:path w="43" h="438">
                  <a:moveTo>
                    <a:pt x="43" y="0"/>
                  </a:moveTo>
                  <a:lnTo>
                    <a:pt x="39" y="2"/>
                  </a:lnTo>
                  <a:lnTo>
                    <a:pt x="35" y="3"/>
                  </a:lnTo>
                  <a:lnTo>
                    <a:pt x="27" y="11"/>
                  </a:lnTo>
                  <a:lnTo>
                    <a:pt x="23" y="21"/>
                  </a:lnTo>
                  <a:lnTo>
                    <a:pt x="22" y="36"/>
                  </a:lnTo>
                  <a:lnTo>
                    <a:pt x="22" y="182"/>
                  </a:lnTo>
                  <a:lnTo>
                    <a:pt x="20" y="197"/>
                  </a:lnTo>
                  <a:lnTo>
                    <a:pt x="16" y="209"/>
                  </a:lnTo>
                  <a:lnTo>
                    <a:pt x="9" y="216"/>
                  </a:lnTo>
                  <a:lnTo>
                    <a:pt x="5" y="218"/>
                  </a:lnTo>
                  <a:lnTo>
                    <a:pt x="0" y="219"/>
                  </a:lnTo>
                  <a:lnTo>
                    <a:pt x="5" y="220"/>
                  </a:lnTo>
                  <a:lnTo>
                    <a:pt x="9" y="222"/>
                  </a:lnTo>
                  <a:lnTo>
                    <a:pt x="16" y="230"/>
                  </a:lnTo>
                  <a:lnTo>
                    <a:pt x="20" y="240"/>
                  </a:lnTo>
                  <a:lnTo>
                    <a:pt x="22" y="255"/>
                  </a:lnTo>
                  <a:lnTo>
                    <a:pt x="22" y="401"/>
                  </a:lnTo>
                  <a:lnTo>
                    <a:pt x="23" y="416"/>
                  </a:lnTo>
                  <a:lnTo>
                    <a:pt x="27" y="427"/>
                  </a:lnTo>
                  <a:lnTo>
                    <a:pt x="35" y="435"/>
                  </a:lnTo>
                  <a:lnTo>
                    <a:pt x="39" y="437"/>
                  </a:lnTo>
                  <a:lnTo>
                    <a:pt x="43" y="43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48160" y="4991040"/>
              <a:ext cx="68400" cy="568080"/>
            </a:xfrm>
            <a:custGeom>
              <a:avLst/>
              <a:gdLst/>
              <a:ahLst/>
              <a:rect l="l" t="t" r="r" b="b"/>
              <a:pathLst>
                <a:path w="43" h="358">
                  <a:moveTo>
                    <a:pt x="43" y="0"/>
                  </a:moveTo>
                  <a:lnTo>
                    <a:pt x="35" y="3"/>
                  </a:lnTo>
                  <a:lnTo>
                    <a:pt x="27" y="9"/>
                  </a:lnTo>
                  <a:lnTo>
                    <a:pt x="23" y="19"/>
                  </a:lnTo>
                  <a:lnTo>
                    <a:pt x="22" y="29"/>
                  </a:lnTo>
                  <a:lnTo>
                    <a:pt x="22" y="149"/>
                  </a:lnTo>
                  <a:lnTo>
                    <a:pt x="20" y="161"/>
                  </a:lnTo>
                  <a:lnTo>
                    <a:pt x="16" y="170"/>
                  </a:lnTo>
                  <a:lnTo>
                    <a:pt x="9" y="177"/>
                  </a:lnTo>
                  <a:lnTo>
                    <a:pt x="0" y="179"/>
                  </a:lnTo>
                  <a:lnTo>
                    <a:pt x="9" y="182"/>
                  </a:lnTo>
                  <a:lnTo>
                    <a:pt x="16" y="189"/>
                  </a:lnTo>
                  <a:lnTo>
                    <a:pt x="20" y="198"/>
                  </a:lnTo>
                  <a:lnTo>
                    <a:pt x="22" y="208"/>
                  </a:lnTo>
                  <a:lnTo>
                    <a:pt x="22" y="328"/>
                  </a:lnTo>
                  <a:lnTo>
                    <a:pt x="23" y="340"/>
                  </a:lnTo>
                  <a:lnTo>
                    <a:pt x="27" y="349"/>
                  </a:lnTo>
                  <a:lnTo>
                    <a:pt x="35" y="356"/>
                  </a:lnTo>
                  <a:lnTo>
                    <a:pt x="43" y="35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23000" y="4875120"/>
              <a:ext cx="609480" cy="63000"/>
            </a:xfrm>
            <a:custGeom>
              <a:avLst/>
              <a:gdLst/>
              <a:ahLst/>
              <a:rect l="l" t="t" r="r" b="b"/>
              <a:pathLst>
                <a:path w="384" h="40">
                  <a:moveTo>
                    <a:pt x="384" y="40"/>
                  </a:moveTo>
                  <a:lnTo>
                    <a:pt x="382" y="32"/>
                  </a:lnTo>
                  <a:lnTo>
                    <a:pt x="374" y="27"/>
                  </a:lnTo>
                  <a:lnTo>
                    <a:pt x="364" y="21"/>
                  </a:lnTo>
                  <a:lnTo>
                    <a:pt x="352" y="20"/>
                  </a:lnTo>
                  <a:lnTo>
                    <a:pt x="224" y="20"/>
                  </a:lnTo>
                  <a:lnTo>
                    <a:pt x="212" y="19"/>
                  </a:lnTo>
                  <a:lnTo>
                    <a:pt x="202" y="15"/>
                  </a:lnTo>
                  <a:lnTo>
                    <a:pt x="195" y="8"/>
                  </a:lnTo>
                  <a:lnTo>
                    <a:pt x="192" y="0"/>
                  </a:lnTo>
                  <a:lnTo>
                    <a:pt x="189" y="8"/>
                  </a:lnTo>
                  <a:lnTo>
                    <a:pt x="182" y="15"/>
                  </a:lnTo>
                  <a:lnTo>
                    <a:pt x="172" y="19"/>
                  </a:lnTo>
                  <a:lnTo>
                    <a:pt x="160" y="20"/>
                  </a:lnTo>
                  <a:lnTo>
                    <a:pt x="31" y="20"/>
                  </a:lnTo>
                  <a:lnTo>
                    <a:pt x="20" y="21"/>
                  </a:lnTo>
                  <a:lnTo>
                    <a:pt x="10" y="25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91040" y="4686120"/>
              <a:ext cx="474840" cy="1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65840" y="463392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at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85200" y="4875120"/>
              <a:ext cx="609480" cy="63000"/>
            </a:xfrm>
            <a:custGeom>
              <a:avLst/>
              <a:gdLst/>
              <a:ahLst/>
              <a:rect l="l" t="t" r="r" b="b"/>
              <a:pathLst>
                <a:path w="384" h="40">
                  <a:moveTo>
                    <a:pt x="384" y="40"/>
                  </a:moveTo>
                  <a:lnTo>
                    <a:pt x="381" y="32"/>
                  </a:lnTo>
                  <a:lnTo>
                    <a:pt x="374" y="27"/>
                  </a:lnTo>
                  <a:lnTo>
                    <a:pt x="364" y="21"/>
                  </a:lnTo>
                  <a:lnTo>
                    <a:pt x="351" y="20"/>
                  </a:lnTo>
                  <a:lnTo>
                    <a:pt x="223" y="20"/>
                  </a:lnTo>
                  <a:lnTo>
                    <a:pt x="212" y="19"/>
                  </a:lnTo>
                  <a:lnTo>
                    <a:pt x="202" y="15"/>
                  </a:lnTo>
                  <a:lnTo>
                    <a:pt x="195" y="8"/>
                  </a:lnTo>
                  <a:lnTo>
                    <a:pt x="192" y="0"/>
                  </a:lnTo>
                  <a:lnTo>
                    <a:pt x="189" y="8"/>
                  </a:lnTo>
                  <a:lnTo>
                    <a:pt x="182" y="15"/>
                  </a:lnTo>
                  <a:lnTo>
                    <a:pt x="172" y="19"/>
                  </a:lnTo>
                  <a:lnTo>
                    <a:pt x="159" y="20"/>
                  </a:lnTo>
                  <a:lnTo>
                    <a:pt x="31" y="20"/>
                  </a:lnTo>
                  <a:lnTo>
                    <a:pt x="20" y="21"/>
                  </a:lnTo>
                  <a:lnTo>
                    <a:pt x="10" y="25"/>
                  </a:lnTo>
                  <a:lnTo>
                    <a:pt x="3" y="32"/>
                  </a:lnTo>
                  <a:lnTo>
                    <a:pt x="0" y="4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53240" y="4686120"/>
              <a:ext cx="474840" cy="1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10760" y="4633920"/>
              <a:ext cx="49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la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7583400" y="5630760"/>
              <a:ext cx="614520" cy="6120"/>
              <a:chOff x="7583400" y="5630760"/>
              <a:chExt cx="614520" cy="6120"/>
            </a:xfrm>
          </p:grpSpPr>
          <p:sp>
            <p:nvSpPr>
              <p:cNvPr id="326" name=""/>
              <p:cNvSpPr/>
              <p:nvPr/>
            </p:nvSpPr>
            <p:spPr>
              <a:xfrm>
                <a:off x="7583400" y="5630760"/>
                <a:ext cx="58680" cy="61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55040" y="5630760"/>
                <a:ext cx="61920" cy="612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729560" y="5630760"/>
                <a:ext cx="60480" cy="612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804080" y="5630760"/>
                <a:ext cx="60480" cy="612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878600" y="5630760"/>
                <a:ext cx="60480" cy="612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53480" y="5630760"/>
                <a:ext cx="60120" cy="612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028000" y="5630760"/>
                <a:ext cx="60480" cy="612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102520" y="5630760"/>
                <a:ext cx="60480" cy="612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177040" y="5630760"/>
                <a:ext cx="2088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583400" y="6319800"/>
              <a:ext cx="614520" cy="5760"/>
              <a:chOff x="7583400" y="6319800"/>
              <a:chExt cx="614520" cy="5760"/>
            </a:xfrm>
          </p:grpSpPr>
          <p:sp>
            <p:nvSpPr>
              <p:cNvPr id="336" name=""/>
              <p:cNvSpPr/>
              <p:nvPr/>
            </p:nvSpPr>
            <p:spPr>
              <a:xfrm>
                <a:off x="7583400" y="6319800"/>
                <a:ext cx="58680" cy="576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55040" y="6319800"/>
                <a:ext cx="61920" cy="576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729560" y="63198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04080" y="63198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878600" y="63198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953480" y="6319800"/>
                <a:ext cx="6012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28000" y="63198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102520" y="6319800"/>
                <a:ext cx="60480" cy="576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77040" y="631980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8193240" y="5643360"/>
              <a:ext cx="6120" cy="680400"/>
              <a:chOff x="8193240" y="5643360"/>
              <a:chExt cx="6120" cy="680400"/>
            </a:xfrm>
          </p:grpSpPr>
          <p:sp>
            <p:nvSpPr>
              <p:cNvPr id="346" name=""/>
              <p:cNvSpPr/>
              <p:nvPr/>
            </p:nvSpPr>
            <p:spPr>
              <a:xfrm>
                <a:off x="8193240" y="6270120"/>
                <a:ext cx="6120" cy="5364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0" y="34"/>
                    </a:moveTo>
                    <a:lnTo>
                      <a:pt x="1" y="34"/>
                    </a:lnTo>
                    <a:lnTo>
                      <a:pt x="1" y="34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193240" y="6200280"/>
                <a:ext cx="6120" cy="5364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0" y="34"/>
                    </a:moveTo>
                    <a:lnTo>
                      <a:pt x="1" y="34"/>
                    </a:lnTo>
                    <a:lnTo>
                      <a:pt x="1" y="34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193240" y="6130440"/>
                <a:ext cx="6120" cy="5364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0" y="34"/>
                    </a:moveTo>
                    <a:lnTo>
                      <a:pt x="1" y="34"/>
                    </a:lnTo>
                    <a:lnTo>
                      <a:pt x="1" y="34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193240" y="6060600"/>
                <a:ext cx="6120" cy="55080"/>
              </a:xfrm>
              <a:custGeom>
                <a:avLst/>
                <a:gdLst/>
                <a:ahLst/>
                <a:rect l="l" t="t" r="r" b="b"/>
                <a:pathLst>
                  <a:path w="4" h="35">
                    <a:moveTo>
                      <a:pt x="0" y="35"/>
                    </a:moveTo>
                    <a:lnTo>
                      <a:pt x="1" y="35"/>
                    </a:lnTo>
                    <a:lnTo>
                      <a:pt x="1" y="35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193240" y="5990760"/>
                <a:ext cx="6120" cy="55080"/>
              </a:xfrm>
              <a:custGeom>
                <a:avLst/>
                <a:gdLst/>
                <a:ahLst/>
                <a:rect l="l" t="t" r="r" b="b"/>
                <a:pathLst>
                  <a:path w="4" h="35">
                    <a:moveTo>
                      <a:pt x="0" y="35"/>
                    </a:moveTo>
                    <a:lnTo>
                      <a:pt x="1" y="35"/>
                    </a:lnTo>
                    <a:lnTo>
                      <a:pt x="1" y="35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193240" y="5922360"/>
                <a:ext cx="6120" cy="5364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0" y="34"/>
                    </a:moveTo>
                    <a:lnTo>
                      <a:pt x="1" y="34"/>
                    </a:lnTo>
                    <a:lnTo>
                      <a:pt x="1" y="34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93240" y="5852520"/>
                <a:ext cx="6120" cy="53640"/>
              </a:xfrm>
              <a:custGeom>
                <a:avLst/>
                <a:gdLst/>
                <a:ahLst/>
                <a:rect l="l" t="t" r="r" b="b"/>
                <a:pathLst>
                  <a:path w="4" h="34">
                    <a:moveTo>
                      <a:pt x="0" y="34"/>
                    </a:moveTo>
                    <a:lnTo>
                      <a:pt x="1" y="34"/>
                    </a:lnTo>
                    <a:lnTo>
                      <a:pt x="1" y="34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193240" y="5782680"/>
                <a:ext cx="6120" cy="55440"/>
              </a:xfrm>
              <a:custGeom>
                <a:avLst/>
                <a:gdLst/>
                <a:ahLst/>
                <a:rect l="l" t="t" r="r" b="b"/>
                <a:pathLst>
                  <a:path w="4" h="35">
                    <a:moveTo>
                      <a:pt x="0" y="35"/>
                    </a:moveTo>
                    <a:lnTo>
                      <a:pt x="1" y="35"/>
                    </a:lnTo>
                    <a:lnTo>
                      <a:pt x="1" y="35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193240" y="5712840"/>
                <a:ext cx="6120" cy="55440"/>
              </a:xfrm>
              <a:custGeom>
                <a:avLst/>
                <a:gdLst/>
                <a:ahLst/>
                <a:rect l="l" t="t" r="r" b="b"/>
                <a:pathLst>
                  <a:path w="4" h="35">
                    <a:moveTo>
                      <a:pt x="0" y="35"/>
                    </a:moveTo>
                    <a:lnTo>
                      <a:pt x="1" y="35"/>
                    </a:lnTo>
                    <a:lnTo>
                      <a:pt x="1" y="35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193240" y="5643360"/>
                <a:ext cx="6120" cy="55440"/>
              </a:xfrm>
              <a:custGeom>
                <a:avLst/>
                <a:gdLst/>
                <a:ahLst/>
                <a:rect l="l" t="t" r="r" b="b"/>
                <a:pathLst>
                  <a:path w="4" h="35">
                    <a:moveTo>
                      <a:pt x="0" y="35"/>
                    </a:moveTo>
                    <a:lnTo>
                      <a:pt x="1" y="35"/>
                    </a:lnTo>
                    <a:lnTo>
                      <a:pt x="1" y="35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040520" y="4937040"/>
              <a:ext cx="209520" cy="637560"/>
              <a:chOff x="7040520" y="4937040"/>
              <a:chExt cx="209520" cy="637560"/>
            </a:xfrm>
          </p:grpSpPr>
          <p:sp>
            <p:nvSpPr>
              <p:cNvPr id="357" name=""/>
              <p:cNvSpPr/>
              <p:nvPr/>
            </p:nvSpPr>
            <p:spPr>
              <a:xfrm>
                <a:off x="7043760" y="4938120"/>
                <a:ext cx="203040" cy="63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040520" y="4937040"/>
                <a:ext cx="9720" cy="266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4" y="1"/>
                    </a:moveTo>
                    <a:lnTo>
                      <a:pt x="2" y="1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7"/>
                    </a:lnTo>
                    <a:lnTo>
                      <a:pt x="4" y="17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040520" y="4982760"/>
                <a:ext cx="648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40520" y="5027040"/>
                <a:ext cx="648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40520" y="5071680"/>
                <a:ext cx="648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40520" y="5114520"/>
                <a:ext cx="648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40520" y="5158800"/>
                <a:ext cx="648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040520" y="5203440"/>
                <a:ext cx="648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040520" y="5247720"/>
                <a:ext cx="648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040520" y="5292360"/>
                <a:ext cx="648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040520" y="5336640"/>
                <a:ext cx="648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40520" y="5381280"/>
                <a:ext cx="648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040520" y="5424120"/>
                <a:ext cx="648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40520" y="5468400"/>
                <a:ext cx="648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40520" y="5513040"/>
                <a:ext cx="648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40520" y="55573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10" y="11"/>
                    </a:lnTo>
                    <a:lnTo>
                      <a:pt x="10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77240" y="5568480"/>
                <a:ext cx="270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124760" y="5568480"/>
                <a:ext cx="270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172280" y="5568480"/>
                <a:ext cx="270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219800" y="5568480"/>
                <a:ext cx="270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243920" y="5525640"/>
                <a:ext cx="61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243920" y="5481000"/>
                <a:ext cx="612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243920" y="5436720"/>
                <a:ext cx="612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243920" y="5393880"/>
                <a:ext cx="612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243920" y="5349240"/>
                <a:ext cx="612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243920" y="5304960"/>
                <a:ext cx="612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243920" y="5260680"/>
                <a:ext cx="61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243920" y="5216040"/>
                <a:ext cx="612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43920" y="5171760"/>
                <a:ext cx="61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43920" y="5127120"/>
                <a:ext cx="612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243920" y="5082840"/>
                <a:ext cx="61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43920" y="5040000"/>
                <a:ext cx="61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243920" y="4995360"/>
                <a:ext cx="612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43920" y="4951080"/>
                <a:ext cx="61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11880" y="4937040"/>
                <a:ext cx="270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64360" y="4937040"/>
                <a:ext cx="270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16840" y="4937040"/>
                <a:ext cx="2844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070760" y="4937040"/>
                <a:ext cx="270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3124080" y="1908000"/>
            <a:ext cx="3124440" cy="1801080"/>
            <a:chOff x="3124080" y="1908000"/>
            <a:chExt cx="3124440" cy="1801080"/>
          </a:xfrm>
        </p:grpSpPr>
        <p:sp>
          <p:nvSpPr>
            <p:cNvPr id="396" name=""/>
            <p:cNvSpPr/>
            <p:nvPr/>
          </p:nvSpPr>
          <p:spPr>
            <a:xfrm>
              <a:off x="5106240" y="3303720"/>
              <a:ext cx="120960" cy="120600"/>
            </a:xfrm>
            <a:prstGeom prst="ellipse">
              <a:avLst/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49600" y="2831400"/>
              <a:ext cx="119520" cy="11952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31280" y="2275200"/>
              <a:ext cx="118080" cy="122040"/>
            </a:xfrm>
            <a:prstGeom prst="ellipse">
              <a:avLst/>
            </a:prstGeom>
            <a:solidFill>
              <a:srgbClr val="67c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31280" y="3313440"/>
              <a:ext cx="118080" cy="120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37200" y="2275200"/>
              <a:ext cx="11952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84760" y="2824200"/>
              <a:ext cx="119880" cy="1195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079160" y="23976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184720" y="23976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646080" y="2372400"/>
              <a:ext cx="408600" cy="45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46080" y="2927520"/>
              <a:ext cx="385200" cy="43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49720" y="3386520"/>
              <a:ext cx="96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49720" y="2324880"/>
              <a:ext cx="98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57080" y="2372760"/>
              <a:ext cx="433080" cy="48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234040" y="2927160"/>
              <a:ext cx="456120" cy="43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26680" y="2372760"/>
              <a:ext cx="1010160" cy="96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4142160" y="2387520"/>
              <a:ext cx="1011600" cy="96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24080" y="2914200"/>
              <a:ext cx="40212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280840" y="1986840"/>
              <a:ext cx="248760" cy="245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5311080" y="3522600"/>
              <a:ext cx="308880" cy="186480"/>
            </a:xfrm>
            <a:prstGeom prst="line">
              <a:avLst/>
            </a:prstGeom>
            <a:ln w="38160">
              <a:solidFill>
                <a:srgbClr val="67c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07960" y="2618280"/>
              <a:ext cx="163440" cy="18504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86000" y="2618280"/>
              <a:ext cx="163440" cy="18612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74880" y="3328560"/>
              <a:ext cx="115920" cy="21816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90240" y="1967040"/>
              <a:ext cx="115920" cy="21816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79560" y="3346920"/>
              <a:ext cx="154440" cy="17532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83640" y="1908000"/>
              <a:ext cx="154440" cy="17532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46400" y="2914200"/>
              <a:ext cx="40212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3706560" y="2051280"/>
              <a:ext cx="308880" cy="186480"/>
            </a:xfrm>
            <a:prstGeom prst="line">
              <a:avLst/>
            </a:prstGeom>
            <a:ln w="38160">
              <a:solidFill>
                <a:srgbClr val="67c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747960" y="3439080"/>
              <a:ext cx="248400" cy="245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62120" y="4191120"/>
            <a:ext cx="3806640" cy="2527920"/>
            <a:chOff x="762120" y="4191120"/>
            <a:chExt cx="3806640" cy="2527920"/>
          </a:xfrm>
        </p:grpSpPr>
        <p:sp>
          <p:nvSpPr>
            <p:cNvPr id="425" name=""/>
            <p:cNvSpPr/>
            <p:nvPr/>
          </p:nvSpPr>
          <p:spPr>
            <a:xfrm>
              <a:off x="3675240" y="6472080"/>
              <a:ext cx="48564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6160" y="6505560"/>
              <a:ext cx="43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slac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5200" y="4581360"/>
              <a:ext cx="3254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947880" y="477684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780840" y="4596480"/>
              <a:ext cx="41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n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5200" y="6045120"/>
              <a:ext cx="3254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96320" y="612360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r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41280" y="4336920"/>
              <a:ext cx="2435400" cy="1234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79880" y="5252760"/>
              <a:ext cx="2430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60880" y="528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79880" y="6107040"/>
              <a:ext cx="2430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60880" y="6138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03880" y="4581360"/>
              <a:ext cx="164880" cy="14666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03880" y="6045120"/>
              <a:ext cx="164880" cy="3074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41280" y="4581360"/>
              <a:ext cx="408240" cy="2458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46280" y="4824360"/>
              <a:ext cx="407880" cy="2455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2720" y="5068800"/>
              <a:ext cx="407880" cy="2455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57360" y="5313240"/>
              <a:ext cx="408240" cy="2458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68800" y="5802120"/>
              <a:ext cx="407880" cy="2458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68800" y="6045120"/>
              <a:ext cx="407880" cy="3074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5232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57360" y="6045120"/>
              <a:ext cx="408240" cy="3074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4124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52720" y="6045120"/>
              <a:ext cx="407880" cy="3074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3480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46280" y="6045120"/>
              <a:ext cx="407880" cy="3074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3016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41280" y="6045120"/>
              <a:ext cx="408240" cy="3074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2516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1238400" y="4822560"/>
              <a:ext cx="7920" cy="1225080"/>
              <a:chOff x="1238400" y="4822560"/>
              <a:chExt cx="7920" cy="1225080"/>
            </a:xfrm>
          </p:grpSpPr>
          <p:sp>
            <p:nvSpPr>
              <p:cNvPr id="455" name=""/>
              <p:cNvSpPr/>
              <p:nvPr/>
            </p:nvSpPr>
            <p:spPr>
              <a:xfrm>
                <a:off x="1238400" y="482256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5" y="32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38400" y="48873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238400" y="49539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38400" y="502236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238400" y="50889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238400" y="51555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238400" y="522396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38400" y="529056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238400" y="53575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38400" y="54241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38400" y="549216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238400" y="55591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238400" y="56257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38400" y="569376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38400" y="576072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238400" y="58273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238400" y="58939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238400" y="596232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238400" y="602892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1644480" y="4578120"/>
              <a:ext cx="2032200" cy="6120"/>
              <a:chOff x="1644480" y="4578120"/>
              <a:chExt cx="2032200" cy="6120"/>
            </a:xfrm>
          </p:grpSpPr>
          <p:sp>
            <p:nvSpPr>
              <p:cNvPr id="475" name=""/>
              <p:cNvSpPr/>
              <p:nvPr/>
            </p:nvSpPr>
            <p:spPr>
              <a:xfrm>
                <a:off x="1644480" y="4578120"/>
                <a:ext cx="7020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40" y="4"/>
                    </a:lnTo>
                    <a:lnTo>
                      <a:pt x="42" y="4"/>
                    </a:lnTo>
                    <a:lnTo>
                      <a:pt x="44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730520" y="4578120"/>
                <a:ext cx="7272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819440" y="4578120"/>
                <a:ext cx="7272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90800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99872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08764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17656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26548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54400" y="4578120"/>
                <a:ext cx="7272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44476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3368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62260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71152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80044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89080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7972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6864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5756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24648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33684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42576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1468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0360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672000" y="4578120"/>
              <a:ext cx="7920" cy="1225080"/>
              <a:chOff x="3672000" y="4578120"/>
              <a:chExt cx="7920" cy="1225080"/>
            </a:xfrm>
          </p:grpSpPr>
          <p:sp>
            <p:nvSpPr>
              <p:cNvPr id="499" name=""/>
              <p:cNvSpPr/>
              <p:nvPr/>
            </p:nvSpPr>
            <p:spPr>
              <a:xfrm>
                <a:off x="3672000" y="574956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672000" y="56826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672000" y="56160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72000" y="55494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72000" y="54810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72000" y="54144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672000" y="53478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672000" y="52794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672000" y="52128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72000" y="51462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72000" y="50796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672000" y="50112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672000" y="49446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72000" y="48780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72000" y="48096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72000" y="47430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72000" y="46764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72000" y="46098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672000" y="45781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2" y="11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3675240" y="6045120"/>
              <a:ext cx="407880" cy="3074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5732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076640" y="4584600"/>
              <a:ext cx="7920" cy="1463040"/>
              <a:chOff x="4076640" y="4584600"/>
              <a:chExt cx="7920" cy="1463040"/>
            </a:xfrm>
          </p:grpSpPr>
          <p:sp>
            <p:nvSpPr>
              <p:cNvPr id="521" name=""/>
              <p:cNvSpPr/>
              <p:nvPr/>
            </p:nvSpPr>
            <p:spPr>
              <a:xfrm>
                <a:off x="4076640" y="59940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076640" y="59274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76640" y="58604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076640" y="57924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76640" y="57258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76640" y="56588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076640" y="55922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76640" y="5524200"/>
                <a:ext cx="7920" cy="5328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076640" y="54572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76640" y="53906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076640" y="532224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76640" y="52556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076640" y="51890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076640" y="512064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076640" y="505404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76640" y="49874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76640" y="492084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076640" y="485244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076640" y="47858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076640" y="471924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76640" y="465084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076640" y="45846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3672000" y="4578120"/>
              <a:ext cx="411120" cy="6120"/>
              <a:chOff x="3672000" y="4578120"/>
              <a:chExt cx="411120" cy="6120"/>
            </a:xfrm>
          </p:grpSpPr>
          <p:sp>
            <p:nvSpPr>
              <p:cNvPr id="544" name=""/>
              <p:cNvSpPr/>
              <p:nvPr/>
            </p:nvSpPr>
            <p:spPr>
              <a:xfrm>
                <a:off x="4011480" y="457812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45" y="4"/>
                    </a:moveTo>
                    <a:lnTo>
                      <a:pt x="45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922560" y="457812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45" y="4"/>
                    </a:moveTo>
                    <a:lnTo>
                      <a:pt x="45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833640" y="4578120"/>
                <a:ext cx="7020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44" y="4"/>
                    </a:moveTo>
                    <a:lnTo>
                      <a:pt x="44" y="2"/>
                    </a:lnTo>
                    <a:lnTo>
                      <a:pt x="44" y="2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45080" y="457812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44" y="4"/>
                    </a:moveTo>
                    <a:lnTo>
                      <a:pt x="44" y="2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672000" y="457812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34" y="4"/>
                    </a:moveTo>
                    <a:lnTo>
                      <a:pt x="34" y="2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2863800" y="6048360"/>
              <a:ext cx="407880" cy="3060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45160" y="6180120"/>
              <a:ext cx="15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- - 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52720" y="6045120"/>
              <a:ext cx="407880" cy="3074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3480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1646280" y="4336560"/>
              <a:ext cx="1440" cy="12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052720" y="4336560"/>
              <a:ext cx="1440" cy="12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457360" y="4336560"/>
              <a:ext cx="1800" cy="12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863800" y="4336560"/>
              <a:ext cx="1800" cy="12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3268800" y="4336560"/>
              <a:ext cx="1440" cy="12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41280" y="4336920"/>
              <a:ext cx="2435400" cy="12348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79880" y="5252760"/>
              <a:ext cx="2430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60880" y="528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79880" y="6107040"/>
              <a:ext cx="2430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60880" y="6138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03880" y="4581360"/>
              <a:ext cx="164880" cy="146664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03880" y="6045120"/>
              <a:ext cx="164880" cy="30744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41280" y="4581360"/>
              <a:ext cx="408240" cy="24588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325160" y="4614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38200" y="46767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646280" y="4824360"/>
              <a:ext cx="407880" cy="24552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67960" y="4859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81000" y="492120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52720" y="5068800"/>
              <a:ext cx="407880" cy="24552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172960" y="51037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87080" y="516420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57360" y="5313240"/>
              <a:ext cx="408240" cy="24588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79760" y="53481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92080" y="540864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68800" y="5802120"/>
              <a:ext cx="407880" cy="24588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87240" y="5835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01720" y="58975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68800" y="6045120"/>
              <a:ext cx="407880" cy="30744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5232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57360" y="6045120"/>
              <a:ext cx="408240" cy="30744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4124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52720" y="6045120"/>
              <a:ext cx="407880" cy="3074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13480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46280" y="6045120"/>
              <a:ext cx="407880" cy="30744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3016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41280" y="6045120"/>
              <a:ext cx="408240" cy="30744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2516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1238400" y="4822560"/>
              <a:ext cx="7920" cy="1225080"/>
              <a:chOff x="1238400" y="4822560"/>
              <a:chExt cx="7920" cy="1225080"/>
            </a:xfrm>
          </p:grpSpPr>
          <p:sp>
            <p:nvSpPr>
              <p:cNvPr id="591" name=""/>
              <p:cNvSpPr/>
              <p:nvPr/>
            </p:nvSpPr>
            <p:spPr>
              <a:xfrm>
                <a:off x="1238400" y="482256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3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5" y="32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38400" y="48873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238400" y="49539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38400" y="502236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38400" y="50889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238400" y="5155560"/>
                <a:ext cx="7920" cy="5544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238400" y="522396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38400" y="529056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238400" y="53575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238400" y="54241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238400" y="549216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238400" y="55591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238400" y="56257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238400" y="569376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38400" y="576072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238400" y="58273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238400" y="58939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5" y="3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238400" y="596232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2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238400" y="6028920"/>
                <a:ext cx="7920" cy="1872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1644480" y="4578120"/>
              <a:ext cx="2032200" cy="6120"/>
              <a:chOff x="1644480" y="4578120"/>
              <a:chExt cx="2032200" cy="6120"/>
            </a:xfrm>
          </p:grpSpPr>
          <p:sp>
            <p:nvSpPr>
              <p:cNvPr id="611" name=""/>
              <p:cNvSpPr/>
              <p:nvPr/>
            </p:nvSpPr>
            <p:spPr>
              <a:xfrm>
                <a:off x="1644480" y="4578120"/>
                <a:ext cx="7020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40" y="4"/>
                    </a:lnTo>
                    <a:lnTo>
                      <a:pt x="42" y="4"/>
                    </a:lnTo>
                    <a:lnTo>
                      <a:pt x="44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730520" y="4578120"/>
                <a:ext cx="7272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19440" y="4578120"/>
                <a:ext cx="7272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90800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99872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08764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7656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26548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354400" y="4578120"/>
                <a:ext cx="7272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4476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53368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62260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1152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0044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89080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97972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06864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15756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24648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33684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2576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51468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03600" y="4578120"/>
                <a:ext cx="73080" cy="6120"/>
              </a:xfrm>
              <a:custGeom>
                <a:avLst/>
                <a:gdLst/>
                <a:ahLst/>
                <a:rect l="l" t="t" r="r" b="b"/>
                <a:pathLst>
                  <a:path w="46" h="4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3672000" y="4578120"/>
              <a:ext cx="7920" cy="1225080"/>
              <a:chOff x="3672000" y="4578120"/>
              <a:chExt cx="7920" cy="1225080"/>
            </a:xfrm>
          </p:grpSpPr>
          <p:sp>
            <p:nvSpPr>
              <p:cNvPr id="635" name=""/>
              <p:cNvSpPr/>
              <p:nvPr/>
            </p:nvSpPr>
            <p:spPr>
              <a:xfrm>
                <a:off x="3672000" y="574956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72000" y="56826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672000" y="56160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672000" y="55494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672000" y="54810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672000" y="54144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672000" y="53478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672000" y="52794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72000" y="52128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672000" y="514620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672000" y="50796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72000" y="50112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672000" y="49446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672000" y="48780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672000" y="48096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72000" y="47430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672000" y="46764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672000" y="46098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672000" y="45781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2" y="11"/>
                    </a:lnTo>
                    <a:lnTo>
                      <a:pt x="2" y="11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3675240" y="6045120"/>
              <a:ext cx="407880" cy="30744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5732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4076640" y="4584600"/>
              <a:ext cx="7920" cy="1463040"/>
              <a:chOff x="4076640" y="4584600"/>
              <a:chExt cx="7920" cy="1463040"/>
            </a:xfrm>
          </p:grpSpPr>
          <p:sp>
            <p:nvSpPr>
              <p:cNvPr id="657" name=""/>
              <p:cNvSpPr/>
              <p:nvPr/>
            </p:nvSpPr>
            <p:spPr>
              <a:xfrm>
                <a:off x="4076640" y="59940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076640" y="59274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076640" y="58604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076640" y="57924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76640" y="572580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76640" y="56588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076640" y="55922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076640" y="5524200"/>
                <a:ext cx="7920" cy="5328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076640" y="54572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076640" y="53906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076640" y="532224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076640" y="52556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076640" y="51890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076640" y="512064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076640" y="505404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076640" y="49874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76640" y="492084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076640" y="485244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076640" y="4785840"/>
                <a:ext cx="7920" cy="5220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076640" y="4719240"/>
                <a:ext cx="7920" cy="518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0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076640" y="465084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076640" y="45846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0" y="34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3672000" y="4578120"/>
              <a:ext cx="411120" cy="6120"/>
              <a:chOff x="3672000" y="4578120"/>
              <a:chExt cx="411120" cy="6120"/>
            </a:xfrm>
          </p:grpSpPr>
          <p:sp>
            <p:nvSpPr>
              <p:cNvPr id="680" name=""/>
              <p:cNvSpPr/>
              <p:nvPr/>
            </p:nvSpPr>
            <p:spPr>
              <a:xfrm>
                <a:off x="4011480" y="457812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45" y="4"/>
                    </a:moveTo>
                    <a:lnTo>
                      <a:pt x="45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922560" y="4578120"/>
                <a:ext cx="71640" cy="6120"/>
              </a:xfrm>
              <a:custGeom>
                <a:avLst/>
                <a:gdLst/>
                <a:ahLst/>
                <a:rect l="l" t="t" r="r" b="b"/>
                <a:pathLst>
                  <a:path w="45" h="4">
                    <a:moveTo>
                      <a:pt x="45" y="4"/>
                    </a:moveTo>
                    <a:lnTo>
                      <a:pt x="45" y="2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833640" y="4578120"/>
                <a:ext cx="7020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44" y="4"/>
                    </a:moveTo>
                    <a:lnTo>
                      <a:pt x="44" y="2"/>
                    </a:lnTo>
                    <a:lnTo>
                      <a:pt x="44" y="2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745080" y="457812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44" y="4"/>
                    </a:moveTo>
                    <a:lnTo>
                      <a:pt x="44" y="2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672000" y="457812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34" h="4">
                    <a:moveTo>
                      <a:pt x="34" y="4"/>
                    </a:moveTo>
                    <a:lnTo>
                      <a:pt x="34" y="2"/>
                    </a:lnTo>
                    <a:lnTo>
                      <a:pt x="34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2863800" y="6048360"/>
              <a:ext cx="407880" cy="3060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45160" y="6180120"/>
              <a:ext cx="15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- - 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052720" y="6045120"/>
              <a:ext cx="407880" cy="307440"/>
            </a:xfrm>
            <a:prstGeom prst="rect">
              <a:avLst/>
            </a:prstGeom>
            <a:solidFill>
              <a:srgbClr val="c0c0c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34800" y="61783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1646280" y="4336560"/>
              <a:ext cx="1440" cy="12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052720" y="4336560"/>
              <a:ext cx="1440" cy="12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457360" y="4336560"/>
              <a:ext cx="1800" cy="12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2863800" y="4336560"/>
              <a:ext cx="1800" cy="12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268800" y="4336560"/>
              <a:ext cx="1440" cy="122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79640" y="4581360"/>
              <a:ext cx="81000" cy="242640"/>
            </a:xfrm>
            <a:custGeom>
              <a:avLst/>
              <a:gdLst/>
              <a:ahLst/>
              <a:rect l="l" t="t" r="r" b="b"/>
              <a:pathLst>
                <a:path w="51" h="153">
                  <a:moveTo>
                    <a:pt x="51" y="0"/>
                  </a:moveTo>
                  <a:lnTo>
                    <a:pt x="40" y="1"/>
                  </a:lnTo>
                  <a:lnTo>
                    <a:pt x="32" y="3"/>
                  </a:lnTo>
                  <a:lnTo>
                    <a:pt x="27" y="7"/>
                  </a:lnTo>
                  <a:lnTo>
                    <a:pt x="25" y="12"/>
                  </a:lnTo>
                  <a:lnTo>
                    <a:pt x="25" y="64"/>
                  </a:lnTo>
                  <a:lnTo>
                    <a:pt x="23" y="69"/>
                  </a:lnTo>
                  <a:lnTo>
                    <a:pt x="18" y="73"/>
                  </a:lnTo>
                  <a:lnTo>
                    <a:pt x="10" y="75"/>
                  </a:lnTo>
                  <a:lnTo>
                    <a:pt x="0" y="77"/>
                  </a:lnTo>
                  <a:lnTo>
                    <a:pt x="10" y="78"/>
                  </a:lnTo>
                  <a:lnTo>
                    <a:pt x="18" y="80"/>
                  </a:lnTo>
                  <a:lnTo>
                    <a:pt x="23" y="84"/>
                  </a:lnTo>
                  <a:lnTo>
                    <a:pt x="25" y="89"/>
                  </a:lnTo>
                  <a:lnTo>
                    <a:pt x="25" y="141"/>
                  </a:lnTo>
                  <a:lnTo>
                    <a:pt x="27" y="146"/>
                  </a:lnTo>
                  <a:lnTo>
                    <a:pt x="32" y="150"/>
                  </a:lnTo>
                  <a:lnTo>
                    <a:pt x="40" y="152"/>
                  </a:lnTo>
                  <a:lnTo>
                    <a:pt x="51" y="15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79640" y="6045120"/>
              <a:ext cx="81000" cy="304560"/>
            </a:xfrm>
            <a:custGeom>
              <a:avLst/>
              <a:gdLst/>
              <a:ahLst/>
              <a:rect l="l" t="t" r="r" b="b"/>
              <a:pathLst>
                <a:path w="51" h="192">
                  <a:moveTo>
                    <a:pt x="51" y="0"/>
                  </a:moveTo>
                  <a:lnTo>
                    <a:pt x="40" y="2"/>
                  </a:lnTo>
                  <a:lnTo>
                    <a:pt x="32" y="5"/>
                  </a:lnTo>
                  <a:lnTo>
                    <a:pt x="27" y="11"/>
                  </a:lnTo>
                  <a:lnTo>
                    <a:pt x="25" y="17"/>
                  </a:lnTo>
                  <a:lnTo>
                    <a:pt x="25" y="81"/>
                  </a:lnTo>
                  <a:lnTo>
                    <a:pt x="23" y="87"/>
                  </a:lnTo>
                  <a:lnTo>
                    <a:pt x="18" y="93"/>
                  </a:lnTo>
                  <a:lnTo>
                    <a:pt x="10" y="95"/>
                  </a:lnTo>
                  <a:lnTo>
                    <a:pt x="0" y="96"/>
                  </a:lnTo>
                  <a:lnTo>
                    <a:pt x="10" y="98"/>
                  </a:lnTo>
                  <a:lnTo>
                    <a:pt x="18" y="102"/>
                  </a:lnTo>
                  <a:lnTo>
                    <a:pt x="23" y="107"/>
                  </a:lnTo>
                  <a:lnTo>
                    <a:pt x="25" y="113"/>
                  </a:lnTo>
                  <a:lnTo>
                    <a:pt x="25" y="177"/>
                  </a:lnTo>
                  <a:lnTo>
                    <a:pt x="27" y="184"/>
                  </a:lnTo>
                  <a:lnTo>
                    <a:pt x="32" y="189"/>
                  </a:lnTo>
                  <a:lnTo>
                    <a:pt x="40" y="191"/>
                  </a:lnTo>
                  <a:lnTo>
                    <a:pt x="51" y="19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75240" y="6411960"/>
              <a:ext cx="404640" cy="59760"/>
            </a:xfrm>
            <a:custGeom>
              <a:avLst/>
              <a:gdLst/>
              <a:ahLst/>
              <a:rect l="l" t="t" r="r" b="b"/>
              <a:pathLst>
                <a:path w="255" h="38">
                  <a:moveTo>
                    <a:pt x="0" y="0"/>
                  </a:moveTo>
                  <a:lnTo>
                    <a:pt x="1" y="8"/>
                  </a:lnTo>
                  <a:lnTo>
                    <a:pt x="5" y="14"/>
                  </a:lnTo>
                  <a:lnTo>
                    <a:pt x="11" y="18"/>
                  </a:lnTo>
                  <a:lnTo>
                    <a:pt x="20" y="19"/>
                  </a:lnTo>
                  <a:lnTo>
                    <a:pt x="105" y="19"/>
                  </a:lnTo>
                  <a:lnTo>
                    <a:pt x="114" y="20"/>
                  </a:lnTo>
                  <a:lnTo>
                    <a:pt x="120" y="26"/>
                  </a:lnTo>
                  <a:lnTo>
                    <a:pt x="126" y="31"/>
                  </a:lnTo>
                  <a:lnTo>
                    <a:pt x="127" y="38"/>
                  </a:lnTo>
                  <a:lnTo>
                    <a:pt x="129" y="31"/>
                  </a:lnTo>
                  <a:lnTo>
                    <a:pt x="132" y="26"/>
                  </a:lnTo>
                  <a:lnTo>
                    <a:pt x="139" y="20"/>
                  </a:lnTo>
                  <a:lnTo>
                    <a:pt x="148" y="19"/>
                  </a:lnTo>
                  <a:lnTo>
                    <a:pt x="233" y="19"/>
                  </a:lnTo>
                  <a:lnTo>
                    <a:pt x="241" y="18"/>
                  </a:lnTo>
                  <a:lnTo>
                    <a:pt x="248" y="14"/>
                  </a:lnTo>
                  <a:lnTo>
                    <a:pt x="253" y="8"/>
                  </a:lnTo>
                  <a:lnTo>
                    <a:pt x="25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63800" y="5618160"/>
              <a:ext cx="405000" cy="18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62800" y="5651280"/>
              <a:ext cx="15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</a:rPr>
                <a:t>- - 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52720" y="6411960"/>
              <a:ext cx="404640" cy="59760"/>
            </a:xfrm>
            <a:custGeom>
              <a:avLst/>
              <a:gdLst/>
              <a:ahLst/>
              <a:rect l="l" t="t" r="r" b="b"/>
              <a:pathLst>
                <a:path w="255" h="38">
                  <a:moveTo>
                    <a:pt x="0" y="0"/>
                  </a:moveTo>
                  <a:lnTo>
                    <a:pt x="1" y="8"/>
                  </a:lnTo>
                  <a:lnTo>
                    <a:pt x="5" y="14"/>
                  </a:lnTo>
                  <a:lnTo>
                    <a:pt x="12" y="18"/>
                  </a:lnTo>
                  <a:lnTo>
                    <a:pt x="20" y="19"/>
                  </a:lnTo>
                  <a:lnTo>
                    <a:pt x="105" y="19"/>
                  </a:lnTo>
                  <a:lnTo>
                    <a:pt x="114" y="20"/>
                  </a:lnTo>
                  <a:lnTo>
                    <a:pt x="121" y="26"/>
                  </a:lnTo>
                  <a:lnTo>
                    <a:pt x="126" y="31"/>
                  </a:lnTo>
                  <a:lnTo>
                    <a:pt x="127" y="38"/>
                  </a:lnTo>
                  <a:lnTo>
                    <a:pt x="129" y="31"/>
                  </a:lnTo>
                  <a:lnTo>
                    <a:pt x="133" y="26"/>
                  </a:lnTo>
                  <a:lnTo>
                    <a:pt x="139" y="20"/>
                  </a:lnTo>
                  <a:lnTo>
                    <a:pt x="148" y="19"/>
                  </a:lnTo>
                  <a:lnTo>
                    <a:pt x="233" y="19"/>
                  </a:lnTo>
                  <a:lnTo>
                    <a:pt x="242" y="18"/>
                  </a:lnTo>
                  <a:lnTo>
                    <a:pt x="248" y="14"/>
                  </a:lnTo>
                  <a:lnTo>
                    <a:pt x="253" y="8"/>
                  </a:lnTo>
                  <a:lnTo>
                    <a:pt x="25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52720" y="6472080"/>
              <a:ext cx="40464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58120" y="644688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r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62120" y="41911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 flipH="1">
            <a:off x="2209680" y="3127320"/>
            <a:ext cx="13716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29400" y="2898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c-Path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914400" y="2898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ode-Arc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08800" y="3160800"/>
            <a:ext cx="1344960" cy="107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ptimal S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715000" y="1600200"/>
            <a:ext cx="304920" cy="3049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5" name=""/>
          <p:cNvGrpSpPr/>
          <p:nvPr/>
        </p:nvGrpSpPr>
        <p:grpSpPr>
          <a:xfrm>
            <a:off x="1371600" y="1904760"/>
            <a:ext cx="6858000" cy="4573440"/>
            <a:chOff x="1371600" y="1904760"/>
            <a:chExt cx="6858000" cy="4573440"/>
          </a:xfrm>
        </p:grpSpPr>
        <p:sp>
          <p:nvSpPr>
            <p:cNvPr id="2626" name=""/>
            <p:cNvSpPr/>
            <p:nvPr/>
          </p:nvSpPr>
          <p:spPr>
            <a:xfrm>
              <a:off x="1976400" y="3135240"/>
              <a:ext cx="23832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928960" y="2165400"/>
              <a:ext cx="236520" cy="21276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928960" y="3978360"/>
              <a:ext cx="236520" cy="210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029200" y="3962520"/>
              <a:ext cx="237960" cy="210960"/>
            </a:xfrm>
            <a:prstGeom prst="ellipse">
              <a:avLst/>
            </a:prstGeom>
            <a:solidFill>
              <a:srgbClr val="01d7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114880" y="2165400"/>
              <a:ext cx="238320" cy="212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6162840" y="3135240"/>
              <a:ext cx="237960" cy="2095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V="1">
              <a:off x="3048120" y="2400120"/>
              <a:ext cx="0" cy="160020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V="1">
              <a:off x="5210280" y="2377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V="1">
              <a:off x="2166840" y="2335320"/>
              <a:ext cx="808200" cy="79992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166840" y="3303720"/>
              <a:ext cx="762120" cy="75852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165480" y="4067280"/>
              <a:ext cx="1901880" cy="0"/>
            </a:xfrm>
            <a:prstGeom prst="line">
              <a:avLst/>
            </a:prstGeom>
            <a:ln w="5724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184560" y="2266920"/>
              <a:ext cx="1949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117960" y="2335320"/>
              <a:ext cx="1996920" cy="1684080"/>
            </a:xfrm>
            <a:prstGeom prst="line">
              <a:avLst/>
            </a:prstGeom>
            <a:ln w="76320">
              <a:solidFill>
                <a:srgbClr val="01c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V="1">
              <a:off x="3165480" y="2335320"/>
              <a:ext cx="1998720" cy="1684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920320" y="2133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930400" y="393372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116680" y="217008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054760" y="396072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164280" y="3095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578400" y="3303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940200" y="284796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962520" y="386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038480" y="228600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048120" y="3122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449440" y="3446640"/>
              <a:ext cx="25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530440" y="2655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952880" y="327672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486400" y="3352680"/>
              <a:ext cx="37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545080" y="2646360"/>
              <a:ext cx="2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184480" y="3389400"/>
              <a:ext cx="4089240" cy="1218960"/>
            </a:xfrm>
            <a:custGeom>
              <a:avLst/>
              <a:gdLst/>
              <a:ahLst/>
              <a:rect l="l" t="t" r="r" b="b"/>
              <a:pathLst>
                <a:path w="2576" h="768">
                  <a:moveTo>
                    <a:pt x="0" y="0"/>
                  </a:moveTo>
                  <a:lnTo>
                    <a:pt x="280" y="696"/>
                  </a:lnTo>
                  <a:lnTo>
                    <a:pt x="424" y="768"/>
                  </a:lnTo>
                  <a:lnTo>
                    <a:pt x="2048" y="768"/>
                  </a:lnTo>
                  <a:lnTo>
                    <a:pt x="2192" y="664"/>
                  </a:lnTo>
                  <a:lnTo>
                    <a:pt x="2576" y="24"/>
                  </a:lnTo>
                </a:path>
              </a:pathLst>
            </a:custGeom>
            <a:noFill/>
            <a:ln w="38160">
              <a:solidFill>
                <a:srgbClr val="3366cc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835440" y="457056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371600" y="2895480"/>
              <a:ext cx="324000" cy="324000"/>
            </a:xfrm>
            <a:prstGeom prst="cube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791320" y="4114800"/>
              <a:ext cx="228600" cy="380880"/>
            </a:xfrm>
            <a:prstGeom prst="can">
              <a:avLst>
                <a:gd name="adj" fmla="val 25000"/>
              </a:avLst>
            </a:prstGeom>
            <a:solidFill>
              <a:srgbClr val="67c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523880" y="44956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66cc"/>
                  </a:solidFill>
                  <a:latin typeface="Arial"/>
                </a:rPr>
                <a:t>raA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H="1" flipV="1">
              <a:off x="5334120" y="419076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H="1" flipV="1">
              <a:off x="2514600" y="1904760"/>
              <a:ext cx="380880" cy="228600"/>
            </a:xfrm>
            <a:prstGeom prst="line">
              <a:avLst/>
            </a:prstGeom>
            <a:ln w="38160">
              <a:solidFill>
                <a:srgbClr val="01c1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H="1">
              <a:off x="5334120" y="1905120"/>
              <a:ext cx="30456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H="1">
              <a:off x="2666520" y="4191120"/>
              <a:ext cx="30492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447920" y="327672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400800" y="3276720"/>
              <a:ext cx="609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352680" y="365760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3C 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438280" y="5411880"/>
              <a:ext cx="579132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aturated Arc: {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, a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onKey Path: {r1C, r1B, r3A, r1A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276720" y="25336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1c101"/>
                  </a:solidFill>
                  <a:latin typeface="Arial"/>
                </a:rPr>
                <a:t>r1C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2971800" y="2400120"/>
              <a:ext cx="0" cy="1600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3276720" y="190512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3B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143160" y="4133880"/>
              <a:ext cx="1901880" cy="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352680" y="411480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r3A =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114800" y="281952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r1B =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V="1">
              <a:off x="5257800" y="3295440"/>
              <a:ext cx="903240" cy="75852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3124080" y="2190240"/>
              <a:ext cx="2057400" cy="19080"/>
            </a:xfrm>
            <a:prstGeom prst="line">
              <a:avLst/>
            </a:prstGeom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235480" y="2193840"/>
              <a:ext cx="1051200" cy="1025640"/>
            </a:xfrm>
            <a:prstGeom prst="line">
              <a:avLst/>
            </a:prstGeom>
            <a:ln w="7632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447920" y="243828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cc"/>
                  </a:solidFill>
                  <a:latin typeface="Arial"/>
                </a:rPr>
                <a:t>r1A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5 - 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eveloped an specialization of the GUB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ed it to the minimum cost multicommodity flow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it can solve really large problems in small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lgorithm may be used as a teaching tool integ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si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ing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form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ommodity netflow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lated Wor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129528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t seems nobody took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xactl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the same path we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-3255840" y="1476720"/>
            <a:ext cx="2874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(isaac, transforme isto em um tabela, com nome/semelhança, diferenç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-5200560" y="-1167120"/>
            <a:ext cx="428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cBride node-arc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milar partitioning and upd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lever implementation (LU, pricing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aarg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arvolden, Lustig &amp; P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milar arc-rout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1295280" y="156204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5" name=""/>
          <p:cNvGraphicFramePr/>
          <p:nvPr/>
        </p:nvGraphicFramePr>
        <p:xfrm>
          <a:off x="1371600" y="1600200"/>
          <a:ext cx="695340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9534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ing C++ tem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PLEX library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aring with CPLEX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PU tim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aring with other algorithms using standard test problem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PU tim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66"/>
                </a:solidFill>
                <a:latin typeface="Arial"/>
              </a:rPr>
              <a:t>ammount of RAM memory (size of 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ore ahe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twork desig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hich arcs should be there or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ger 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iven the set of arcs chosen, which ro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lumn generation approach, similar to Farvolde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bu search may be used to choose the set of 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And more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neralized Variable Upper bou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f a commodity is not completely routed, then a fine is imposed, but the solution remains feasi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iecewise Line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elps to deal with modular costs found in telecommunications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elps to model installed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.3 - Linear Programming Problem Siz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4647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Bride (Interfaces,1998): 7.000.000 variables and 600.000 constraints in a transportat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-3276720" y="0"/>
            <a:ext cx="2438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locar aquela tabela que você criou, inclusive com o tamanho da matriz de cicl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838080" y="2895480"/>
          <a:ext cx="7543800" cy="203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75438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914400" y="207324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cc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problem s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.4 - Solution Approach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-Directiv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en and DeWald (1974); Folie and Tiffin (1976); Assad (1980); Jones, Lustig, Farvolden, and Powell (1993); 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-Directiv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 Held, Wolfe, and Crowder (1974); Assad (1976), Ali et al. 1980); etc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ior Poi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 Rezende (...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rmarkar (198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rtitioning Approach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 (our appr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cBride,1998 (also uses cycle matrix, but  is node-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rvolden et alli,1993: (also arc-route; but doesn’t update the cycle matrix inve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2 - Partitioning Approa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1 - traditional GUB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2 - beyond GUB: cycle matrix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.1 - how to calculate dual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.2 - how to calculate reduced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.3 - how to calculate updated entering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.4 - how to calculate updated R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22:40:32Z</dcterms:created>
  <dc:creator>saulo bortolon.</dc:creator>
  <dc:description/>
  <dc:language>en-US</dc:language>
  <cp:lastModifiedBy>bortolon</cp:lastModifiedBy>
  <dcterms:modified xsi:type="dcterms:W3CDTF">1999-08-23T00:36:49Z</dcterms:modified>
  <cp:revision>82</cp:revision>
  <dc:subject/>
  <dc:title>A PRIMAL PARTITIONING APPROACH TO THE MINIMUM COST MULTICOMMODITY FLOW PROBLEM</dc:title>
</cp:coreProperties>
</file>