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416-6734-489D-B823-57E5AFFF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35C-DC13-4023-9719-593A7150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927-11F4-48FB-BD10-CB9D7866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850-0126-43A0-AF5E-6D026B31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F94-9DEB-4EBD-8104-7457DC6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019-7285-46CF-8722-98C0601D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0B2-24D1-41DF-9876-ADC6A7B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044-B5B6-4EDA-B32E-530B411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5AD-7C90-4B76-9A74-E2BDA2F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F1E-2E54-4493-AF1B-521B86D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156-5A30-4287-9EB9-8FF1548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534-4EEF-4CFC-A16C-3C2EF77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629-CBBB-4A5E-8967-D345C848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685800"/>
            <a:ext cx="5594400" cy="2075040"/>
            <a:chOff x="1295280" y="685800"/>
            <a:chExt cx="5594400" cy="2075040"/>
          </a:xfrm>
        </p:grpSpPr>
        <p:grpSp>
          <p:nvGrpSpPr>
            <p:cNvPr id="42" name=""/>
            <p:cNvGrpSpPr/>
            <p:nvPr/>
          </p:nvGrpSpPr>
          <p:grpSpPr>
            <a:xfrm>
              <a:off x="4495680" y="685800"/>
              <a:ext cx="2394000" cy="1724040"/>
              <a:chOff x="4495680" y="685800"/>
              <a:chExt cx="2394000" cy="17240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495680" y="685800"/>
                <a:ext cx="2394000" cy="1724040"/>
                <a:chOff x="4495680" y="685800"/>
                <a:chExt cx="2394000" cy="17240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95680" y="1371600"/>
                  <a:ext cx="23832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5495760" y="717480"/>
                  <a:ext cx="236880" cy="2127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5487480" y="6858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5181480" y="2178000"/>
                  <a:ext cx="236520" cy="2109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5183280" y="2133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629400" y="914400"/>
                  <a:ext cx="237960" cy="212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630840" y="919080"/>
                  <a:ext cx="25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"/>
                <p:cNvGrpSpPr/>
                <p:nvPr/>
              </p:nvGrpSpPr>
              <p:grpSpPr>
                <a:xfrm>
                  <a:off x="6400800" y="2057400"/>
                  <a:ext cx="260280" cy="276480"/>
                  <a:chOff x="6400800" y="2057400"/>
                  <a:chExt cx="260280" cy="276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6400800" y="2058840"/>
                    <a:ext cx="238320" cy="2113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402600" y="2057400"/>
                    <a:ext cx="258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4" name=""/>
              <p:cNvSpPr/>
              <p:nvPr/>
            </p:nvSpPr>
            <p:spPr>
              <a:xfrm flipV="1">
                <a:off x="4724280" y="1066320"/>
                <a:ext cx="1904760" cy="3812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5333400" y="914400"/>
                <a:ext cx="304920" cy="1295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4724280" y="1523880"/>
                <a:ext cx="1676160" cy="60984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748000">
                <a:off x="5562720" y="99072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3333cc"/>
                    </a:solidFill>
                    <a:latin typeface="Arial Narrow"/>
                  </a:rPr>
                  <a:t>Commodity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878000">
                <a:off x="4923360" y="132480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0066"/>
                    </a:solidFill>
                    <a:latin typeface="Arial Narrow"/>
                  </a:rPr>
                  <a:t>Commodity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14000">
                <a:off x="5409360" y="167616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cc99"/>
                    </a:solidFill>
                    <a:latin typeface="Arial Narrow"/>
                  </a:rPr>
                  <a:t>Commodity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295280" y="685800"/>
              <a:ext cx="2514600" cy="1998720"/>
              <a:chOff x="1295280" y="685800"/>
              <a:chExt cx="2514600" cy="199872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1295280" y="685800"/>
                <a:ext cx="2514600" cy="1749240"/>
                <a:chOff x="1295280" y="685800"/>
                <a:chExt cx="2514600" cy="1749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295280" y="1371600"/>
                  <a:ext cx="23832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295360" y="717480"/>
                  <a:ext cx="236880" cy="2127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287080" y="6858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81080" y="2178000"/>
                  <a:ext cx="236520" cy="2113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982880" y="213372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429000" y="914400"/>
                  <a:ext cx="237960" cy="212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430440" y="919080"/>
                  <a:ext cx="25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3200400" y="2057400"/>
                  <a:ext cx="260280" cy="276480"/>
                  <a:chOff x="3200400" y="2057400"/>
                  <a:chExt cx="260280" cy="2764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3200400" y="2058840"/>
                    <a:ext cx="238320" cy="2113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3202200" y="2057400"/>
                    <a:ext cx="258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2971800" y="1523880"/>
                  <a:ext cx="3808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3" name=""/>
                <p:cNvCxnSpPr/>
                <p:nvPr/>
              </p:nvCxnSpPr>
              <p:spPr>
                <a:xfrm flipV="1">
                  <a:off x="1523520" y="837360"/>
                  <a:ext cx="762840" cy="562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4" name=""/>
                <p:cNvCxnSpPr>
                  <a:stCxn id="62" idx="5"/>
                  <a:endCxn id="66" idx="1"/>
                </p:cNvCxnSpPr>
                <p:nvPr/>
              </p:nvCxnSpPr>
              <p:spPr>
                <a:xfrm>
                  <a:off x="1498680" y="1550520"/>
                  <a:ext cx="484560" cy="72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75" name=""/>
                <p:cNvSpPr/>
                <p:nvPr/>
              </p:nvSpPr>
              <p:spPr>
                <a:xfrm flipV="1">
                  <a:off x="3352680" y="1066680"/>
                  <a:ext cx="15264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90920" y="838080"/>
                  <a:ext cx="8380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2133360" y="914400"/>
                  <a:ext cx="22860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514600" y="914400"/>
                  <a:ext cx="7621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1523880" y="1066320"/>
                  <a:ext cx="190512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23880" y="1523880"/>
                  <a:ext cx="167652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2209680" y="2209680"/>
                  <a:ext cx="9907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200400" y="1447920"/>
                  <a:ext cx="6094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2209680" y="1066320"/>
                  <a:ext cx="129564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14600" y="1523880"/>
                  <a:ext cx="3808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90920" y="2133720"/>
                  <a:ext cx="3808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95480" y="685800"/>
                  <a:ext cx="3812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52480" y="838080"/>
                  <a:ext cx="3812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828800" y="1143000"/>
                  <a:ext cx="3808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600200" y="1676520"/>
                  <a:ext cx="38088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752480" y="1447920"/>
                  <a:ext cx="3812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209680" y="1371600"/>
                  <a:ext cx="3812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1752480" y="24382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gure 5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105520" y="2514600"/>
              <a:ext cx="13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igure 5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00200" y="2801520"/>
            <a:ext cx="5060880" cy="3317760"/>
            <a:chOff x="1600200" y="2801520"/>
            <a:chExt cx="5060880" cy="3317760"/>
          </a:xfrm>
        </p:grpSpPr>
        <p:grpSp>
          <p:nvGrpSpPr>
            <p:cNvPr id="95" name=""/>
            <p:cNvGrpSpPr/>
            <p:nvPr/>
          </p:nvGrpSpPr>
          <p:grpSpPr>
            <a:xfrm>
              <a:off x="1600200" y="3276720"/>
              <a:ext cx="2394000" cy="2227320"/>
              <a:chOff x="1600200" y="3276720"/>
              <a:chExt cx="2394000" cy="22273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600200" y="3276720"/>
                <a:ext cx="2394000" cy="1724040"/>
                <a:chOff x="1600200" y="3276720"/>
                <a:chExt cx="2394000" cy="1724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600200" y="3962520"/>
                  <a:ext cx="23832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600280" y="3308400"/>
                  <a:ext cx="236880" cy="2127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592000" y="32767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6000" y="4768920"/>
                  <a:ext cx="236520" cy="2109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287800" y="472428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733920" y="3505320"/>
                  <a:ext cx="237960" cy="212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35360" y="3510000"/>
                  <a:ext cx="25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505320" y="4648320"/>
                  <a:ext cx="260280" cy="276480"/>
                  <a:chOff x="3505320" y="4648320"/>
                  <a:chExt cx="260280" cy="2764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3505320" y="4649760"/>
                    <a:ext cx="238320" cy="2113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507120" y="4648320"/>
                    <a:ext cx="258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7" name=""/>
              <p:cNvSpPr/>
              <p:nvPr/>
            </p:nvSpPr>
            <p:spPr>
              <a:xfrm>
                <a:off x="1819080" y="3429000"/>
                <a:ext cx="1704960" cy="1418760"/>
              </a:xfrm>
              <a:custGeom>
                <a:avLst/>
                <a:gdLst/>
                <a:ahLst/>
                <a:rect l="l" t="t" r="r" b="b"/>
                <a:pathLst>
                  <a:path w="1074" h="894">
                    <a:moveTo>
                      <a:pt x="486" y="0"/>
                    </a:moveTo>
                    <a:lnTo>
                      <a:pt x="0" y="342"/>
                    </a:lnTo>
                    <a:lnTo>
                      <a:pt x="36" y="390"/>
                    </a:lnTo>
                    <a:lnTo>
                      <a:pt x="6" y="462"/>
                    </a:lnTo>
                    <a:lnTo>
                      <a:pt x="1074" y="786"/>
                    </a:lnTo>
                    <a:lnTo>
                      <a:pt x="1044" y="810"/>
                    </a:lnTo>
                    <a:lnTo>
                      <a:pt x="1050" y="858"/>
                    </a:lnTo>
                    <a:lnTo>
                      <a:pt x="444" y="894"/>
                    </a:lnTo>
                  </a:path>
                </a:pathLst>
              </a:custGeom>
              <a:noFill/>
              <a:ln w="12600">
                <a:solidFill>
                  <a:srgbClr val="ff0066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04880" y="3429000"/>
                <a:ext cx="1324080" cy="1504440"/>
              </a:xfrm>
              <a:custGeom>
                <a:avLst/>
                <a:gdLst/>
                <a:ahLst/>
                <a:rect l="l" t="t" r="r" b="b"/>
                <a:pathLst>
                  <a:path w="834" h="948">
                    <a:moveTo>
                      <a:pt x="198" y="0"/>
                    </a:moveTo>
                    <a:lnTo>
                      <a:pt x="774" y="78"/>
                    </a:lnTo>
                    <a:lnTo>
                      <a:pt x="750" y="120"/>
                    </a:lnTo>
                    <a:lnTo>
                      <a:pt x="774" y="168"/>
                    </a:lnTo>
                    <a:lnTo>
                      <a:pt x="834" y="186"/>
                    </a:lnTo>
                    <a:lnTo>
                      <a:pt x="738" y="750"/>
                    </a:lnTo>
                    <a:lnTo>
                      <a:pt x="804" y="822"/>
                    </a:lnTo>
                    <a:lnTo>
                      <a:pt x="780" y="882"/>
                    </a:lnTo>
                    <a:lnTo>
                      <a:pt x="738" y="912"/>
                    </a:lnTo>
                    <a:lnTo>
                      <a:pt x="672" y="924"/>
                    </a:lnTo>
                    <a:lnTo>
                      <a:pt x="0" y="948"/>
                    </a:lnTo>
                  </a:path>
                </a:pathLst>
              </a:custGeom>
              <a:noFill/>
              <a:ln w="12600">
                <a:solidFill>
                  <a:srgbClr val="ff0066"/>
                </a:solidFill>
                <a:prstDash val="lgDash"/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28800" y="3504960"/>
                <a:ext cx="1962000" cy="1142640"/>
              </a:xfrm>
              <a:custGeom>
                <a:avLst/>
                <a:gdLst/>
                <a:ahLst/>
                <a:rect l="l" t="t" r="r" b="b"/>
                <a:pathLst>
                  <a:path w="1236" h="720">
                    <a:moveTo>
                      <a:pt x="0" y="348"/>
                    </a:moveTo>
                    <a:lnTo>
                      <a:pt x="492" y="0"/>
                    </a:lnTo>
                    <a:lnTo>
                      <a:pt x="540" y="18"/>
                    </a:lnTo>
                    <a:lnTo>
                      <a:pt x="600" y="30"/>
                    </a:lnTo>
                    <a:lnTo>
                      <a:pt x="1104" y="720"/>
                    </a:lnTo>
                    <a:lnTo>
                      <a:pt x="1140" y="708"/>
                    </a:lnTo>
                    <a:lnTo>
                      <a:pt x="1236" y="120"/>
                    </a:lnTo>
                  </a:path>
                </a:pathLst>
              </a:custGeom>
              <a:noFill/>
              <a:ln w="12600">
                <a:solidFill>
                  <a:srgbClr val="3333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52480" y="3476520"/>
                <a:ext cx="1990800" cy="1314000"/>
              </a:xfrm>
              <a:custGeom>
                <a:avLst/>
                <a:gdLst/>
                <a:ahLst/>
                <a:rect l="l" t="t" r="r" b="b"/>
                <a:pathLst>
                  <a:path w="1254" h="828">
                    <a:moveTo>
                      <a:pt x="0" y="450"/>
                    </a:moveTo>
                    <a:lnTo>
                      <a:pt x="348" y="828"/>
                    </a:lnTo>
                    <a:lnTo>
                      <a:pt x="384" y="792"/>
                    </a:lnTo>
                    <a:lnTo>
                      <a:pt x="438" y="804"/>
                    </a:lnTo>
                    <a:lnTo>
                      <a:pt x="588" y="42"/>
                    </a:lnTo>
                    <a:lnTo>
                      <a:pt x="666" y="42"/>
                    </a:lnTo>
                    <a:lnTo>
                      <a:pt x="702" y="0"/>
                    </a:lnTo>
                    <a:lnTo>
                      <a:pt x="1254" y="66"/>
                    </a:lnTo>
                  </a:path>
                </a:pathLst>
              </a:custGeom>
              <a:noFill/>
              <a:ln w="12600">
                <a:solidFill>
                  <a:srgbClr val="3333cc"/>
                </a:solidFill>
                <a:prstDash val="lgDash"/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85680" y="3647880"/>
                <a:ext cx="1866960" cy="1247400"/>
              </a:xfrm>
              <a:custGeom>
                <a:avLst/>
                <a:gdLst/>
                <a:ahLst/>
                <a:rect l="l" t="t" r="r" b="b"/>
                <a:pathLst>
                  <a:path w="1176" h="786">
                    <a:moveTo>
                      <a:pt x="1050" y="750"/>
                    </a:moveTo>
                    <a:lnTo>
                      <a:pt x="426" y="786"/>
                    </a:lnTo>
                    <a:lnTo>
                      <a:pt x="420" y="738"/>
                    </a:lnTo>
                    <a:lnTo>
                      <a:pt x="384" y="708"/>
                    </a:lnTo>
                    <a:lnTo>
                      <a:pt x="1176" y="54"/>
                    </a:lnTo>
                    <a:lnTo>
                      <a:pt x="1158" y="24"/>
                    </a:lnTo>
                    <a:lnTo>
                      <a:pt x="1146" y="0"/>
                    </a:lnTo>
                    <a:lnTo>
                      <a:pt x="0" y="264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00000" y="3552840"/>
                <a:ext cx="1752840" cy="1171080"/>
              </a:xfrm>
              <a:custGeom>
                <a:avLst/>
                <a:gdLst/>
                <a:ahLst/>
                <a:rect l="l" t="t" r="r" b="b"/>
                <a:pathLst>
                  <a:path w="1104" h="738">
                    <a:moveTo>
                      <a:pt x="1104" y="696"/>
                    </a:moveTo>
                    <a:lnTo>
                      <a:pt x="606" y="24"/>
                    </a:lnTo>
                    <a:lnTo>
                      <a:pt x="564" y="24"/>
                    </a:lnTo>
                    <a:lnTo>
                      <a:pt x="516" y="0"/>
                    </a:lnTo>
                    <a:lnTo>
                      <a:pt x="378" y="720"/>
                    </a:lnTo>
                    <a:lnTo>
                      <a:pt x="342" y="720"/>
                    </a:lnTo>
                    <a:lnTo>
                      <a:pt x="318" y="738"/>
                    </a:lnTo>
                    <a:lnTo>
                      <a:pt x="0" y="396"/>
                    </a:lnTo>
                  </a:path>
                </a:pathLst>
              </a:custGeom>
              <a:noFill/>
              <a:ln w="12600">
                <a:solidFill>
                  <a:srgbClr val="00cc99"/>
                </a:solidFill>
                <a:prstDash val="lgDash"/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47200">
                <a:off x="2894040" y="3797280"/>
                <a:ext cx="532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cc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3333cc"/>
                    </a:solidFill>
                    <a:latin typeface="Arial Narrow"/>
                  </a:rPr>
                  <a:t>11 </a:t>
                </a:r>
                <a:r>
                  <a:rPr b="0" i="1" lang="en-US" sz="1000" spc="-1" strike="noStrike">
                    <a:solidFill>
                      <a:srgbClr val="3333cc"/>
                    </a:solidFill>
                    <a:latin typeface="Arial Narrow"/>
                  </a:rPr>
                  <a:t>=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763000">
                <a:off x="1667880" y="4415760"/>
                <a:ext cx="5331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cc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3333cc"/>
                    </a:solidFill>
                    <a:latin typeface="Arial Narrow"/>
                  </a:rPr>
                  <a:t>12 </a:t>
                </a:r>
                <a:r>
                  <a:rPr b="0" i="1" lang="en-US" sz="1000" spc="-1" strike="noStrike">
                    <a:solidFill>
                      <a:srgbClr val="3333cc"/>
                    </a:solidFill>
                    <a:latin typeface="Arial Narrow"/>
                  </a:rPr>
                  <a:t>=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275600">
                <a:off x="2674080" y="4111920"/>
                <a:ext cx="533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cc99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cc99"/>
                    </a:solidFill>
                    <a:latin typeface="Arial Narrow"/>
                  </a:rPr>
                  <a:t>31</a:t>
                </a:r>
                <a:r>
                  <a:rPr b="0" i="1" lang="en-US" sz="1000" spc="-1" strike="noStrike">
                    <a:solidFill>
                      <a:srgbClr val="00cc99"/>
                    </a:solidFill>
                    <a:latin typeface="Arial Narrow"/>
                  </a:rPr>
                  <a:t>=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1329400">
                <a:off x="2896200" y="4876200"/>
                <a:ext cx="533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66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ff0066"/>
                    </a:solidFill>
                    <a:latin typeface="Arial Narrow"/>
                  </a:rPr>
                  <a:t>22 </a:t>
                </a:r>
                <a:r>
                  <a:rPr b="0" i="1" lang="en-US" sz="1000" spc="-1" strike="noStrike">
                    <a:solidFill>
                      <a:srgbClr val="ff0066"/>
                    </a:solidFill>
                    <a:latin typeface="Arial Narrow"/>
                  </a:rPr>
                  <a:t>=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997200">
                <a:off x="2891880" y="4342680"/>
                <a:ext cx="533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0066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ff0066"/>
                    </a:solidFill>
                    <a:latin typeface="Arial Narrow"/>
                  </a:rPr>
                  <a:t>21 </a:t>
                </a:r>
                <a:r>
                  <a:rPr b="0" i="1" lang="en-US" sz="1000" spc="-1" strike="noStrike">
                    <a:solidFill>
                      <a:srgbClr val="ff0066"/>
                    </a:solidFill>
                    <a:latin typeface="Arial Narrow"/>
                  </a:rPr>
                  <a:t>=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826400">
                <a:off x="2144880" y="4028760"/>
                <a:ext cx="532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cc99"/>
                    </a:solidFill>
                    <a:latin typeface="Arial Narrow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cc99"/>
                    </a:solidFill>
                    <a:latin typeface="Arial Narrow"/>
                  </a:rPr>
                  <a:t>32</a:t>
                </a:r>
                <a:r>
                  <a:rPr b="0" i="1" lang="en-US" sz="1000" spc="-1" strike="noStrike">
                    <a:solidFill>
                      <a:srgbClr val="00cc99"/>
                    </a:solidFill>
                    <a:latin typeface="Arial Narrow"/>
                  </a:rPr>
                  <a:t>=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57400" y="525780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gure 5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19738200">
              <a:off x="4349160" y="3045960"/>
              <a:ext cx="1066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 Narrow"/>
                </a:rPr>
                <a:t>non-basic saturated arc a</a:t>
              </a:r>
              <a:r>
                <a:rPr b="0" lang="pt-BR" sz="1000" spc="-1" strike="noStrike" baseline="-25000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018320" y="2971800"/>
              <a:ext cx="2642760" cy="3147480"/>
              <a:chOff x="4018320" y="2971800"/>
              <a:chExt cx="2642760" cy="31474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4267080" y="2971800"/>
                <a:ext cx="2394000" cy="1724040"/>
                <a:chOff x="4267080" y="2971800"/>
                <a:chExt cx="2394000" cy="1724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267080" y="3657600"/>
                  <a:ext cx="23832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67160" y="3003480"/>
                  <a:ext cx="236880" cy="2127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58880" y="29718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952880" y="4464000"/>
                  <a:ext cx="236520" cy="21096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54680" y="4419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400800" y="3200400"/>
                  <a:ext cx="237960" cy="212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402240" y="3205080"/>
                  <a:ext cx="258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6172200" y="4343400"/>
                  <a:ext cx="260280" cy="276480"/>
                  <a:chOff x="6172200" y="4343400"/>
                  <a:chExt cx="260280" cy="2764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172200" y="4344840"/>
                    <a:ext cx="238320" cy="2113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174000" y="4343400"/>
                    <a:ext cx="258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3" name=""/>
              <p:cNvSpPr/>
              <p:nvPr/>
            </p:nvSpPr>
            <p:spPr>
              <a:xfrm flipH="1">
                <a:off x="4419720" y="3124080"/>
                <a:ext cx="8380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9720" y="3886200"/>
                <a:ext cx="6094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181480" y="4495680"/>
                <a:ext cx="9907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105160" y="3200400"/>
                <a:ext cx="22860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86400" y="3200400"/>
                <a:ext cx="68580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86400" y="3124080"/>
                <a:ext cx="91440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324480" y="3429000"/>
                <a:ext cx="15264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105520" y="3352320"/>
                <a:ext cx="129528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4495680" y="3352320"/>
                <a:ext cx="19051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843400">
                <a:off x="3999960" y="4065120"/>
                <a:ext cx="106668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 Narrow"/>
                  </a:rPr>
                  <a:t>non-basic saturated arc a</a:t>
                </a:r>
                <a:r>
                  <a:rPr b="0" lang="pt-BR" sz="1000" spc="-1" strike="noStrike" baseline="-25000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288000">
                <a:off x="5182200" y="4495680"/>
                <a:ext cx="10670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 Narrow"/>
                  </a:rPr>
                  <a:t>non-basic saturated arc a</a:t>
                </a:r>
                <a:r>
                  <a:rPr b="0" lang="pt-BR" sz="1000" spc="-1" strike="noStrike" baseline="-25000">
                    <a:solidFill>
                      <a:srgbClr val="000000"/>
                    </a:solidFill>
                    <a:latin typeface="Arial Narrow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5680" y="3809880"/>
                <a:ext cx="167652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4495680" y="5410080"/>
                <a:ext cx="1904760" cy="709200"/>
                <a:chOff x="4495680" y="5410080"/>
                <a:chExt cx="1904760" cy="709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495680" y="5410080"/>
                  <a:ext cx="190476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           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:  Saturated arc non-basi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           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:  Saturated arcs basi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           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 Narrow"/>
                    </a:rPr>
                    <a:t>:  Non-saturated arcs basi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71640" y="556236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71640" y="579096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571640" y="6019560"/>
                  <a:ext cx="30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572000" y="49528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gure 5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666880" y="2590920"/>
            <a:ext cx="2394000" cy="1724040"/>
            <a:chOff x="2666880" y="2590920"/>
            <a:chExt cx="2394000" cy="1724040"/>
          </a:xfrm>
        </p:grpSpPr>
        <p:sp>
          <p:nvSpPr>
            <p:cNvPr id="152" name=""/>
            <p:cNvSpPr/>
            <p:nvPr/>
          </p:nvSpPr>
          <p:spPr>
            <a:xfrm>
              <a:off x="2666880" y="3276720"/>
              <a:ext cx="238320" cy="2095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66960" y="2622600"/>
              <a:ext cx="236880" cy="212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8680" y="2590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2680" y="4083120"/>
              <a:ext cx="236520" cy="210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4480" y="4038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2819520"/>
              <a:ext cx="237960" cy="212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2040" y="28242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572000" y="3962520"/>
              <a:ext cx="260280" cy="276480"/>
              <a:chOff x="4572000" y="3962520"/>
              <a:chExt cx="260280" cy="2764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0" y="3963960"/>
                <a:ext cx="238320" cy="211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73800" y="396252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1:13:52Z</dcterms:created>
  <dc:creator>werley gomes facco</dc:creator>
  <dc:description/>
  <dc:language>en-US</dc:language>
  <cp:lastModifiedBy>werley gomes facco</cp:lastModifiedBy>
  <dcterms:modified xsi:type="dcterms:W3CDTF">1999-06-30T16:13:23Z</dcterms:modified>
  <cp:revision>3</cp:revision>
  <dc:subject/>
  <dc:title>Slide sem título </dc:title>
</cp:coreProperties>
</file>