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82A9-B1E1-43C2-BF7A-5179F3F58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DE53-B1AE-4A8E-B306-AF385D5E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6968-D9F4-41FA-AD47-68FC45E05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368F-9868-427B-AC92-157A392F3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548A-0B91-4A25-A323-FB107E18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83CA-0B37-4233-BF30-96E9B1B4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0923-4BB6-47B0-B1D5-757C386E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A1A6-B080-4F2E-A926-FC3A23C6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97F7-8EAA-4205-8115-11DF5CF6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AD8F-D458-4E0D-BE53-6FBBEB3F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B14A-A5AE-40CC-BEF3-C951A49E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B5E2-A7A0-49C2-B712-7E57E217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8A19-5CCD-4FC8-B11D-73CD05BAE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hyperlink" Target="http://www.ecologia.ufrgs.br/idrisi/idrisi32.htm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undo%20slid%20faixa" descr=""/>
          <p:cNvPicPr/>
          <p:nvPr/>
        </p:nvPicPr>
        <p:blipFill>
          <a:blip r:embed="rId1"/>
          <a:stretch/>
        </p:blipFill>
        <p:spPr>
          <a:xfrm>
            <a:off x="330120" y="533520"/>
            <a:ext cx="1403280" cy="5975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15200" y="5334120"/>
            <a:ext cx="6043680" cy="13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Universidade Federal do Espírito Santo - Centro Tecnológ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Dissertação de Mestr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Mestrado em Informática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Departamento de informática -CTUF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60240" y="533520"/>
            <a:ext cx="8420040" cy="75960"/>
            <a:chOff x="660240" y="533520"/>
            <a:chExt cx="8420040" cy="75960"/>
          </a:xfrm>
        </p:grpSpPr>
        <p:sp>
          <p:nvSpPr>
            <p:cNvPr id="44" name=""/>
            <p:cNvSpPr/>
            <p:nvPr/>
          </p:nvSpPr>
          <p:spPr>
            <a:xfrm>
              <a:off x="825480" y="533520"/>
              <a:ext cx="825480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60240" y="533520"/>
              <a:ext cx="8244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816200" y="2895480"/>
            <a:ext cx="61912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Rodolfo Moreira de Castro Jun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rientado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f. Dr. Saulo Bortol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f. Dr. Thomas W. Rauber </a:t>
            </a: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200" y="1066680"/>
            <a:ext cx="9452160" cy="155700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ERRAMENTAS DE CÁLCULOS  TOPOGRÁFICOS E GEODÉSICOS E CLASSIFICAÇÃO DE FOLHAS PELA CARTA INTERNACIONAL AO MILIONÉSIMO PARA SISTEMA DE INFORMAÇÕES GEOGRÁ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novalogoltc" descr=""/>
          <p:cNvPicPr/>
          <p:nvPr/>
        </p:nvPicPr>
        <p:blipFill>
          <a:blip r:embed="rId2"/>
          <a:stretch/>
        </p:blipFill>
        <p:spPr>
          <a:xfrm>
            <a:off x="0" y="0"/>
            <a:ext cx="318960" cy="533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43040" y="228600"/>
            <a:ext cx="561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UNIVERSIDADE FEDERAL DO ESPÍRITO SA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fundo%20slid%20faixa" descr=""/>
          <p:cNvPicPr/>
          <p:nvPr/>
        </p:nvPicPr>
        <p:blipFill>
          <a:blip r:embed="rId1"/>
          <a:stretch/>
        </p:blipFill>
        <p:spPr>
          <a:xfrm>
            <a:off x="330120" y="304920"/>
            <a:ext cx="1320840" cy="6280200"/>
          </a:xfrm>
          <a:prstGeom prst="rect">
            <a:avLst/>
          </a:prstGeom>
          <a:ln w="0">
            <a:noFill/>
          </a:ln>
        </p:spPr>
      </p:pic>
      <p:grpSp>
        <p:nvGrpSpPr>
          <p:cNvPr id="321" name=""/>
          <p:cNvGrpSpPr/>
          <p:nvPr/>
        </p:nvGrpSpPr>
        <p:grpSpPr>
          <a:xfrm>
            <a:off x="660240" y="533520"/>
            <a:ext cx="8420040" cy="75960"/>
            <a:chOff x="660240" y="533520"/>
            <a:chExt cx="8420040" cy="75960"/>
          </a:xfrm>
        </p:grpSpPr>
        <p:sp>
          <p:nvSpPr>
            <p:cNvPr id="322" name=""/>
            <p:cNvSpPr/>
            <p:nvPr/>
          </p:nvSpPr>
          <p:spPr>
            <a:xfrm>
              <a:off x="825480" y="533520"/>
              <a:ext cx="825480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60240" y="533520"/>
              <a:ext cx="8244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762120" y="685800"/>
            <a:ext cx="8686800" cy="5205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Linguagem AVENUE: Principais Caracterís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novalogoltc" descr=""/>
          <p:cNvPicPr/>
          <p:nvPr/>
        </p:nvPicPr>
        <p:blipFill>
          <a:blip r:embed="rId2"/>
          <a:stretch/>
        </p:blipFill>
        <p:spPr>
          <a:xfrm>
            <a:off x="0" y="0"/>
            <a:ext cx="318960" cy="5335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743040" y="228600"/>
            <a:ext cx="561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UNIVERSIDADE FEDERAL DO ESPÍRITO SA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328320" y="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86F0-AA5C-4815-A278-F512B42F551E}" type="slidenum"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5360" y="1355760"/>
            <a:ext cx="9163080" cy="3936960"/>
          </a:xfrm>
          <a:prstGeom prst="rect">
            <a:avLst/>
          </a:prstGeom>
          <a:solidFill>
            <a:srgbClr val="fefad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3399"/>
                </a:solidFill>
                <a:latin typeface="Arial"/>
              </a:rPr>
              <a:t>Linguagem de script orientada a obj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3399"/>
                </a:solidFill>
                <a:latin typeface="Arial"/>
              </a:rPr>
              <a:t>Compilada (Interpreta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3399"/>
                </a:solidFill>
                <a:latin typeface="Arial"/>
              </a:rPr>
              <a:t>Não é recurs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3399"/>
                </a:solidFill>
                <a:latin typeface="Arial"/>
              </a:rPr>
              <a:t>Não é permitido que se crie classes ou que se modifique classes </a:t>
            </a:r>
            <a:r>
              <a:rPr b="1" lang="pt-BR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3399"/>
                </a:solidFill>
                <a:latin typeface="Arial"/>
              </a:rPr>
              <a:t>exist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7"/>
              </a:buBlip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3399"/>
                </a:solidFill>
                <a:latin typeface="Arial"/>
              </a:rPr>
              <a:t>Não é permitido executar scripts em Avenue fora do contexto do </a:t>
            </a:r>
            <a:r>
              <a:rPr b="1" lang="pt-BR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3399"/>
                </a:solidFill>
                <a:latin typeface="Arial"/>
              </a:rPr>
              <a:t>Arc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8"/>
              </a:buBlip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3399"/>
                </a:solidFill>
                <a:latin typeface="Arial"/>
              </a:rPr>
              <a:t>Expressões são avaliadas da esquerda para a direita sem precedência </a:t>
            </a:r>
            <a:r>
              <a:rPr b="1" lang="pt-BR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3399"/>
                </a:solidFill>
                <a:latin typeface="Arial"/>
              </a:rPr>
              <a:t>de operadores. O Avenue avalia expressões com parênteses como uma </a:t>
            </a:r>
            <a:r>
              <a:rPr b="1" lang="pt-BR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3399"/>
                </a:solidFill>
                <a:latin typeface="Arial"/>
              </a:rPr>
              <a:t>un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fundo%20slid%20faixa" descr=""/>
          <p:cNvPicPr/>
          <p:nvPr/>
        </p:nvPicPr>
        <p:blipFill>
          <a:blip r:embed="rId1"/>
          <a:stretch/>
        </p:blipFill>
        <p:spPr>
          <a:xfrm>
            <a:off x="330120" y="304920"/>
            <a:ext cx="1320840" cy="6280200"/>
          </a:xfrm>
          <a:prstGeom prst="rect">
            <a:avLst/>
          </a:prstGeom>
          <a:ln w="0">
            <a:noFill/>
          </a:ln>
        </p:spPr>
      </p:pic>
      <p:grpSp>
        <p:nvGrpSpPr>
          <p:cNvPr id="330" name=""/>
          <p:cNvGrpSpPr/>
          <p:nvPr/>
        </p:nvGrpSpPr>
        <p:grpSpPr>
          <a:xfrm>
            <a:off x="660240" y="533520"/>
            <a:ext cx="8420040" cy="75960"/>
            <a:chOff x="660240" y="533520"/>
            <a:chExt cx="8420040" cy="75960"/>
          </a:xfrm>
        </p:grpSpPr>
        <p:sp>
          <p:nvSpPr>
            <p:cNvPr id="331" name=""/>
            <p:cNvSpPr/>
            <p:nvPr/>
          </p:nvSpPr>
          <p:spPr>
            <a:xfrm>
              <a:off x="825480" y="533520"/>
              <a:ext cx="825480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60240" y="533520"/>
              <a:ext cx="8244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412920" y="1447920"/>
            <a:ext cx="9162720" cy="4162680"/>
          </a:xfrm>
          <a:prstGeom prst="rect">
            <a:avLst/>
          </a:prstGeom>
          <a:solidFill>
            <a:srgbClr val="fefad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pt-BR" sz="2400" spc="-1" strike="noStrike" u="sng">
                <a:solidFill>
                  <a:srgbClr val="003399"/>
                </a:solidFill>
                <a:uFillTx/>
                <a:latin typeface="Arial"/>
              </a:rPr>
              <a:t>Possui os seguintes elementos básicos de linguag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ooleanos (true, fal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úmeros (10, 0.0, 90.12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trings (“hello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trings pré-definidas (tab, cr (carriage return), nl (new lin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alores Enumerados (#FILE_PERM_READ,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#FILE_PERM_WR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7"/>
              </a:buBlip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ista de objetos ({“hello”, 1, myView.GetThemes, a+b}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novalogoltc" descr=""/>
          <p:cNvPicPr/>
          <p:nvPr/>
        </p:nvPicPr>
        <p:blipFill>
          <a:blip r:embed="rId8"/>
          <a:stretch/>
        </p:blipFill>
        <p:spPr>
          <a:xfrm>
            <a:off x="0" y="0"/>
            <a:ext cx="318960" cy="5335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743040" y="228600"/>
            <a:ext cx="561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UNIVERSIDADE FEDERAL DO ESPÍRITO SA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328320" y="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16E8-9DBD-40F5-912D-6A8B86C98F28}" type="slidenum"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3520" y="685800"/>
            <a:ext cx="8686800" cy="5205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Linguagem AVENUE: Principais Caracterís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fundo%20slid%20faixa" descr=""/>
          <p:cNvPicPr/>
          <p:nvPr/>
        </p:nvPicPr>
        <p:blipFill>
          <a:blip r:embed="rId1"/>
          <a:stretch/>
        </p:blipFill>
        <p:spPr>
          <a:xfrm>
            <a:off x="330120" y="304920"/>
            <a:ext cx="1320840" cy="6280200"/>
          </a:xfrm>
          <a:prstGeom prst="rect">
            <a:avLst/>
          </a:prstGeom>
          <a:ln w="0">
            <a:noFill/>
          </a:ln>
        </p:spPr>
      </p:pic>
      <p:grpSp>
        <p:nvGrpSpPr>
          <p:cNvPr id="339" name=""/>
          <p:cNvGrpSpPr/>
          <p:nvPr/>
        </p:nvGrpSpPr>
        <p:grpSpPr>
          <a:xfrm>
            <a:off x="660240" y="533520"/>
            <a:ext cx="8420040" cy="75960"/>
            <a:chOff x="660240" y="533520"/>
            <a:chExt cx="8420040" cy="75960"/>
          </a:xfrm>
        </p:grpSpPr>
        <p:sp>
          <p:nvSpPr>
            <p:cNvPr id="340" name=""/>
            <p:cNvSpPr/>
            <p:nvPr/>
          </p:nvSpPr>
          <p:spPr>
            <a:xfrm>
              <a:off x="825480" y="533520"/>
              <a:ext cx="825480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60240" y="533520"/>
              <a:ext cx="8244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412920" y="1447920"/>
            <a:ext cx="9162720" cy="4147560"/>
          </a:xfrm>
          <a:prstGeom prst="rect">
            <a:avLst/>
          </a:prstGeom>
          <a:solidFill>
            <a:srgbClr val="fefad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Arial"/>
              </a:rPr>
              <a:t>Objetos especia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Arial"/>
              </a:rPr>
              <a:t>Script em execução (sel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Arial"/>
              </a:rPr>
              <a:t>Aplicativo ArcView (a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Arial"/>
              </a:rPr>
              <a:t>Nulo (n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Arial"/>
              </a:rPr>
              <a:t>Variáveis locais (referência a um objeto); uma variável é definida pela sua primeira aparição do lado esquerdo de uma atribuição; variáveis locais têm a mesma duração que o script; variáveis locais não podem iniciar com o caracter sublinha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novalogoltc" descr=""/>
          <p:cNvPicPr/>
          <p:nvPr/>
        </p:nvPicPr>
        <p:blipFill>
          <a:blip r:embed="rId7"/>
          <a:stretch/>
        </p:blipFill>
        <p:spPr>
          <a:xfrm>
            <a:off x="0" y="0"/>
            <a:ext cx="318960" cy="5335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743040" y="228600"/>
            <a:ext cx="561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UNIVERSIDADE FEDERAL DO ESPÍRITO SA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9328320" y="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DDD3-71C4-4E07-94FB-19BEEC489803}" type="slidenum"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33520" y="685800"/>
            <a:ext cx="8686800" cy="5205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Linguagem AVENUE: Principais Caracterís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fundo%20slid%20faixa" descr=""/>
          <p:cNvPicPr/>
          <p:nvPr/>
        </p:nvPicPr>
        <p:blipFill>
          <a:blip r:embed="rId1"/>
          <a:stretch/>
        </p:blipFill>
        <p:spPr>
          <a:xfrm>
            <a:off x="330120" y="304920"/>
            <a:ext cx="1320840" cy="628020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660240" y="533520"/>
            <a:ext cx="8420040" cy="75960"/>
            <a:chOff x="660240" y="533520"/>
            <a:chExt cx="8420040" cy="75960"/>
          </a:xfrm>
        </p:grpSpPr>
        <p:sp>
          <p:nvSpPr>
            <p:cNvPr id="349" name=""/>
            <p:cNvSpPr/>
            <p:nvPr/>
          </p:nvSpPr>
          <p:spPr>
            <a:xfrm>
              <a:off x="825480" y="533520"/>
              <a:ext cx="825480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60240" y="533520"/>
              <a:ext cx="8244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412920" y="1447920"/>
            <a:ext cx="9162720" cy="3957120"/>
          </a:xfrm>
          <a:prstGeom prst="rect">
            <a:avLst/>
          </a:prstGeom>
          <a:solidFill>
            <a:srgbClr val="fefad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Arial"/>
              </a:rPr>
              <a:t>Variáveis globais (o mesmo que variáveis locais, mas sempre começam com um caracter de sublinhado; variáveis globais duram por todo o aplicativo ou até que seja executado um pedido av.ClearGloba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Arial"/>
              </a:rPr>
              <a:t>Comentários (comentários em uma linha única começam com ‘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Arial"/>
              </a:rPr>
              <a:t>Enunciados para controle de fluxo: (If...Then...Else, For Each, While, Exit, Return, Break, Contin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novalogoltc" descr=""/>
          <p:cNvPicPr/>
          <p:nvPr/>
        </p:nvPicPr>
        <p:blipFill>
          <a:blip r:embed="rId6"/>
          <a:stretch/>
        </p:blipFill>
        <p:spPr>
          <a:xfrm>
            <a:off x="0" y="0"/>
            <a:ext cx="318960" cy="5335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743040" y="228600"/>
            <a:ext cx="561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UNIVERSIDADE FEDERAL DO ESPÍRITO SA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9328320" y="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B548-DF4E-4114-91D1-6E9BAA49D34E}" type="slidenum"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3520" y="685800"/>
            <a:ext cx="8686800" cy="5205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Linguagem AVENUE: Principais Caracterís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fundo%20slid%20faixa" descr=""/>
          <p:cNvPicPr/>
          <p:nvPr/>
        </p:nvPicPr>
        <p:blipFill>
          <a:blip r:embed="rId1"/>
          <a:stretch/>
        </p:blipFill>
        <p:spPr>
          <a:xfrm>
            <a:off x="330120" y="304920"/>
            <a:ext cx="1320840" cy="6280200"/>
          </a:xfrm>
          <a:prstGeom prst="rect">
            <a:avLst/>
          </a:prstGeom>
          <a:ln w="0">
            <a:noFill/>
          </a:ln>
        </p:spPr>
      </p:pic>
      <p:pic>
        <p:nvPicPr>
          <p:cNvPr id="357" name="novalogoltc" descr=""/>
          <p:cNvPicPr/>
          <p:nvPr/>
        </p:nvPicPr>
        <p:blipFill>
          <a:blip r:embed="rId2"/>
          <a:stretch/>
        </p:blipFill>
        <p:spPr>
          <a:xfrm>
            <a:off x="0" y="0"/>
            <a:ext cx="318960" cy="53352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743040" y="228600"/>
            <a:ext cx="561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UNIVERSIDADE FEDERAL DO ESPÍRITO SA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328320" y="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2749-12A5-4625-895E-E7853339C7D3}" type="slidenum"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660240" y="533520"/>
            <a:ext cx="8170560" cy="74520"/>
            <a:chOff x="660240" y="533520"/>
            <a:chExt cx="8170560" cy="74520"/>
          </a:xfrm>
        </p:grpSpPr>
        <p:sp>
          <p:nvSpPr>
            <p:cNvPr id="361" name=""/>
            <p:cNvSpPr/>
            <p:nvPr/>
          </p:nvSpPr>
          <p:spPr>
            <a:xfrm>
              <a:off x="820440" y="533520"/>
              <a:ext cx="8010360" cy="7452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60240" y="533520"/>
              <a:ext cx="79920" cy="7452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979560" y="681120"/>
            <a:ext cx="8091720" cy="5989680"/>
            <a:chOff x="979560" y="681120"/>
            <a:chExt cx="8091720" cy="5989680"/>
          </a:xfrm>
        </p:grpSpPr>
        <p:sp>
          <p:nvSpPr>
            <p:cNvPr id="364" name=""/>
            <p:cNvSpPr/>
            <p:nvPr/>
          </p:nvSpPr>
          <p:spPr>
            <a:xfrm>
              <a:off x="4419720" y="681120"/>
              <a:ext cx="1344600" cy="1047600"/>
            </a:xfrm>
            <a:prstGeom prst="rect">
              <a:avLst/>
            </a:prstGeom>
            <a:solidFill>
              <a:srgbClr val="fefa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CÓDIG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AVEN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5" name=""/>
            <p:cNvCxnSpPr/>
            <p:nvPr/>
          </p:nvCxnSpPr>
          <p:spPr>
            <a:xfrm>
              <a:off x="5092200" y="1728360"/>
              <a:ext cx="1080" cy="45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66" name=""/>
            <p:cNvSpPr/>
            <p:nvPr/>
          </p:nvSpPr>
          <p:spPr>
            <a:xfrm>
              <a:off x="4419720" y="2178000"/>
              <a:ext cx="1344600" cy="451080"/>
            </a:xfrm>
            <a:prstGeom prst="rect">
              <a:avLst/>
            </a:prstGeom>
            <a:solidFill>
              <a:srgbClr val="fefa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SCRIPT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7" name=""/>
            <p:cNvCxnSpPr>
              <a:stCxn id="366" idx="2"/>
            </p:cNvCxnSpPr>
            <p:nvPr/>
          </p:nvCxnSpPr>
          <p:spPr>
            <a:xfrm flipV="1" rot="10800000">
              <a:off x="5091840" y="2628720"/>
              <a:ext cx="1080" cy="375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8" name=""/>
            <p:cNvCxnSpPr>
              <a:stCxn id="366" idx="1"/>
              <a:endCxn id="369" idx="0"/>
            </p:cNvCxnSpPr>
            <p:nvPr/>
          </p:nvCxnSpPr>
          <p:spPr>
            <a:xfrm flipV="1" rot="10800000">
              <a:off x="1691640" y="2402280"/>
              <a:ext cx="2728080" cy="600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</p:cxnSp>
        <p:cxnSp>
          <p:nvCxnSpPr>
            <p:cNvPr id="370" name=""/>
            <p:cNvCxnSpPr>
              <a:stCxn id="366" idx="3"/>
              <a:endCxn id="371" idx="0"/>
            </p:cNvCxnSpPr>
            <p:nvPr/>
          </p:nvCxnSpPr>
          <p:spPr>
            <a:xfrm>
              <a:off x="5763960" y="2403000"/>
              <a:ext cx="2354760" cy="600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69" name=""/>
            <p:cNvSpPr/>
            <p:nvPr/>
          </p:nvSpPr>
          <p:spPr>
            <a:xfrm>
              <a:off x="979560" y="3003480"/>
              <a:ext cx="1420920" cy="447840"/>
            </a:xfrm>
            <a:prstGeom prst="rect">
              <a:avLst/>
            </a:prstGeom>
            <a:solidFill>
              <a:srgbClr val="fefa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Ferramenta d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álculos Topográfic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270320" y="3003480"/>
              <a:ext cx="1719360" cy="447840"/>
            </a:xfrm>
            <a:prstGeom prst="rect">
              <a:avLst/>
            </a:prstGeom>
            <a:solidFill>
              <a:srgbClr val="fefa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Ferramenta d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nversão de Coordenad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10600" y="3003480"/>
              <a:ext cx="1420560" cy="447840"/>
            </a:xfrm>
            <a:prstGeom prst="rect">
              <a:avLst/>
            </a:prstGeom>
            <a:solidFill>
              <a:srgbClr val="fefa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Ferramenta d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rticulação pela CI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379520" y="4378320"/>
              <a:ext cx="1346040" cy="449280"/>
            </a:xfrm>
            <a:prstGeom prst="rect">
              <a:avLst/>
            </a:prstGeom>
            <a:solidFill>
              <a:srgbClr val="fefa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View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303720" y="3935520"/>
              <a:ext cx="1344600" cy="449280"/>
            </a:xfrm>
            <a:prstGeom prst="rect">
              <a:avLst/>
            </a:prstGeom>
            <a:solidFill>
              <a:srgbClr val="fefa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Tab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243400" y="4349880"/>
              <a:ext cx="1344600" cy="449280"/>
            </a:xfrm>
            <a:prstGeom prst="rect">
              <a:avLst/>
            </a:prstGeom>
            <a:solidFill>
              <a:srgbClr val="fefa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Layou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6" name=""/>
            <p:cNvCxnSpPr>
              <a:stCxn id="373" idx="2"/>
              <a:endCxn id="377" idx="1"/>
            </p:cNvCxnSpPr>
            <p:nvPr/>
          </p:nvCxnSpPr>
          <p:spPr>
            <a:xfrm flipH="1" rot="16200000">
              <a:off x="2352600" y="4527000"/>
              <a:ext cx="1618200" cy="2218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7" name=""/>
            <p:cNvSpPr/>
            <p:nvPr/>
          </p:nvSpPr>
          <p:spPr>
            <a:xfrm>
              <a:off x="4270320" y="6221520"/>
              <a:ext cx="1346400" cy="449280"/>
            </a:xfrm>
            <a:prstGeom prst="rect">
              <a:avLst/>
            </a:prstGeom>
            <a:solidFill>
              <a:srgbClr val="fefa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PROJET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8" name=""/>
            <p:cNvCxnSpPr>
              <a:stCxn id="375" idx="2"/>
              <a:endCxn id="377" idx="0"/>
            </p:cNvCxnSpPr>
            <p:nvPr/>
          </p:nvCxnSpPr>
          <p:spPr>
            <a:xfrm rot="5400000">
              <a:off x="4717440" y="5022720"/>
              <a:ext cx="1423080" cy="975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9" name=""/>
            <p:cNvCxnSpPr>
              <a:stCxn id="371" idx="2"/>
              <a:endCxn id="375" idx="0"/>
            </p:cNvCxnSpPr>
            <p:nvPr/>
          </p:nvCxnSpPr>
          <p:spPr>
            <a:xfrm rot="5400000">
              <a:off x="6567480" y="2799720"/>
              <a:ext cx="899280" cy="220248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0" name=""/>
            <p:cNvCxnSpPr>
              <a:stCxn id="372" idx="3"/>
              <a:endCxn id="371" idx="1"/>
            </p:cNvCxnSpPr>
            <p:nvPr/>
          </p:nvCxnSpPr>
          <p:spPr>
            <a:xfrm>
              <a:off x="5989320" y="3225600"/>
              <a:ext cx="1421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81" name=""/>
            <p:cNvCxnSpPr>
              <a:endCxn id="373" idx="0"/>
            </p:cNvCxnSpPr>
            <p:nvPr/>
          </p:nvCxnSpPr>
          <p:spPr>
            <a:xfrm flipH="1" rot="16200000">
              <a:off x="1245240" y="3570480"/>
              <a:ext cx="1183320" cy="4327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82" name=""/>
            <p:cNvCxnSpPr>
              <a:stCxn id="372" idx="1"/>
              <a:endCxn id="374" idx="0"/>
            </p:cNvCxnSpPr>
            <p:nvPr/>
          </p:nvCxnSpPr>
          <p:spPr>
            <a:xfrm flipV="1" rot="10800000">
              <a:off x="3975120" y="3226320"/>
              <a:ext cx="295560" cy="708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83" name=""/>
            <p:cNvSpPr/>
            <p:nvPr/>
          </p:nvSpPr>
          <p:spPr>
            <a:xfrm>
              <a:off x="6517440" y="2927520"/>
              <a:ext cx="831600" cy="276480"/>
            </a:xfrm>
            <a:prstGeom prst="rect">
              <a:avLst/>
            </a:prstGeom>
            <a:solidFill>
              <a:srgbClr val="fef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az uso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905200" y="3343320"/>
              <a:ext cx="593640" cy="276480"/>
            </a:xfrm>
            <a:prstGeom prst="rect">
              <a:avLst/>
            </a:prstGeom>
            <a:solidFill>
              <a:srgbClr val="fef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32920" y="3900600"/>
              <a:ext cx="831600" cy="276480"/>
            </a:xfrm>
            <a:prstGeom prst="rect">
              <a:avLst/>
            </a:prstGeom>
            <a:solidFill>
              <a:srgbClr val="fef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az uso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70800" y="3657600"/>
              <a:ext cx="560160" cy="276480"/>
            </a:xfrm>
            <a:prstGeom prst="rect">
              <a:avLst/>
            </a:prstGeom>
            <a:solidFill>
              <a:srgbClr val="fef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222720" y="4970520"/>
              <a:ext cx="1346040" cy="449280"/>
            </a:xfrm>
            <a:prstGeom prst="rect">
              <a:avLst/>
            </a:prstGeom>
            <a:solidFill>
              <a:srgbClr val="fefa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Them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8" name=""/>
            <p:cNvCxnSpPr>
              <a:stCxn id="369" idx="3"/>
              <a:endCxn id="374" idx="1"/>
            </p:cNvCxnSpPr>
            <p:nvPr/>
          </p:nvCxnSpPr>
          <p:spPr>
            <a:xfrm>
              <a:off x="2400120" y="3227400"/>
              <a:ext cx="903960" cy="932400"/>
            </a:xfrm>
            <a:prstGeom prst="bentConnector3">
              <a:avLst>
                <a:gd name="adj1" fmla="val 4988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9" name=""/>
            <p:cNvCxnSpPr>
              <a:stCxn id="369" idx="3"/>
              <a:endCxn id="387" idx="1"/>
            </p:cNvCxnSpPr>
            <p:nvPr/>
          </p:nvCxnSpPr>
          <p:spPr>
            <a:xfrm>
              <a:off x="2400480" y="3227400"/>
              <a:ext cx="822960" cy="1967760"/>
            </a:xfrm>
            <a:prstGeom prst="bentConnector3">
              <a:avLst>
                <a:gd name="adj1" fmla="val 4989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0" name=""/>
            <p:cNvSpPr/>
            <p:nvPr/>
          </p:nvSpPr>
          <p:spPr>
            <a:xfrm>
              <a:off x="2925720" y="4525920"/>
              <a:ext cx="593640" cy="276480"/>
            </a:xfrm>
            <a:prstGeom prst="rect">
              <a:avLst/>
            </a:prstGeom>
            <a:solidFill>
              <a:srgbClr val="fef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1" name=""/>
            <p:cNvCxnSpPr>
              <a:stCxn id="373" idx="2"/>
              <a:endCxn id="387" idx="2"/>
            </p:cNvCxnSpPr>
            <p:nvPr/>
          </p:nvCxnSpPr>
          <p:spPr>
            <a:xfrm flipH="1" rot="16200000">
              <a:off x="2676240" y="4202640"/>
              <a:ext cx="592920" cy="1842120"/>
            </a:xfrm>
            <a:prstGeom prst="bentConnector3">
              <a:avLst>
                <a:gd name="adj1" fmla="val 13748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2" name=""/>
            <p:cNvCxnSpPr>
              <a:stCxn id="371" idx="3"/>
              <a:endCxn id="387" idx="3"/>
            </p:cNvCxnSpPr>
            <p:nvPr/>
          </p:nvCxnSpPr>
          <p:spPr>
            <a:xfrm flipH="1">
              <a:off x="4568400" y="3227400"/>
              <a:ext cx="4263120" cy="1967760"/>
            </a:xfrm>
            <a:prstGeom prst="bentConnector3">
              <a:avLst>
                <a:gd name="adj1" fmla="val -563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3" name=""/>
            <p:cNvSpPr/>
            <p:nvPr/>
          </p:nvSpPr>
          <p:spPr>
            <a:xfrm>
              <a:off x="8454960" y="3786120"/>
              <a:ext cx="593640" cy="276480"/>
            </a:xfrm>
            <a:prstGeom prst="rect">
              <a:avLst/>
            </a:prstGeom>
            <a:solidFill>
              <a:srgbClr val="fef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4" name=""/>
            <p:cNvCxnSpPr>
              <a:stCxn id="374" idx="3"/>
              <a:endCxn id="375" idx="1"/>
            </p:cNvCxnSpPr>
            <p:nvPr/>
          </p:nvCxnSpPr>
          <p:spPr>
            <a:xfrm>
              <a:off x="4647960" y="4158720"/>
              <a:ext cx="595800" cy="4150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5" name=""/>
            <p:cNvCxnSpPr>
              <a:stCxn id="374" idx="3"/>
              <a:endCxn id="377" idx="0"/>
            </p:cNvCxnSpPr>
            <p:nvPr/>
          </p:nvCxnSpPr>
          <p:spPr>
            <a:xfrm>
              <a:off x="4648320" y="4158720"/>
              <a:ext cx="295560" cy="2063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fundo%20slid%20faixa" descr=""/>
          <p:cNvPicPr/>
          <p:nvPr/>
        </p:nvPicPr>
        <p:blipFill>
          <a:blip r:embed="rId1"/>
          <a:stretch/>
        </p:blipFill>
        <p:spPr>
          <a:xfrm>
            <a:off x="330120" y="304920"/>
            <a:ext cx="1320840" cy="6280200"/>
          </a:xfrm>
          <a:prstGeom prst="rect">
            <a:avLst/>
          </a:prstGeom>
          <a:ln w="0">
            <a:noFill/>
          </a:ln>
        </p:spPr>
      </p:pic>
      <p:grpSp>
        <p:nvGrpSpPr>
          <p:cNvPr id="397" name=""/>
          <p:cNvGrpSpPr/>
          <p:nvPr/>
        </p:nvGrpSpPr>
        <p:grpSpPr>
          <a:xfrm>
            <a:off x="660240" y="533520"/>
            <a:ext cx="8420040" cy="75960"/>
            <a:chOff x="660240" y="533520"/>
            <a:chExt cx="8420040" cy="75960"/>
          </a:xfrm>
        </p:grpSpPr>
        <p:sp>
          <p:nvSpPr>
            <p:cNvPr id="398" name=""/>
            <p:cNvSpPr/>
            <p:nvPr/>
          </p:nvSpPr>
          <p:spPr>
            <a:xfrm>
              <a:off x="825480" y="533520"/>
              <a:ext cx="825480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60240" y="533520"/>
              <a:ext cx="8244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0" name="novalogoltc" descr=""/>
          <p:cNvPicPr/>
          <p:nvPr/>
        </p:nvPicPr>
        <p:blipFill>
          <a:blip r:embed="rId2"/>
          <a:stretch/>
        </p:blipFill>
        <p:spPr>
          <a:xfrm>
            <a:off x="0" y="0"/>
            <a:ext cx="318960" cy="5335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743040" y="228600"/>
            <a:ext cx="561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UNIVERSIDADE FEDERAL DO ESPÍRITO SA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328320" y="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975E-95AC-49D3-818C-F76C4E13EBFB}" type="slidenum"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171880" y="-719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71800" y="22194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447920" y="685800"/>
            <a:ext cx="6534000" cy="5205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Ferramentas Implement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IntserviçosProp" descr=""/>
          <p:cNvPicPr/>
          <p:nvPr/>
        </p:nvPicPr>
        <p:blipFill>
          <a:blip r:embed="rId3"/>
          <a:stretch/>
        </p:blipFill>
        <p:spPr>
          <a:xfrm>
            <a:off x="3327480" y="1731960"/>
            <a:ext cx="6273720" cy="38307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412920" y="1593720"/>
            <a:ext cx="2374560" cy="2466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rramen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álcu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ográ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941640" y="0"/>
            <a:ext cx="56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 de Propriedades de Serviç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fundo%20slid%20faixa" descr=""/>
          <p:cNvPicPr/>
          <p:nvPr/>
        </p:nvPicPr>
        <p:blipFill>
          <a:blip r:embed="rId1"/>
          <a:stretch/>
        </p:blipFill>
        <p:spPr>
          <a:xfrm>
            <a:off x="330120" y="304920"/>
            <a:ext cx="1320840" cy="6280200"/>
          </a:xfrm>
          <a:prstGeom prst="rect">
            <a:avLst/>
          </a:prstGeom>
          <a:ln w="0">
            <a:noFill/>
          </a:ln>
        </p:spPr>
      </p:pic>
      <p:grpSp>
        <p:nvGrpSpPr>
          <p:cNvPr id="410" name=""/>
          <p:cNvGrpSpPr/>
          <p:nvPr/>
        </p:nvGrpSpPr>
        <p:grpSpPr>
          <a:xfrm>
            <a:off x="660240" y="533520"/>
            <a:ext cx="8420040" cy="75960"/>
            <a:chOff x="660240" y="533520"/>
            <a:chExt cx="8420040" cy="75960"/>
          </a:xfrm>
        </p:grpSpPr>
        <p:sp>
          <p:nvSpPr>
            <p:cNvPr id="411" name=""/>
            <p:cNvSpPr/>
            <p:nvPr/>
          </p:nvSpPr>
          <p:spPr>
            <a:xfrm>
              <a:off x="825480" y="533520"/>
              <a:ext cx="825480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60240" y="533520"/>
              <a:ext cx="8244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3" name="novalogoltc" descr=""/>
          <p:cNvPicPr/>
          <p:nvPr/>
        </p:nvPicPr>
        <p:blipFill>
          <a:blip r:embed="rId2"/>
          <a:stretch/>
        </p:blipFill>
        <p:spPr>
          <a:xfrm>
            <a:off x="0" y="0"/>
            <a:ext cx="318960" cy="5335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743040" y="228600"/>
            <a:ext cx="561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UNIVERSIDADE FEDERAL DO ESPÍRITO SA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328320" y="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84A2-7CE7-4458-83FA-289E2FDF9918}" type="slidenum"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171880" y="-719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971800" y="22194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127400" y="0"/>
            <a:ext cx="53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face de Entrada de D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65240" y="14572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InterfGeral" descr=""/>
          <p:cNvPicPr/>
          <p:nvPr/>
        </p:nvPicPr>
        <p:blipFill>
          <a:blip r:embed="rId3"/>
          <a:stretch/>
        </p:blipFill>
        <p:spPr>
          <a:xfrm>
            <a:off x="2600280" y="1149480"/>
            <a:ext cx="7264440" cy="47941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139680" y="776160"/>
            <a:ext cx="2374920" cy="2466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rramen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álcu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ográ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806560" y="838080"/>
            <a:ext cx="6851880" cy="601992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fundo%20slid%20faixa" descr=""/>
          <p:cNvPicPr/>
          <p:nvPr/>
        </p:nvPicPr>
        <p:blipFill>
          <a:blip r:embed="rId1"/>
          <a:stretch/>
        </p:blipFill>
        <p:spPr>
          <a:xfrm>
            <a:off x="330120" y="304920"/>
            <a:ext cx="1320840" cy="6280200"/>
          </a:xfrm>
          <a:prstGeom prst="rect">
            <a:avLst/>
          </a:prstGeom>
          <a:ln w="0">
            <a:noFill/>
          </a:ln>
        </p:spPr>
      </p:pic>
      <p:grpSp>
        <p:nvGrpSpPr>
          <p:cNvPr id="424" name=""/>
          <p:cNvGrpSpPr/>
          <p:nvPr/>
        </p:nvGrpSpPr>
        <p:grpSpPr>
          <a:xfrm>
            <a:off x="660240" y="533520"/>
            <a:ext cx="8420040" cy="75960"/>
            <a:chOff x="660240" y="533520"/>
            <a:chExt cx="8420040" cy="75960"/>
          </a:xfrm>
        </p:grpSpPr>
        <p:sp>
          <p:nvSpPr>
            <p:cNvPr id="425" name=""/>
            <p:cNvSpPr/>
            <p:nvPr/>
          </p:nvSpPr>
          <p:spPr>
            <a:xfrm>
              <a:off x="825480" y="533520"/>
              <a:ext cx="825480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60240" y="533520"/>
              <a:ext cx="8244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7" name="novalogoltc" descr=""/>
          <p:cNvPicPr/>
          <p:nvPr/>
        </p:nvPicPr>
        <p:blipFill>
          <a:blip r:embed="rId2"/>
          <a:stretch/>
        </p:blipFill>
        <p:spPr>
          <a:xfrm>
            <a:off x="0" y="0"/>
            <a:ext cx="318960" cy="5335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743040" y="228600"/>
            <a:ext cx="561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UNIVERSIDADE FEDERAL DO ESPÍRITO SA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328320" y="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A750-D16E-4D5C-9DD3-F626335CADF9}" type="slidenum"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171880" y="-719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2889360" y="949320"/>
            <a:ext cx="6603840" cy="5908680"/>
            <a:chOff x="2889360" y="949320"/>
            <a:chExt cx="6603840" cy="5908680"/>
          </a:xfrm>
        </p:grpSpPr>
        <p:grpSp>
          <p:nvGrpSpPr>
            <p:cNvPr id="432" name=""/>
            <p:cNvGrpSpPr/>
            <p:nvPr/>
          </p:nvGrpSpPr>
          <p:grpSpPr>
            <a:xfrm>
              <a:off x="3024360" y="949320"/>
              <a:ext cx="1745640" cy="361440"/>
              <a:chOff x="3024360" y="949320"/>
              <a:chExt cx="1745640" cy="361440"/>
            </a:xfrm>
          </p:grpSpPr>
          <p:sp>
            <p:nvSpPr>
              <p:cNvPr id="433" name=""/>
              <p:cNvSpPr/>
              <p:nvPr/>
            </p:nvSpPr>
            <p:spPr>
              <a:xfrm>
                <a:off x="3024360" y="949320"/>
                <a:ext cx="1745640" cy="2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024360" y="949320"/>
                <a:ext cx="2160" cy="359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024360" y="1308600"/>
                <a:ext cx="1745640" cy="2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3056040" y="1000080"/>
              <a:ext cx="1714320" cy="2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87400" y="1047600"/>
              <a:ext cx="614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marraçõ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2987640" y="1616040"/>
              <a:ext cx="1749240" cy="499320"/>
              <a:chOff x="2987640" y="1616040"/>
              <a:chExt cx="1749240" cy="499320"/>
            </a:xfrm>
          </p:grpSpPr>
          <p:sp>
            <p:nvSpPr>
              <p:cNvPr id="439" name=""/>
              <p:cNvSpPr/>
              <p:nvPr/>
            </p:nvSpPr>
            <p:spPr>
              <a:xfrm>
                <a:off x="2987640" y="1616040"/>
                <a:ext cx="1749240" cy="2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987640" y="1616040"/>
                <a:ext cx="2160" cy="496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987640" y="2112840"/>
                <a:ext cx="1749240" cy="2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>
              <a:off x="3024360" y="1665360"/>
              <a:ext cx="1712880" cy="35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150360" y="1706400"/>
              <a:ext cx="1665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abela de Entrada de Dado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istância, Deflexões e Azimu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49600" y="185112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548320" y="949320"/>
              <a:ext cx="1360440" cy="12556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931000" y="1311120"/>
              <a:ext cx="54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álculo 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964480" y="1460520"/>
              <a:ext cx="48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zimu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770360" y="1128600"/>
              <a:ext cx="777240" cy="283680"/>
              <a:chOff x="4770360" y="1128600"/>
              <a:chExt cx="777240" cy="283680"/>
            </a:xfrm>
          </p:grpSpPr>
          <p:sp>
            <p:nvSpPr>
              <p:cNvPr id="449" name=""/>
              <p:cNvSpPr/>
              <p:nvPr/>
            </p:nvSpPr>
            <p:spPr>
              <a:xfrm>
                <a:off x="4770360" y="1128600"/>
                <a:ext cx="686520" cy="235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429520" y="1318680"/>
                <a:ext cx="118080" cy="93600"/>
              </a:xfrm>
              <a:custGeom>
                <a:avLst/>
                <a:gdLst/>
                <a:ahLst/>
                <a:rect l="l" t="t" r="r" b="b"/>
                <a:pathLst>
                  <a:path w="43" h="37">
                    <a:moveTo>
                      <a:pt x="0" y="37"/>
                    </a:moveTo>
                    <a:lnTo>
                      <a:pt x="43" y="31"/>
                    </a:lnTo>
                    <a:lnTo>
                      <a:pt x="13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4770360" y="1654200"/>
              <a:ext cx="777240" cy="279720"/>
              <a:chOff x="4770360" y="1654200"/>
              <a:chExt cx="777240" cy="279720"/>
            </a:xfrm>
          </p:grpSpPr>
          <p:sp>
            <p:nvSpPr>
              <p:cNvPr id="452" name=""/>
              <p:cNvSpPr/>
              <p:nvPr/>
            </p:nvSpPr>
            <p:spPr>
              <a:xfrm flipV="1">
                <a:off x="4770360" y="1698840"/>
                <a:ext cx="686520" cy="235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429520" y="1654200"/>
                <a:ext cx="118080" cy="93240"/>
              </a:xfrm>
              <a:custGeom>
                <a:avLst/>
                <a:gdLst/>
                <a:ahLst/>
                <a:rect l="l" t="t" r="r" b="b"/>
                <a:pathLst>
                  <a:path w="43" h="37">
                    <a:moveTo>
                      <a:pt x="14" y="37"/>
                    </a:moveTo>
                    <a:lnTo>
                      <a:pt x="43" y="5"/>
                    </a:lnTo>
                    <a:lnTo>
                      <a:pt x="0" y="0"/>
                    </a:lnTo>
                    <a:lnTo>
                      <a:pt x="14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6907320" y="1577880"/>
              <a:ext cx="774000" cy="281880"/>
              <a:chOff x="6907320" y="1577880"/>
              <a:chExt cx="774000" cy="281880"/>
            </a:xfrm>
          </p:grpSpPr>
          <p:sp>
            <p:nvSpPr>
              <p:cNvPr id="455" name=""/>
              <p:cNvSpPr/>
              <p:nvPr/>
            </p:nvSpPr>
            <p:spPr>
              <a:xfrm>
                <a:off x="6907320" y="1577880"/>
                <a:ext cx="683640" cy="234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566120" y="1766880"/>
                <a:ext cx="115200" cy="92880"/>
              </a:xfrm>
              <a:custGeom>
                <a:avLst/>
                <a:gdLst/>
                <a:ahLst/>
                <a:rect l="l" t="t" r="r" b="b"/>
                <a:pathLst>
                  <a:path w="42" h="37">
                    <a:moveTo>
                      <a:pt x="0" y="37"/>
                    </a:moveTo>
                    <a:lnTo>
                      <a:pt x="42" y="31"/>
                    </a:lnTo>
                    <a:lnTo>
                      <a:pt x="13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7745400" y="1703520"/>
              <a:ext cx="1747440" cy="501120"/>
              <a:chOff x="7745400" y="1703520"/>
              <a:chExt cx="1747440" cy="501120"/>
            </a:xfrm>
          </p:grpSpPr>
          <p:sp>
            <p:nvSpPr>
              <p:cNvPr id="458" name=""/>
              <p:cNvSpPr/>
              <p:nvPr/>
            </p:nvSpPr>
            <p:spPr>
              <a:xfrm>
                <a:off x="7745400" y="1703520"/>
                <a:ext cx="1747440" cy="2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745400" y="1703520"/>
                <a:ext cx="2160" cy="498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745400" y="2202480"/>
                <a:ext cx="1747440" cy="2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7781760" y="1754280"/>
              <a:ext cx="171144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924320" y="1797120"/>
              <a:ext cx="1334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zimutes Calculados pa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986960" y="1940040"/>
              <a:ext cx="1222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oligonal e Amarraçõ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548320" y="2471760"/>
              <a:ext cx="1360440" cy="12556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899680" y="283068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rreção 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964480" y="2979720"/>
              <a:ext cx="48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zimu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6907320" y="2203560"/>
              <a:ext cx="773640" cy="715320"/>
              <a:chOff x="6907320" y="2203560"/>
              <a:chExt cx="773640" cy="715320"/>
            </a:xfrm>
          </p:grpSpPr>
          <p:sp>
            <p:nvSpPr>
              <p:cNvPr id="468" name=""/>
              <p:cNvSpPr/>
              <p:nvPr/>
            </p:nvSpPr>
            <p:spPr>
              <a:xfrm flipH="1">
                <a:off x="6975000" y="2203560"/>
                <a:ext cx="705960" cy="651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907320" y="2812320"/>
                <a:ext cx="109080" cy="106560"/>
              </a:xfrm>
              <a:custGeom>
                <a:avLst/>
                <a:gdLst/>
                <a:ahLst/>
                <a:rect l="l" t="t" r="r" b="b"/>
                <a:pathLst>
                  <a:path w="40" h="42">
                    <a:moveTo>
                      <a:pt x="13" y="0"/>
                    </a:moveTo>
                    <a:lnTo>
                      <a:pt x="0" y="42"/>
                    </a:lnTo>
                    <a:lnTo>
                      <a:pt x="40" y="2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3083040" y="3494160"/>
              <a:ext cx="1748880" cy="499680"/>
              <a:chOff x="3083040" y="3494160"/>
              <a:chExt cx="1748880" cy="499680"/>
            </a:xfrm>
          </p:grpSpPr>
          <p:sp>
            <p:nvSpPr>
              <p:cNvPr id="471" name=""/>
              <p:cNvSpPr/>
              <p:nvPr/>
            </p:nvSpPr>
            <p:spPr>
              <a:xfrm>
                <a:off x="3083040" y="3494160"/>
                <a:ext cx="1748880" cy="2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083040" y="3494160"/>
                <a:ext cx="2160" cy="497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083040" y="3991680"/>
                <a:ext cx="1748880" cy="2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3119400" y="3544920"/>
              <a:ext cx="1712880" cy="35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276720" y="3586320"/>
              <a:ext cx="1314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zimutes Corrigidos pa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327840" y="3730680"/>
              <a:ext cx="1222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oligonal e Amarraçõ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4964040" y="3097080"/>
              <a:ext cx="583200" cy="625320"/>
              <a:chOff x="4964040" y="3097080"/>
              <a:chExt cx="583200" cy="625320"/>
            </a:xfrm>
          </p:grpSpPr>
          <p:sp>
            <p:nvSpPr>
              <p:cNvPr id="478" name=""/>
              <p:cNvSpPr/>
              <p:nvPr/>
            </p:nvSpPr>
            <p:spPr>
              <a:xfrm flipH="1">
                <a:off x="5026320" y="3097080"/>
                <a:ext cx="520920" cy="561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964040" y="3619080"/>
                <a:ext cx="106920" cy="103320"/>
              </a:xfrm>
              <a:custGeom>
                <a:avLst/>
                <a:gdLst/>
                <a:ahLst/>
                <a:rect l="l" t="t" r="r" b="b"/>
                <a:pathLst>
                  <a:path w="39" h="41">
                    <a:moveTo>
                      <a:pt x="10" y="0"/>
                    </a:moveTo>
                    <a:lnTo>
                      <a:pt x="0" y="41"/>
                    </a:lnTo>
                    <a:lnTo>
                      <a:pt x="39" y="2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0" name=""/>
            <p:cNvSpPr/>
            <p:nvPr/>
          </p:nvSpPr>
          <p:spPr>
            <a:xfrm>
              <a:off x="5548320" y="3990960"/>
              <a:ext cx="1360440" cy="12556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928480" y="4138560"/>
              <a:ext cx="55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álculo 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903640" y="427824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umo e d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872320" y="4422600"/>
              <a:ext cx="66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ordenad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006240" y="457200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arcia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4964040" y="3813120"/>
              <a:ext cx="583560" cy="625320"/>
              <a:chOff x="4964040" y="3813120"/>
              <a:chExt cx="583560" cy="625320"/>
            </a:xfrm>
          </p:grpSpPr>
          <p:sp>
            <p:nvSpPr>
              <p:cNvPr id="486" name=""/>
              <p:cNvSpPr/>
              <p:nvPr/>
            </p:nvSpPr>
            <p:spPr>
              <a:xfrm>
                <a:off x="4964040" y="3813120"/>
                <a:ext cx="520560" cy="559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437800" y="4335120"/>
                <a:ext cx="109800" cy="103320"/>
              </a:xfrm>
              <a:custGeom>
                <a:avLst/>
                <a:gdLst/>
                <a:ahLst/>
                <a:rect l="l" t="t" r="r" b="b"/>
                <a:pathLst>
                  <a:path w="40" h="41">
                    <a:moveTo>
                      <a:pt x="0" y="26"/>
                    </a:moveTo>
                    <a:lnTo>
                      <a:pt x="40" y="41"/>
                    </a:lnTo>
                    <a:lnTo>
                      <a:pt x="29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7745400" y="4208400"/>
              <a:ext cx="1747440" cy="501480"/>
              <a:chOff x="7745400" y="4208400"/>
              <a:chExt cx="1747440" cy="501480"/>
            </a:xfrm>
          </p:grpSpPr>
          <p:sp>
            <p:nvSpPr>
              <p:cNvPr id="489" name=""/>
              <p:cNvSpPr/>
              <p:nvPr/>
            </p:nvSpPr>
            <p:spPr>
              <a:xfrm>
                <a:off x="7745400" y="4208400"/>
                <a:ext cx="1747440" cy="2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745400" y="4208400"/>
                <a:ext cx="2160" cy="499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745400" y="4707720"/>
                <a:ext cx="1747440" cy="2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7781760" y="4259160"/>
              <a:ext cx="171144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920000" y="4302000"/>
              <a:ext cx="134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ordenadas Parciais pa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986960" y="4444920"/>
              <a:ext cx="1222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oligonal e Amarraçõ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7004160" y="4421160"/>
              <a:ext cx="677160" cy="198000"/>
              <a:chOff x="7004160" y="4421160"/>
              <a:chExt cx="677160" cy="198000"/>
            </a:xfrm>
          </p:grpSpPr>
          <p:sp>
            <p:nvSpPr>
              <p:cNvPr id="496" name=""/>
              <p:cNvSpPr/>
              <p:nvPr/>
            </p:nvSpPr>
            <p:spPr>
              <a:xfrm flipV="1">
                <a:off x="7004160" y="4466520"/>
                <a:ext cx="584280" cy="152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569000" y="4421160"/>
                <a:ext cx="112320" cy="93600"/>
              </a:xfrm>
              <a:custGeom>
                <a:avLst/>
                <a:gdLst/>
                <a:ahLst/>
                <a:rect l="l" t="t" r="r" b="b"/>
                <a:pathLst>
                  <a:path w="41" h="37">
                    <a:moveTo>
                      <a:pt x="11" y="37"/>
                    </a:moveTo>
                    <a:lnTo>
                      <a:pt x="41" y="7"/>
                    </a:lnTo>
                    <a:lnTo>
                      <a:pt x="0" y="0"/>
                    </a:lnTo>
                    <a:lnTo>
                      <a:pt x="1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>
              <a:off x="5548320" y="5602320"/>
              <a:ext cx="1360440" cy="12556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03640" y="5819760"/>
              <a:ext cx="604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álculo d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833440" y="5964120"/>
              <a:ext cx="735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omatórios N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876280" y="6103800"/>
              <a:ext cx="24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, 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141240" y="6103800"/>
              <a:ext cx="40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 W d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872320" y="6248520"/>
              <a:ext cx="66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ordenad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006240" y="639756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arcia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6907320" y="4795920"/>
              <a:ext cx="873720" cy="1164960"/>
              <a:chOff x="6907320" y="4795920"/>
              <a:chExt cx="873720" cy="1164960"/>
            </a:xfrm>
          </p:grpSpPr>
          <p:sp>
            <p:nvSpPr>
              <p:cNvPr id="506" name=""/>
              <p:cNvSpPr/>
              <p:nvPr/>
            </p:nvSpPr>
            <p:spPr>
              <a:xfrm flipH="1">
                <a:off x="6958800" y="4795920"/>
                <a:ext cx="822240" cy="1091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907320" y="5851800"/>
                <a:ext cx="101160" cy="109080"/>
              </a:xfrm>
              <a:custGeom>
                <a:avLst/>
                <a:gdLst/>
                <a:ahLst/>
                <a:rect l="l" t="t" r="r" b="b"/>
                <a:pathLst>
                  <a:path w="37" h="43">
                    <a:moveTo>
                      <a:pt x="5" y="0"/>
                    </a:moveTo>
                    <a:lnTo>
                      <a:pt x="0" y="43"/>
                    </a:lnTo>
                    <a:lnTo>
                      <a:pt x="37" y="2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4770360" y="5334120"/>
              <a:ext cx="777240" cy="446760"/>
              <a:chOff x="4770360" y="5334120"/>
              <a:chExt cx="777240" cy="446760"/>
            </a:xfrm>
          </p:grpSpPr>
          <p:sp>
            <p:nvSpPr>
              <p:cNvPr id="509" name=""/>
              <p:cNvSpPr/>
              <p:nvPr/>
            </p:nvSpPr>
            <p:spPr>
              <a:xfrm flipH="1" flipV="1">
                <a:off x="4849920" y="5379120"/>
                <a:ext cx="697680" cy="40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70360" y="5334120"/>
                <a:ext cx="115200" cy="93240"/>
              </a:xfrm>
              <a:custGeom>
                <a:avLst/>
                <a:gdLst/>
                <a:ahLst/>
                <a:rect l="l" t="t" r="r" b="b"/>
                <a:pathLst>
                  <a:path w="42" h="37">
                    <a:moveTo>
                      <a:pt x="42" y="4"/>
                    </a:moveTo>
                    <a:lnTo>
                      <a:pt x="0" y="0"/>
                    </a:lnTo>
                    <a:lnTo>
                      <a:pt x="22" y="37"/>
                    </a:lnTo>
                    <a:lnTo>
                      <a:pt x="4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4770360" y="5952960"/>
              <a:ext cx="677160" cy="275400"/>
              <a:chOff x="4770360" y="5952960"/>
              <a:chExt cx="677160" cy="275400"/>
            </a:xfrm>
          </p:grpSpPr>
          <p:sp>
            <p:nvSpPr>
              <p:cNvPr id="512" name=""/>
              <p:cNvSpPr/>
              <p:nvPr/>
            </p:nvSpPr>
            <p:spPr>
              <a:xfrm flipH="1" flipV="1">
                <a:off x="4857840" y="5998320"/>
                <a:ext cx="589680" cy="230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770360" y="5952960"/>
                <a:ext cx="114840" cy="910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0"/>
                    </a:moveTo>
                    <a:lnTo>
                      <a:pt x="0" y="3"/>
                    </a:lnTo>
                    <a:lnTo>
                      <a:pt x="27" y="36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2925720" y="4976640"/>
              <a:ext cx="1746000" cy="501480"/>
              <a:chOff x="2925720" y="4976640"/>
              <a:chExt cx="1746000" cy="501480"/>
            </a:xfrm>
          </p:grpSpPr>
          <p:sp>
            <p:nvSpPr>
              <p:cNvPr id="515" name=""/>
              <p:cNvSpPr/>
              <p:nvPr/>
            </p:nvSpPr>
            <p:spPr>
              <a:xfrm>
                <a:off x="2925720" y="4976640"/>
                <a:ext cx="1746000" cy="2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925720" y="4976640"/>
                <a:ext cx="2880" cy="499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925720" y="5475960"/>
                <a:ext cx="1746000" cy="2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8" name=""/>
            <p:cNvSpPr/>
            <p:nvPr/>
          </p:nvSpPr>
          <p:spPr>
            <a:xfrm>
              <a:off x="2957400" y="5029200"/>
              <a:ext cx="171468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205800" y="5075280"/>
              <a:ext cx="114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omatório Norte e Su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2889360" y="5641920"/>
              <a:ext cx="1747440" cy="499320"/>
              <a:chOff x="2889360" y="5641920"/>
              <a:chExt cx="1747440" cy="499320"/>
            </a:xfrm>
          </p:grpSpPr>
          <p:sp>
            <p:nvSpPr>
              <p:cNvPr id="521" name=""/>
              <p:cNvSpPr/>
              <p:nvPr/>
            </p:nvSpPr>
            <p:spPr>
              <a:xfrm>
                <a:off x="2889360" y="5641920"/>
                <a:ext cx="1747440" cy="2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889360" y="5641920"/>
                <a:ext cx="2160" cy="496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889360" y="6138720"/>
                <a:ext cx="1747440" cy="2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>
              <a:off x="2925720" y="5692680"/>
              <a:ext cx="1711440" cy="35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16880" y="5740560"/>
              <a:ext cx="124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omatório Leste e Oes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5695920" y="0"/>
            <a:ext cx="115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39680" y="776160"/>
            <a:ext cx="2374920" cy="2466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rramen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álcu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ográ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2666880" y="609480"/>
            <a:ext cx="6934320" cy="6248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fundo%20slid%20faixa" descr=""/>
          <p:cNvPicPr/>
          <p:nvPr/>
        </p:nvPicPr>
        <p:blipFill>
          <a:blip r:embed="rId1"/>
          <a:stretch/>
        </p:blipFill>
        <p:spPr>
          <a:xfrm>
            <a:off x="330120" y="304920"/>
            <a:ext cx="1320840" cy="6280200"/>
          </a:xfrm>
          <a:prstGeom prst="rect">
            <a:avLst/>
          </a:prstGeom>
          <a:ln w="0">
            <a:noFill/>
          </a:ln>
        </p:spPr>
      </p:pic>
      <p:grpSp>
        <p:nvGrpSpPr>
          <p:cNvPr id="530" name=""/>
          <p:cNvGrpSpPr/>
          <p:nvPr/>
        </p:nvGrpSpPr>
        <p:grpSpPr>
          <a:xfrm>
            <a:off x="660240" y="533520"/>
            <a:ext cx="8420040" cy="75960"/>
            <a:chOff x="660240" y="533520"/>
            <a:chExt cx="8420040" cy="75960"/>
          </a:xfrm>
        </p:grpSpPr>
        <p:sp>
          <p:nvSpPr>
            <p:cNvPr id="531" name=""/>
            <p:cNvSpPr/>
            <p:nvPr/>
          </p:nvSpPr>
          <p:spPr>
            <a:xfrm>
              <a:off x="825480" y="533520"/>
              <a:ext cx="825480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60240" y="533520"/>
              <a:ext cx="8244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3" name="novalogoltc" descr=""/>
          <p:cNvPicPr/>
          <p:nvPr/>
        </p:nvPicPr>
        <p:blipFill>
          <a:blip r:embed="rId2"/>
          <a:stretch/>
        </p:blipFill>
        <p:spPr>
          <a:xfrm>
            <a:off x="0" y="0"/>
            <a:ext cx="318960" cy="53352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743040" y="228600"/>
            <a:ext cx="561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UNIVERSIDADE FEDERAL DO ESPÍRITO SA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9328320" y="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A07B-8FBD-43CC-98C6-84795AB4F763}" type="slidenum"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39680" y="776160"/>
            <a:ext cx="2374920" cy="2466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rramen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álcu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ográ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2889360" y="685800"/>
            <a:ext cx="6356160" cy="5943600"/>
            <a:chOff x="2889360" y="685800"/>
            <a:chExt cx="6356160" cy="5943600"/>
          </a:xfrm>
        </p:grpSpPr>
        <p:grpSp>
          <p:nvGrpSpPr>
            <p:cNvPr id="538" name=""/>
            <p:cNvGrpSpPr/>
            <p:nvPr/>
          </p:nvGrpSpPr>
          <p:grpSpPr>
            <a:xfrm>
              <a:off x="2889360" y="685800"/>
              <a:ext cx="6356160" cy="5181480"/>
              <a:chOff x="2889360" y="685800"/>
              <a:chExt cx="6356160" cy="5181480"/>
            </a:xfrm>
          </p:grpSpPr>
          <p:grpSp>
            <p:nvGrpSpPr>
              <p:cNvPr id="539" name=""/>
              <p:cNvGrpSpPr/>
              <p:nvPr/>
            </p:nvGrpSpPr>
            <p:grpSpPr>
              <a:xfrm>
                <a:off x="2889360" y="685800"/>
                <a:ext cx="6356160" cy="4572000"/>
                <a:chOff x="2889360" y="685800"/>
                <a:chExt cx="6356160" cy="4572000"/>
              </a:xfrm>
            </p:grpSpPr>
            <p:grpSp>
              <p:nvGrpSpPr>
                <p:cNvPr id="540" name=""/>
                <p:cNvGrpSpPr/>
                <p:nvPr/>
              </p:nvGrpSpPr>
              <p:grpSpPr>
                <a:xfrm>
                  <a:off x="2889360" y="685800"/>
                  <a:ext cx="1640880" cy="531000"/>
                  <a:chOff x="2889360" y="685800"/>
                  <a:chExt cx="1640880" cy="53100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2889360" y="685800"/>
                    <a:ext cx="1640880" cy="28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2889360" y="685800"/>
                    <a:ext cx="2880" cy="5288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2889360" y="1214640"/>
                    <a:ext cx="1640880" cy="21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4" name=""/>
                <p:cNvSpPr/>
                <p:nvPr/>
              </p:nvSpPr>
              <p:spPr>
                <a:xfrm>
                  <a:off x="2922480" y="739800"/>
                  <a:ext cx="1609920" cy="380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3157200" y="790560"/>
                  <a:ext cx="1142280" cy="152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Somatório Norte e Su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6" name=""/>
                <p:cNvGrpSpPr/>
                <p:nvPr/>
              </p:nvGrpSpPr>
              <p:grpSpPr>
                <a:xfrm>
                  <a:off x="2889360" y="1352520"/>
                  <a:ext cx="1640880" cy="528120"/>
                  <a:chOff x="2889360" y="1352520"/>
                  <a:chExt cx="1640880" cy="52812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>
                    <a:off x="2889360" y="1352520"/>
                    <a:ext cx="1640880" cy="21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2889360" y="1352520"/>
                    <a:ext cx="2880" cy="5252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2889360" y="1877760"/>
                    <a:ext cx="1640880" cy="28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0" name=""/>
                <p:cNvSpPr/>
                <p:nvPr/>
              </p:nvSpPr>
              <p:spPr>
                <a:xfrm>
                  <a:off x="2922480" y="1405080"/>
                  <a:ext cx="1609920" cy="379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105720" y="1454040"/>
                  <a:ext cx="1245960" cy="152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Somatório Leste e Oest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2" name=""/>
                <p:cNvGrpSpPr/>
                <p:nvPr/>
              </p:nvGrpSpPr>
              <p:grpSpPr>
                <a:xfrm>
                  <a:off x="2922480" y="1974960"/>
                  <a:ext cx="1641240" cy="529560"/>
                  <a:chOff x="2922480" y="1974960"/>
                  <a:chExt cx="1641240" cy="52956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>
                    <a:off x="2922480" y="1974960"/>
                    <a:ext cx="1641240" cy="21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2922480" y="1974960"/>
                    <a:ext cx="2160" cy="5266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2922480" y="2501640"/>
                    <a:ext cx="1641240" cy="28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6" name=""/>
                <p:cNvSpPr/>
                <p:nvPr/>
              </p:nvSpPr>
              <p:spPr>
                <a:xfrm>
                  <a:off x="2955960" y="2028960"/>
                  <a:ext cx="1608120" cy="379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084480" y="2071800"/>
                  <a:ext cx="1349640" cy="152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Coordenadas Parciais par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150000" y="2225520"/>
                  <a:ext cx="1222920" cy="152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oligonal e Amarraçõe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326200" y="890640"/>
                  <a:ext cx="1277640" cy="132876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5628240" y="1271520"/>
                  <a:ext cx="668160" cy="152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Correção da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5630760" y="1419120"/>
                  <a:ext cx="665280" cy="152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Coordenada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5586480" y="1577880"/>
                  <a:ext cx="744480" cy="152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arciais (ELF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3" name=""/>
                <p:cNvGrpSpPr/>
                <p:nvPr/>
              </p:nvGrpSpPr>
              <p:grpSpPr>
                <a:xfrm>
                  <a:off x="4597560" y="984240"/>
                  <a:ext cx="636120" cy="377640"/>
                  <a:chOff x="4597560" y="984240"/>
                  <a:chExt cx="636120" cy="37764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>
                    <a:off x="4597560" y="984240"/>
                    <a:ext cx="559080" cy="3351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5125680" y="1268280"/>
                    <a:ext cx="1080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35">
                        <a:moveTo>
                          <a:pt x="0" y="34"/>
                        </a:moveTo>
                        <a:lnTo>
                          <a:pt x="42" y="35"/>
                        </a:lnTo>
                        <a:lnTo>
                          <a:pt x="19" y="0"/>
                        </a:lnTo>
                        <a:lnTo>
                          <a:pt x="0" y="3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6" name=""/>
                <p:cNvGrpSpPr/>
                <p:nvPr/>
              </p:nvGrpSpPr>
              <p:grpSpPr>
                <a:xfrm>
                  <a:off x="4597560" y="1501920"/>
                  <a:ext cx="635760" cy="104400"/>
                  <a:chOff x="4597560" y="1501920"/>
                  <a:chExt cx="635760" cy="10440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>
                    <a:off x="4597560" y="1552680"/>
                    <a:ext cx="546120" cy="21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5138280" y="1501920"/>
                    <a:ext cx="95040" cy="10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39">
                        <a:moveTo>
                          <a:pt x="0" y="39"/>
                        </a:moveTo>
                        <a:lnTo>
                          <a:pt x="37" y="19"/>
                        </a:lnTo>
                        <a:lnTo>
                          <a:pt x="0" y="0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9" name=""/>
                <p:cNvGrpSpPr/>
                <p:nvPr/>
              </p:nvGrpSpPr>
              <p:grpSpPr>
                <a:xfrm>
                  <a:off x="4597560" y="1744560"/>
                  <a:ext cx="636120" cy="377280"/>
                  <a:chOff x="4597560" y="1744560"/>
                  <a:chExt cx="636120" cy="377280"/>
                </a:xfrm>
              </p:grpSpPr>
              <p:sp>
                <p:nvSpPr>
                  <p:cNvPr id="570" name=""/>
                  <p:cNvSpPr/>
                  <p:nvPr/>
                </p:nvSpPr>
                <p:spPr>
                  <a:xfrm flipV="1">
                    <a:off x="4597560" y="1786680"/>
                    <a:ext cx="559080" cy="3351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5125680" y="1744560"/>
                    <a:ext cx="10800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36">
                        <a:moveTo>
                          <a:pt x="20" y="36"/>
                        </a:moveTo>
                        <a:lnTo>
                          <a:pt x="42" y="0"/>
                        </a:lnTo>
                        <a:lnTo>
                          <a:pt x="0" y="2"/>
                        </a:lnTo>
                        <a:lnTo>
                          <a:pt x="20" y="3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2" name=""/>
                <p:cNvGrpSpPr/>
                <p:nvPr/>
              </p:nvGrpSpPr>
              <p:grpSpPr>
                <a:xfrm>
                  <a:off x="7389720" y="1214280"/>
                  <a:ext cx="1641240" cy="720000"/>
                  <a:chOff x="7389720" y="1214280"/>
                  <a:chExt cx="1641240" cy="72000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>
                    <a:off x="7389720" y="1214280"/>
                    <a:ext cx="1641240" cy="21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7389720" y="1214280"/>
                    <a:ext cx="2160" cy="7171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7389720" y="1931400"/>
                    <a:ext cx="1641240" cy="28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6" name=""/>
                <p:cNvSpPr/>
                <p:nvPr/>
              </p:nvSpPr>
              <p:spPr>
                <a:xfrm>
                  <a:off x="7424640" y="1268280"/>
                  <a:ext cx="1606680" cy="56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7678080" y="1311120"/>
                  <a:ext cx="1098000" cy="152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Coordenadas Parciai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7573320" y="1469880"/>
                  <a:ext cx="1308240" cy="152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Corrigidas para Poligona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9" name=""/>
                <p:cNvGrpSpPr/>
                <p:nvPr/>
              </p:nvGrpSpPr>
              <p:grpSpPr>
                <a:xfrm>
                  <a:off x="6694560" y="1501920"/>
                  <a:ext cx="635760" cy="104400"/>
                  <a:chOff x="6694560" y="1501920"/>
                  <a:chExt cx="635760" cy="10440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>
                    <a:off x="6694560" y="1552680"/>
                    <a:ext cx="545760" cy="21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7234920" y="1501920"/>
                    <a:ext cx="95400" cy="10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39">
                        <a:moveTo>
                          <a:pt x="0" y="39"/>
                        </a:moveTo>
                        <a:lnTo>
                          <a:pt x="37" y="19"/>
                        </a:lnTo>
                        <a:lnTo>
                          <a:pt x="0" y="0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2" name=""/>
                <p:cNvSpPr/>
                <p:nvPr/>
              </p:nvSpPr>
              <p:spPr>
                <a:xfrm>
                  <a:off x="5326200" y="2408400"/>
                  <a:ext cx="1277640" cy="133164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5664960" y="2786040"/>
                  <a:ext cx="596520" cy="152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Cálculo da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5630760" y="2940120"/>
                  <a:ext cx="665280" cy="152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Coordenada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5801040" y="3098880"/>
                  <a:ext cx="317880" cy="152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Totai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6" name=""/>
                <p:cNvGrpSpPr/>
                <p:nvPr/>
              </p:nvGrpSpPr>
              <p:grpSpPr>
                <a:xfrm>
                  <a:off x="6694560" y="2028960"/>
                  <a:ext cx="817920" cy="756720"/>
                  <a:chOff x="6694560" y="2028960"/>
                  <a:chExt cx="817920" cy="756720"/>
                </a:xfrm>
              </p:grpSpPr>
              <p:sp>
                <p:nvSpPr>
                  <p:cNvPr id="587" name=""/>
                  <p:cNvSpPr/>
                  <p:nvPr/>
                </p:nvSpPr>
                <p:spPr>
                  <a:xfrm flipH="1">
                    <a:off x="6761160" y="2028960"/>
                    <a:ext cx="751320" cy="6976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6694560" y="2678040"/>
                    <a:ext cx="10548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0">
                        <a:moveTo>
                          <a:pt x="15" y="0"/>
                        </a:moveTo>
                        <a:lnTo>
                          <a:pt x="0" y="40"/>
                        </a:lnTo>
                        <a:lnTo>
                          <a:pt x="41" y="3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9" name=""/>
                <p:cNvGrpSpPr/>
                <p:nvPr/>
              </p:nvGrpSpPr>
              <p:grpSpPr>
                <a:xfrm>
                  <a:off x="2922480" y="3208320"/>
                  <a:ext cx="1641240" cy="527760"/>
                  <a:chOff x="2922480" y="3208320"/>
                  <a:chExt cx="1641240" cy="52776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>
                    <a:off x="2922480" y="3208320"/>
                    <a:ext cx="1641240" cy="21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2922480" y="3208320"/>
                    <a:ext cx="2160" cy="5248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2922480" y="3733200"/>
                    <a:ext cx="1641240" cy="28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3" name=""/>
                <p:cNvSpPr/>
                <p:nvPr/>
              </p:nvSpPr>
              <p:spPr>
                <a:xfrm>
                  <a:off x="2955960" y="3262320"/>
                  <a:ext cx="1608120" cy="377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125520" y="3305160"/>
                  <a:ext cx="1265760" cy="152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Coordenadas Totais par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150000" y="3457440"/>
                  <a:ext cx="1222920" cy="152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oligonal e Amarraçõe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6" name=""/>
                <p:cNvGrpSpPr/>
                <p:nvPr/>
              </p:nvGrpSpPr>
              <p:grpSpPr>
                <a:xfrm>
                  <a:off x="4597560" y="3262320"/>
                  <a:ext cx="635400" cy="205560"/>
                  <a:chOff x="4597560" y="3262320"/>
                  <a:chExt cx="635400" cy="205560"/>
                </a:xfrm>
              </p:grpSpPr>
              <p:sp>
                <p:nvSpPr>
                  <p:cNvPr id="597" name=""/>
                  <p:cNvSpPr/>
                  <p:nvPr/>
                </p:nvSpPr>
                <p:spPr>
                  <a:xfrm flipH="1">
                    <a:off x="4684680" y="3262320"/>
                    <a:ext cx="548280" cy="160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4597560" y="3371760"/>
                    <a:ext cx="10548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6">
                        <a:moveTo>
                          <a:pt x="30" y="0"/>
                        </a:moveTo>
                        <a:lnTo>
                          <a:pt x="0" y="29"/>
                        </a:lnTo>
                        <a:lnTo>
                          <a:pt x="41" y="36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9" name=""/>
                <p:cNvSpPr/>
                <p:nvPr/>
              </p:nvSpPr>
              <p:spPr>
                <a:xfrm>
                  <a:off x="5416560" y="3925800"/>
                  <a:ext cx="1281240" cy="133200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5765400" y="4154400"/>
                  <a:ext cx="576720" cy="152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Geração d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5729760" y="4303800"/>
                  <a:ext cx="654480" cy="152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Themes par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763240" y="4457880"/>
                  <a:ext cx="576720" cy="152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oligonal 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5751000" y="4616280"/>
                  <a:ext cx="614880" cy="152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Amarraçõe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4" name=""/>
                <p:cNvGrpSpPr/>
                <p:nvPr/>
              </p:nvGrpSpPr>
              <p:grpSpPr>
                <a:xfrm>
                  <a:off x="4324320" y="3830760"/>
                  <a:ext cx="1001520" cy="569160"/>
                  <a:chOff x="4324320" y="3830760"/>
                  <a:chExt cx="1001520" cy="56916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>
                    <a:off x="4324320" y="3830760"/>
                    <a:ext cx="921600" cy="5263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5214960" y="4308840"/>
                    <a:ext cx="110880" cy="9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4">
                        <a:moveTo>
                          <a:pt x="0" y="34"/>
                        </a:moveTo>
                        <a:lnTo>
                          <a:pt x="43" y="34"/>
                        </a:lnTo>
                        <a:lnTo>
                          <a:pt x="18" y="0"/>
                        </a:lnTo>
                        <a:lnTo>
                          <a:pt x="0" y="3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7" name=""/>
                <p:cNvGrpSpPr/>
                <p:nvPr/>
              </p:nvGrpSpPr>
              <p:grpSpPr>
                <a:xfrm>
                  <a:off x="7604280" y="4116240"/>
                  <a:ext cx="1640880" cy="528120"/>
                  <a:chOff x="7604280" y="4116240"/>
                  <a:chExt cx="1640880" cy="528120"/>
                </a:xfrm>
              </p:grpSpPr>
              <p:sp>
                <p:nvSpPr>
                  <p:cNvPr id="608" name=""/>
                  <p:cNvSpPr/>
                  <p:nvPr/>
                </p:nvSpPr>
                <p:spPr>
                  <a:xfrm>
                    <a:off x="7604280" y="4116240"/>
                    <a:ext cx="1640880" cy="28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7604280" y="4116240"/>
                    <a:ext cx="2160" cy="5259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7604280" y="4642200"/>
                    <a:ext cx="1640880" cy="21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1" name=""/>
                <p:cNvSpPr/>
                <p:nvPr/>
              </p:nvSpPr>
              <p:spPr>
                <a:xfrm>
                  <a:off x="7635960" y="4170240"/>
                  <a:ext cx="1609560" cy="378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7873560" y="4213080"/>
                  <a:ext cx="654480" cy="152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Themes par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7834680" y="4365720"/>
                  <a:ext cx="1222920" cy="152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oligonal e Amarraçõe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14" name=""/>
                <p:cNvGrpSpPr/>
                <p:nvPr/>
              </p:nvGrpSpPr>
              <p:grpSpPr>
                <a:xfrm>
                  <a:off x="6784920" y="4363920"/>
                  <a:ext cx="727920" cy="129240"/>
                  <a:chOff x="6784920" y="4363920"/>
                  <a:chExt cx="727920" cy="12924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 flipV="1">
                    <a:off x="6784920" y="4411440"/>
                    <a:ext cx="637920" cy="81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7409880" y="4363920"/>
                    <a:ext cx="10296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8">
                        <a:moveTo>
                          <a:pt x="5" y="38"/>
                        </a:moveTo>
                        <a:lnTo>
                          <a:pt x="40" y="14"/>
                        </a:lnTo>
                        <a:lnTo>
                          <a:pt x="0" y="0"/>
                        </a:lnTo>
                        <a:lnTo>
                          <a:pt x="5" y="3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17" name=""/>
              <p:cNvSpPr/>
              <p:nvPr/>
            </p:nvSpPr>
            <p:spPr>
              <a:xfrm>
                <a:off x="3549600" y="3733920"/>
                <a:ext cx="1816200" cy="21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5365800" y="5486400"/>
              <a:ext cx="1402920" cy="1143000"/>
              <a:chOff x="5365800" y="5486400"/>
              <a:chExt cx="1402920" cy="1143000"/>
            </a:xfrm>
          </p:grpSpPr>
          <p:sp>
            <p:nvSpPr>
              <p:cNvPr id="619" name=""/>
              <p:cNvSpPr/>
              <p:nvPr/>
            </p:nvSpPr>
            <p:spPr>
              <a:xfrm>
                <a:off x="5365800" y="5486400"/>
                <a:ext cx="1402920" cy="1143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492160" y="5813280"/>
                <a:ext cx="1223280" cy="398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étodo Paramétric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MQ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 flipH="1" flipV="1">
              <a:off x="3219120" y="3809880"/>
              <a:ext cx="198108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5695920" y="0"/>
            <a:ext cx="206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FD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fundo%20slid%20faixa" descr=""/>
          <p:cNvPicPr/>
          <p:nvPr/>
        </p:nvPicPr>
        <p:blipFill>
          <a:blip r:embed="rId1"/>
          <a:stretch/>
        </p:blipFill>
        <p:spPr>
          <a:xfrm>
            <a:off x="330120" y="304920"/>
            <a:ext cx="1320840" cy="6280200"/>
          </a:xfrm>
          <a:prstGeom prst="rect">
            <a:avLst/>
          </a:prstGeom>
          <a:ln w="0">
            <a:noFill/>
          </a:ln>
        </p:spPr>
      </p:pic>
      <p:grpSp>
        <p:nvGrpSpPr>
          <p:cNvPr id="624" name=""/>
          <p:cNvGrpSpPr/>
          <p:nvPr/>
        </p:nvGrpSpPr>
        <p:grpSpPr>
          <a:xfrm>
            <a:off x="660240" y="533520"/>
            <a:ext cx="8420040" cy="75960"/>
            <a:chOff x="660240" y="533520"/>
            <a:chExt cx="8420040" cy="75960"/>
          </a:xfrm>
        </p:grpSpPr>
        <p:sp>
          <p:nvSpPr>
            <p:cNvPr id="625" name=""/>
            <p:cNvSpPr/>
            <p:nvPr/>
          </p:nvSpPr>
          <p:spPr>
            <a:xfrm>
              <a:off x="825480" y="533520"/>
              <a:ext cx="825480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0240" y="533520"/>
              <a:ext cx="8244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7" name="novalogoltc" descr=""/>
          <p:cNvPicPr/>
          <p:nvPr/>
        </p:nvPicPr>
        <p:blipFill>
          <a:blip r:embed="rId2"/>
          <a:stretch/>
        </p:blipFill>
        <p:spPr>
          <a:xfrm>
            <a:off x="0" y="0"/>
            <a:ext cx="318960" cy="53352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743040" y="228600"/>
            <a:ext cx="561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UNIVERSIDADE FEDERAL DO ESPÍRITO SA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9328320" y="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953D-9D68-4067-A274-258D5E1BC4E7}" type="slidenum"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792600" y="320976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488120" y="-9360"/>
            <a:ext cx="30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o Paramét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380880" y="1447920"/>
            <a:ext cx="9219960" cy="4800600"/>
            <a:chOff x="380880" y="1447920"/>
            <a:chExt cx="9219960" cy="4800600"/>
          </a:xfrm>
        </p:grpSpPr>
        <mc:AlternateContent>
          <mc:Choice xmlns:a14="http://schemas.microsoft.com/office/drawing/2010/main" Requires="a14">
            <p:sp>
              <p:nvSpPr>
                <p:cNvPr id="633" name=""/>
                <p:cNvSpPr txBox="1"/>
                <p:nvPr/>
              </p:nvSpPr>
              <p:spPr>
                <a:xfrm>
                  <a:off x="380880" y="1447920"/>
                  <a:ext cx="9219960" cy="479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justamento</m:t>
                          </m:r>
                          <m:r>
                            <m:rPr>
                              <m:lit/>
                              <m:nor/>
                            </m:rPr>
                            <m:t xml:space="preserve">de</m:t>
                          </m:r>
                          <m:r>
                            <m:rPr>
                              <m:lit/>
                              <m:nor/>
                            </m:rPr>
                            <m:t xml:space="preserve">Observações</m:t>
                          </m:r>
                          <m:r>
                            <m:rPr>
                              <m:lit/>
                              <m:nor/>
                            </m:rPr>
                            <m:t xml:space="preserve">Indiretas</m:t>
                          </m:r>
                          <m:r>
                            <m:t xml:space="preserve">:</m:t>
                          </m:r>
                        </m:e>
                        <m:e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Pr</m:t>
                          </m:r>
                          <m:r>
                            <m:rPr>
                              <m:lit/>
                              <m:nor/>
                            </m:rPr>
                            <m:t xml:space="preserve">ocesso</m:t>
                          </m:r>
                          <m:r>
                            <m:rPr>
                              <m:lit/>
                              <m:nor/>
                            </m:rPr>
                            <m:t xml:space="preserve">Inverso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Modelo</m:t>
                          </m:r>
                          <m:r>
                            <m:rPr>
                              <m:lit/>
                              <m:nor/>
                            </m:rPr>
                            <m:t xml:space="preserve">Matemático</m:t>
                          </m:r>
                          <m:r>
                            <m:t xml:space="preserve">:</m:t>
                          </m:r>
                        </m:e>
                        <m:e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[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]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34" name=""/>
            <p:cNvSpPr/>
            <p:nvPr/>
          </p:nvSpPr>
          <p:spPr>
            <a:xfrm>
              <a:off x="3269520" y="4114800"/>
              <a:ext cx="3585240" cy="2133720"/>
            </a:xfrm>
            <a:prstGeom prst="rect">
              <a:avLst/>
            </a:prstGeom>
            <a:noFill/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863640" y="685800"/>
            <a:ext cx="8128080" cy="520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todo de Ajustamento Paramétrico Com MM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undo%20slid%20faixa" descr=""/>
          <p:cNvPicPr/>
          <p:nvPr/>
        </p:nvPicPr>
        <p:blipFill>
          <a:blip r:embed="rId1"/>
          <a:stretch/>
        </p:blipFill>
        <p:spPr>
          <a:xfrm>
            <a:off x="330120" y="304920"/>
            <a:ext cx="1320840" cy="628020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660240" y="533520"/>
            <a:ext cx="8420040" cy="75960"/>
            <a:chOff x="660240" y="533520"/>
            <a:chExt cx="8420040" cy="75960"/>
          </a:xfrm>
        </p:grpSpPr>
        <p:sp>
          <p:nvSpPr>
            <p:cNvPr id="52" name=""/>
            <p:cNvSpPr/>
            <p:nvPr/>
          </p:nvSpPr>
          <p:spPr>
            <a:xfrm>
              <a:off x="825480" y="533520"/>
              <a:ext cx="825480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60240" y="533520"/>
              <a:ext cx="8244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507960" y="1460520"/>
            <a:ext cx="9245520" cy="2961360"/>
          </a:xfrm>
          <a:prstGeom prst="rect">
            <a:avLst/>
          </a:prstGeom>
          <a:solidFill>
            <a:srgbClr val="fefad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DEFINIÇÕES DE GEOPROCESSAMENTO E S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O MODELO CONCEITUAL DO ARCVIEW G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AS PRINCIPAIS CARACTERÍSTICAS DA LINGUAGEM </a:t>
            </a:r>
            <a:r>
              <a:rPr b="1" lang="en-US" sz="1600" spc="-1" strike="noStrike" u="sng">
                <a:solidFill>
                  <a:srgbClr val="003399"/>
                </a:solidFill>
                <a:uFillTx/>
                <a:latin typeface="Arial"/>
                <a:ea typeface="Times New Roman"/>
              </a:rPr>
              <a:t>AVE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AS FERRAMENTAS IMPLEMENT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OS TESTES REALIZ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CONCLUSÕES, SUBPRODUTOS E PROJETOS FUTU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EXEMPLO PR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3040" y="762120"/>
            <a:ext cx="8254800" cy="459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GANIZAÇÃO DA APRESEN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novalogoltc" descr=""/>
          <p:cNvPicPr/>
          <p:nvPr/>
        </p:nvPicPr>
        <p:blipFill>
          <a:blip r:embed="rId10"/>
          <a:stretch/>
        </p:blipFill>
        <p:spPr>
          <a:xfrm>
            <a:off x="0" y="0"/>
            <a:ext cx="318960" cy="533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43040" y="228600"/>
            <a:ext cx="561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UNIVERSIDADE FEDERAL DO ESPÍRITO SA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328320" y="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E17A-3C1C-4283-9A58-23FFA57090B2}" type="slidenum"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fundo%20slid%20faixa" descr=""/>
          <p:cNvPicPr/>
          <p:nvPr/>
        </p:nvPicPr>
        <p:blipFill>
          <a:blip r:embed="rId1"/>
          <a:stretch/>
        </p:blipFill>
        <p:spPr>
          <a:xfrm>
            <a:off x="330120" y="304920"/>
            <a:ext cx="1320840" cy="6280200"/>
          </a:xfrm>
          <a:prstGeom prst="rect">
            <a:avLst/>
          </a:prstGeom>
          <a:ln w="0">
            <a:noFill/>
          </a:ln>
        </p:spPr>
      </p:pic>
      <p:grpSp>
        <p:nvGrpSpPr>
          <p:cNvPr id="637" name=""/>
          <p:cNvGrpSpPr/>
          <p:nvPr/>
        </p:nvGrpSpPr>
        <p:grpSpPr>
          <a:xfrm>
            <a:off x="660240" y="533520"/>
            <a:ext cx="8420040" cy="75960"/>
            <a:chOff x="660240" y="533520"/>
            <a:chExt cx="8420040" cy="75960"/>
          </a:xfrm>
        </p:grpSpPr>
        <p:sp>
          <p:nvSpPr>
            <p:cNvPr id="638" name=""/>
            <p:cNvSpPr/>
            <p:nvPr/>
          </p:nvSpPr>
          <p:spPr>
            <a:xfrm>
              <a:off x="825480" y="533520"/>
              <a:ext cx="825480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60240" y="533520"/>
              <a:ext cx="8244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0" name="novalogoltc" descr=""/>
          <p:cNvPicPr/>
          <p:nvPr/>
        </p:nvPicPr>
        <p:blipFill>
          <a:blip r:embed="rId2"/>
          <a:stretch/>
        </p:blipFill>
        <p:spPr>
          <a:xfrm>
            <a:off x="0" y="0"/>
            <a:ext cx="318960" cy="53352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743040" y="228600"/>
            <a:ext cx="561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UNIVERSIDADE FEDERAL DO ESPÍRITO SA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328320" y="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807A-4E11-4C8B-919F-E50F31150410}" type="slidenum"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63640" y="685800"/>
            <a:ext cx="8128080" cy="520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todo de Ajustamento Paramétrico Com MM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792600" y="320976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488120" y="-9360"/>
            <a:ext cx="30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o Paramét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380880" y="1295280"/>
                <a:ext cx="478656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odelo</m:t>
                        </m:r>
                        <m:r>
                          <m:rPr>
                            <m:lit/>
                            <m:nor/>
                          </m:rPr>
                          <m:t xml:space="preserve">Linearizado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47" name=""/>
          <p:cNvGrpSpPr/>
          <p:nvPr/>
        </p:nvGrpSpPr>
        <p:grpSpPr>
          <a:xfrm>
            <a:off x="5791320" y="1295280"/>
            <a:ext cx="2286000" cy="1676520"/>
            <a:chOff x="5791320" y="1295280"/>
            <a:chExt cx="2286000" cy="1676520"/>
          </a:xfrm>
        </p:grpSpPr>
        <mc:AlternateContent>
          <mc:Choice xmlns:a14="http://schemas.microsoft.com/office/drawing/2010/main" Requires="a14">
            <p:sp>
              <p:nvSpPr>
                <p:cNvPr id="648" name=""/>
                <p:cNvSpPr txBox="1"/>
                <p:nvPr/>
              </p:nvSpPr>
              <p:spPr>
                <a:xfrm>
                  <a:off x="5962680" y="1371600"/>
                  <a:ext cx="2025720" cy="146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Y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Y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Y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49" name=""/>
            <p:cNvSpPr/>
            <p:nvPr/>
          </p:nvSpPr>
          <p:spPr>
            <a:xfrm>
              <a:off x="5791320" y="1295280"/>
              <a:ext cx="2286000" cy="1676520"/>
            </a:xfrm>
            <a:prstGeom prst="rect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615960" y="3149640"/>
                <a:ext cx="8800920" cy="34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nde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Vetor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rPr>
                            <m:lit/>
                            <m:nor/>
                          </m:rPr>
                          <m:t xml:space="preserve">Correção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  <m:e/>
                    </m:eqAr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eto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âmetr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justados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fundo%20slid%20faixa" descr=""/>
          <p:cNvPicPr/>
          <p:nvPr/>
        </p:nvPicPr>
        <p:blipFill>
          <a:blip r:embed="rId1"/>
          <a:stretch/>
        </p:blipFill>
        <p:spPr>
          <a:xfrm>
            <a:off x="330120" y="304920"/>
            <a:ext cx="1320840" cy="628020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660240" y="533520"/>
            <a:ext cx="8420040" cy="75960"/>
            <a:chOff x="660240" y="533520"/>
            <a:chExt cx="8420040" cy="75960"/>
          </a:xfrm>
        </p:grpSpPr>
        <p:sp>
          <p:nvSpPr>
            <p:cNvPr id="653" name=""/>
            <p:cNvSpPr/>
            <p:nvPr/>
          </p:nvSpPr>
          <p:spPr>
            <a:xfrm>
              <a:off x="825480" y="533520"/>
              <a:ext cx="825480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60240" y="533520"/>
              <a:ext cx="8244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5" name="novalogoltc" descr=""/>
          <p:cNvPicPr/>
          <p:nvPr/>
        </p:nvPicPr>
        <p:blipFill>
          <a:blip r:embed="rId2"/>
          <a:stretch/>
        </p:blipFill>
        <p:spPr>
          <a:xfrm>
            <a:off x="0" y="0"/>
            <a:ext cx="318960" cy="53352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743040" y="228600"/>
            <a:ext cx="561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UNIVERSIDADE FEDERAL DO ESPÍRITO SA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328320" y="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9A2A-999F-47AB-A82B-2576A612FDC4}" type="slidenum"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792600" y="320976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488120" y="-9360"/>
            <a:ext cx="30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o Paramét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2558880" y="2438280"/>
                <a:ext cx="5099400" cy="18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1" name=""/>
          <p:cNvSpPr/>
          <p:nvPr/>
        </p:nvSpPr>
        <p:spPr>
          <a:xfrm>
            <a:off x="1905480" y="1143000"/>
            <a:ext cx="599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licando MM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ma Quadrática Fundamen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2133720" y="4495680"/>
                <a:ext cx="5562360" cy="20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azendo</m:t>
                        </m:r>
                        <m:r>
                          <m:t xml:space="preserve">:</m:t>
                        </m:r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NeA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U</m:t>
                        </m:r>
                        <m:r>
                          <m:rPr>
                            <m:lit/>
                            <m:nor/>
                          </m:rPr>
                          <m:t xml:space="preserve">ou</m:t>
                        </m:r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  <m:r>
                          <m:t xml:space="preserve">+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3" name=""/>
          <p:cNvSpPr/>
          <p:nvPr/>
        </p:nvSpPr>
        <p:spPr>
          <a:xfrm>
            <a:off x="863640" y="685800"/>
            <a:ext cx="8128080" cy="520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todo de Ajustamento Paramétrico Com MM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fundo%20slid%20faixa" descr=""/>
          <p:cNvPicPr/>
          <p:nvPr/>
        </p:nvPicPr>
        <p:blipFill>
          <a:blip r:embed="rId1"/>
          <a:stretch/>
        </p:blipFill>
        <p:spPr>
          <a:xfrm>
            <a:off x="330120" y="304920"/>
            <a:ext cx="1320840" cy="6280200"/>
          </a:xfrm>
          <a:prstGeom prst="rect">
            <a:avLst/>
          </a:prstGeom>
          <a:ln w="0">
            <a:noFill/>
          </a:ln>
        </p:spPr>
      </p:pic>
      <p:grpSp>
        <p:nvGrpSpPr>
          <p:cNvPr id="665" name=""/>
          <p:cNvGrpSpPr/>
          <p:nvPr/>
        </p:nvGrpSpPr>
        <p:grpSpPr>
          <a:xfrm>
            <a:off x="660240" y="533520"/>
            <a:ext cx="8420040" cy="75960"/>
            <a:chOff x="660240" y="533520"/>
            <a:chExt cx="8420040" cy="75960"/>
          </a:xfrm>
        </p:grpSpPr>
        <p:sp>
          <p:nvSpPr>
            <p:cNvPr id="666" name=""/>
            <p:cNvSpPr/>
            <p:nvPr/>
          </p:nvSpPr>
          <p:spPr>
            <a:xfrm>
              <a:off x="825480" y="533520"/>
              <a:ext cx="825480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60240" y="533520"/>
              <a:ext cx="8244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8" name="novalogoltc" descr=""/>
          <p:cNvPicPr/>
          <p:nvPr/>
        </p:nvPicPr>
        <p:blipFill>
          <a:blip r:embed="rId2"/>
          <a:stretch/>
        </p:blipFill>
        <p:spPr>
          <a:xfrm>
            <a:off x="0" y="0"/>
            <a:ext cx="318960" cy="53352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743040" y="228600"/>
            <a:ext cx="561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UNIVERSIDADE FEDERAL DO ESPÍRITO SA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328320" y="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855F-9958-443B-85F4-C948CB57EEE8}" type="slidenum"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792600" y="320976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88120" y="-9360"/>
            <a:ext cx="30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o Paramét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525760" y="1143000"/>
            <a:ext cx="47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ções de Observ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63640" y="685800"/>
            <a:ext cx="8128080" cy="520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todo de Ajustamento Paramétrico Com MM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1676520" y="1752480"/>
                <a:ext cx="7924680" cy="24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ra</m:t>
                        </m:r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  <m:r>
                          <m:rPr>
                            <m:lit/>
                            <m:nor/>
                          </m:rPr>
                          <m:t xml:space="preserve">distâncias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⇒</m:t>
                        </m:r>
                        <m:f>
                          <m:num>
                            <m:sSub>
                              <m:e>
                                <m:r>
                                  <m:t xml:space="preserve">∂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∂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den>
                        </m:f>
                        <m:r>
                          <m:t xml:space="preserve">e</m:t>
                        </m:r>
                        <m:f>
                          <m:num>
                            <m:sSub>
                              <m:e>
                                <m:r>
                                  <m:t xml:space="preserve">∂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∂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⇒</m:t>
                        </m:r>
                        <m:f>
                          <m:num>
                            <m:sSub>
                              <m:e>
                                <m:r>
                                  <m:t xml:space="preserve">∂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k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∂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</m:sub>
                            </m:sSub>
                          </m:den>
                        </m:f>
                        <m:r>
                          <m:t xml:space="preserve">e</m:t>
                        </m:r>
                        <m:f>
                          <m:num>
                            <m:sSub>
                              <m:e>
                                <m:r>
                                  <m:t xml:space="preserve">∂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k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∂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1676520" y="4430880"/>
                <a:ext cx="6400800" cy="21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ra</m:t>
                        </m:r>
                        <m:r>
                          <m:rPr>
                            <m:lit/>
                            <m:nor/>
                          </m:rPr>
                          <m:t xml:space="preserve">os</m:t>
                        </m:r>
                        <m:r>
                          <m:rPr>
                            <m:lit/>
                            <m:nor/>
                          </m:rPr>
                          <m:t xml:space="preserve">ângulos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â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∂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â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k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∂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e</m:t>
                        </m:r>
                        <m:f>
                          <m:num>
                            <m:sSub>
                              <m:e>
                                <m:r>
                                  <m:t xml:space="preserve">∂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â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k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∂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fundo%20slid%20faixa" descr=""/>
          <p:cNvPicPr/>
          <p:nvPr/>
        </p:nvPicPr>
        <p:blipFill>
          <a:blip r:embed="rId1"/>
          <a:stretch/>
        </p:blipFill>
        <p:spPr>
          <a:xfrm>
            <a:off x="330120" y="304920"/>
            <a:ext cx="1320840" cy="6280200"/>
          </a:xfrm>
          <a:prstGeom prst="rect">
            <a:avLst/>
          </a:prstGeom>
          <a:ln w="0">
            <a:noFill/>
          </a:ln>
        </p:spPr>
      </p:pic>
      <p:grpSp>
        <p:nvGrpSpPr>
          <p:cNvPr id="678" name=""/>
          <p:cNvGrpSpPr/>
          <p:nvPr/>
        </p:nvGrpSpPr>
        <p:grpSpPr>
          <a:xfrm>
            <a:off x="660240" y="533520"/>
            <a:ext cx="8420040" cy="75960"/>
            <a:chOff x="660240" y="533520"/>
            <a:chExt cx="8420040" cy="75960"/>
          </a:xfrm>
        </p:grpSpPr>
        <p:sp>
          <p:nvSpPr>
            <p:cNvPr id="679" name=""/>
            <p:cNvSpPr/>
            <p:nvPr/>
          </p:nvSpPr>
          <p:spPr>
            <a:xfrm>
              <a:off x="825480" y="533520"/>
              <a:ext cx="825480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60240" y="533520"/>
              <a:ext cx="8244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1" name="novalogoltc" descr=""/>
          <p:cNvPicPr/>
          <p:nvPr/>
        </p:nvPicPr>
        <p:blipFill>
          <a:blip r:embed="rId2"/>
          <a:stretch/>
        </p:blipFill>
        <p:spPr>
          <a:xfrm>
            <a:off x="0" y="0"/>
            <a:ext cx="318960" cy="53352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>
            <a:off x="743040" y="228600"/>
            <a:ext cx="561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UNIVERSIDADE FEDERAL DO ESPÍRITO SA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9328320" y="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53FF-DDA1-43D2-A0F5-5E27F8EA4DFE}" type="slidenum"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990720"/>
            <a:ext cx="2971800" cy="13737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rramenta de Conversão de Coorden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171880" y="-719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971800" y="22194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41640" y="0"/>
            <a:ext cx="56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Interface da Ferram. Conv. Coo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IntConvcoord" descr=""/>
          <p:cNvPicPr/>
          <p:nvPr/>
        </p:nvPicPr>
        <p:blipFill>
          <a:blip r:embed="rId3"/>
          <a:stretch/>
        </p:blipFill>
        <p:spPr>
          <a:xfrm>
            <a:off x="3054240" y="914400"/>
            <a:ext cx="643896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fundo%20slid%20faixa" descr=""/>
          <p:cNvPicPr/>
          <p:nvPr/>
        </p:nvPicPr>
        <p:blipFill>
          <a:blip r:embed="rId1"/>
          <a:stretch/>
        </p:blipFill>
        <p:spPr>
          <a:xfrm>
            <a:off x="330120" y="304920"/>
            <a:ext cx="1320840" cy="6280200"/>
          </a:xfrm>
          <a:prstGeom prst="rect">
            <a:avLst/>
          </a:prstGeom>
          <a:ln w="0">
            <a:noFill/>
          </a:ln>
        </p:spPr>
      </p:pic>
      <p:grpSp>
        <p:nvGrpSpPr>
          <p:cNvPr id="690" name=""/>
          <p:cNvGrpSpPr/>
          <p:nvPr/>
        </p:nvGrpSpPr>
        <p:grpSpPr>
          <a:xfrm>
            <a:off x="660240" y="533520"/>
            <a:ext cx="8420040" cy="75960"/>
            <a:chOff x="660240" y="533520"/>
            <a:chExt cx="8420040" cy="75960"/>
          </a:xfrm>
        </p:grpSpPr>
        <p:sp>
          <p:nvSpPr>
            <p:cNvPr id="691" name=""/>
            <p:cNvSpPr/>
            <p:nvPr/>
          </p:nvSpPr>
          <p:spPr>
            <a:xfrm>
              <a:off x="825480" y="533520"/>
              <a:ext cx="825480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60240" y="533520"/>
              <a:ext cx="8244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84240" y="711360"/>
            <a:ext cx="9745200" cy="520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rramenta de Articulação de Folhas Baseadas na C.I.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4" name="novalogoltc" descr=""/>
          <p:cNvPicPr/>
          <p:nvPr/>
        </p:nvPicPr>
        <p:blipFill>
          <a:blip r:embed="rId2"/>
          <a:stretch/>
        </p:blipFill>
        <p:spPr>
          <a:xfrm>
            <a:off x="0" y="0"/>
            <a:ext cx="318960" cy="53352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743040" y="228600"/>
            <a:ext cx="561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UNIVERSIDADE FEDERAL DO ESPÍRITO SA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9328320" y="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6DEC-03B9-49D2-AC4C-56385247A9C3}" type="slidenum"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25480" y="1604880"/>
            <a:ext cx="8337600" cy="3750120"/>
          </a:xfrm>
          <a:prstGeom prst="rect">
            <a:avLst/>
          </a:prstGeom>
          <a:solidFill>
            <a:srgbClr val="fefa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99"/>
                </a:solidFill>
                <a:uFillTx/>
                <a:latin typeface="Arial"/>
              </a:rPr>
              <a:t>Características Bás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3399"/>
                </a:solidFill>
                <a:latin typeface="Arial"/>
              </a:rPr>
              <a:t>Propostos pela Conferência das Nações Unidas sobre este assunto, realizada em Bonn, 19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3399"/>
                </a:solidFill>
                <a:latin typeface="Arial"/>
              </a:rPr>
              <a:t>Cartas em escala 1:1.000.000, que representam  porções da superfície da T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3399"/>
                </a:solidFill>
                <a:latin typeface="Arial"/>
              </a:rPr>
              <a:t>Dimensões de 4</a:t>
            </a:r>
            <a:r>
              <a:rPr b="1" lang="pt-BR" sz="2400" spc="-1" strike="noStrike" baseline="30000">
                <a:solidFill>
                  <a:srgbClr val="003399"/>
                </a:solidFill>
                <a:latin typeface="Arial"/>
              </a:rPr>
              <a:t>o</a:t>
            </a:r>
            <a:r>
              <a:rPr b="1" lang="pt-BR" sz="2400" spc="-1" strike="noStrike">
                <a:solidFill>
                  <a:srgbClr val="003399"/>
                </a:solidFill>
                <a:latin typeface="Arial"/>
              </a:rPr>
              <a:t> de latitude por 6</a:t>
            </a:r>
            <a:r>
              <a:rPr b="1" lang="pt-BR" sz="2400" spc="-1" strike="noStrike" baseline="30000">
                <a:solidFill>
                  <a:srgbClr val="003399"/>
                </a:solidFill>
                <a:latin typeface="Arial"/>
              </a:rPr>
              <a:t>o</a:t>
            </a:r>
            <a:r>
              <a:rPr b="1" lang="pt-BR" sz="2400" spc="-1" strike="noStrike">
                <a:solidFill>
                  <a:srgbClr val="003399"/>
                </a:solidFill>
                <a:latin typeface="Arial"/>
              </a:rPr>
              <a:t> de longitu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3399"/>
                </a:solidFill>
                <a:latin typeface="Arial"/>
              </a:rPr>
              <a:t>60 fusos de 6</a:t>
            </a:r>
            <a:r>
              <a:rPr b="1" lang="pt-BR" sz="2400" spc="-1" strike="noStrike" baseline="30000">
                <a:solidFill>
                  <a:srgbClr val="003399"/>
                </a:solidFill>
                <a:latin typeface="Arial"/>
              </a:rPr>
              <a:t>o</a:t>
            </a:r>
            <a:r>
              <a:rPr b="1" lang="pt-BR" sz="2400" spc="-1" strike="noStrike">
                <a:solidFill>
                  <a:srgbClr val="003399"/>
                </a:solidFill>
                <a:latin typeface="Arial"/>
              </a:rPr>
              <a:t>,  numerados de 1 a 30 à oeste de Greenwich e de 31 a 60 à leste deste.</a:t>
            </a:r>
            <a:r>
              <a:rPr b="1" lang="pt-BR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fundo%20slid%20faixa" descr=""/>
          <p:cNvPicPr/>
          <p:nvPr/>
        </p:nvPicPr>
        <p:blipFill>
          <a:blip r:embed="rId1"/>
          <a:stretch/>
        </p:blipFill>
        <p:spPr>
          <a:xfrm>
            <a:off x="330120" y="304920"/>
            <a:ext cx="1320840" cy="6280200"/>
          </a:xfrm>
          <a:prstGeom prst="rect">
            <a:avLst/>
          </a:prstGeom>
          <a:ln w="0">
            <a:noFill/>
          </a:ln>
        </p:spPr>
      </p:pic>
      <p:grpSp>
        <p:nvGrpSpPr>
          <p:cNvPr id="699" name=""/>
          <p:cNvGrpSpPr/>
          <p:nvPr/>
        </p:nvGrpSpPr>
        <p:grpSpPr>
          <a:xfrm>
            <a:off x="660240" y="533520"/>
            <a:ext cx="8420040" cy="75960"/>
            <a:chOff x="660240" y="533520"/>
            <a:chExt cx="8420040" cy="75960"/>
          </a:xfrm>
        </p:grpSpPr>
        <p:sp>
          <p:nvSpPr>
            <p:cNvPr id="700" name=""/>
            <p:cNvSpPr/>
            <p:nvPr/>
          </p:nvSpPr>
          <p:spPr>
            <a:xfrm>
              <a:off x="825480" y="533520"/>
              <a:ext cx="825480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60240" y="533520"/>
              <a:ext cx="8244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2" name="novalogoltc" descr=""/>
          <p:cNvPicPr/>
          <p:nvPr/>
        </p:nvPicPr>
        <p:blipFill>
          <a:blip r:embed="rId2"/>
          <a:stretch/>
        </p:blipFill>
        <p:spPr>
          <a:xfrm>
            <a:off x="0" y="0"/>
            <a:ext cx="318960" cy="53352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>
            <a:off x="743040" y="228600"/>
            <a:ext cx="561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UNIVERSIDADE FEDERAL DO ESPÍRITO SA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9328320" y="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299B-8E71-4653-8C48-F42CA191617D}" type="slidenum"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2228760" y="1752480"/>
            <a:ext cx="5200920" cy="3904200"/>
            <a:chOff x="2228760" y="1752480"/>
            <a:chExt cx="5200920" cy="3904200"/>
          </a:xfrm>
        </p:grpSpPr>
        <p:sp>
          <p:nvSpPr>
            <p:cNvPr id="706" name=""/>
            <p:cNvSpPr/>
            <p:nvPr/>
          </p:nvSpPr>
          <p:spPr>
            <a:xfrm>
              <a:off x="3549600" y="1752480"/>
              <a:ext cx="2724120" cy="398880"/>
            </a:xfrm>
            <a:prstGeom prst="rect">
              <a:avLst/>
            </a:prstGeom>
            <a:solidFill>
              <a:srgbClr val="fefa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Arial"/>
                </a:rPr>
                <a:t>Hemisfér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311560" y="2209680"/>
              <a:ext cx="1403280" cy="3988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rte (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127400" y="2743200"/>
              <a:ext cx="1486080" cy="398880"/>
            </a:xfrm>
            <a:prstGeom prst="rect">
              <a:avLst/>
            </a:prstGeom>
            <a:solidFill>
              <a:srgbClr val="fefa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Arial"/>
                </a:rPr>
                <a:t>Zo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026040" y="2209680"/>
              <a:ext cx="1155960" cy="3988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ul (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228760" y="3429000"/>
              <a:ext cx="1650960" cy="10087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atitude de 4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o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 80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o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(A a 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78360" y="3352680"/>
              <a:ext cx="1651320" cy="10087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atitude de 4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o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 80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o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(A a 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127400" y="4495680"/>
              <a:ext cx="1486080" cy="398880"/>
            </a:xfrm>
            <a:prstGeom prst="rect">
              <a:avLst/>
            </a:prstGeom>
            <a:solidFill>
              <a:srgbClr val="fefa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Arial"/>
                </a:rPr>
                <a:t>Fu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311560" y="4952880"/>
              <a:ext cx="1650960" cy="70380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 a 30 para Oes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695920" y="4952880"/>
              <a:ext cx="1650960" cy="70380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1 a 60 para Les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84240" y="711360"/>
            <a:ext cx="9745200" cy="520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rramenta de Articulação de Folhas Baseadas na C.I.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fundo%20slid%20faixa" descr=""/>
          <p:cNvPicPr/>
          <p:nvPr/>
        </p:nvPicPr>
        <p:blipFill>
          <a:blip r:embed="rId1"/>
          <a:stretch/>
        </p:blipFill>
        <p:spPr>
          <a:xfrm>
            <a:off x="330120" y="304920"/>
            <a:ext cx="1320840" cy="6280200"/>
          </a:xfrm>
          <a:prstGeom prst="rect">
            <a:avLst/>
          </a:prstGeom>
          <a:ln w="0">
            <a:noFill/>
          </a:ln>
        </p:spPr>
      </p:pic>
      <p:grpSp>
        <p:nvGrpSpPr>
          <p:cNvPr id="717" name=""/>
          <p:cNvGrpSpPr/>
          <p:nvPr/>
        </p:nvGrpSpPr>
        <p:grpSpPr>
          <a:xfrm>
            <a:off x="660240" y="533520"/>
            <a:ext cx="8420040" cy="75960"/>
            <a:chOff x="660240" y="533520"/>
            <a:chExt cx="8420040" cy="75960"/>
          </a:xfrm>
        </p:grpSpPr>
        <p:sp>
          <p:nvSpPr>
            <p:cNvPr id="718" name=""/>
            <p:cNvSpPr/>
            <p:nvPr/>
          </p:nvSpPr>
          <p:spPr>
            <a:xfrm>
              <a:off x="825480" y="533520"/>
              <a:ext cx="825480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60240" y="533520"/>
              <a:ext cx="8244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0" name="novalogoltc" descr=""/>
          <p:cNvPicPr/>
          <p:nvPr/>
        </p:nvPicPr>
        <p:blipFill>
          <a:blip r:embed="rId2"/>
          <a:stretch/>
        </p:blipFill>
        <p:spPr>
          <a:xfrm>
            <a:off x="0" y="0"/>
            <a:ext cx="318960" cy="53352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743040" y="228600"/>
            <a:ext cx="561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UNIVERSIDADE FEDERAL DO ESPÍRITO SA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9328320" y="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1E0F-CB5E-4454-9A2C-6D92CD939B28}" type="slidenum"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3" name="CIM1-250_3" descr=""/>
          <p:cNvPicPr/>
          <p:nvPr/>
        </p:nvPicPr>
        <p:blipFill>
          <a:blip r:embed="rId3"/>
          <a:stretch/>
        </p:blipFill>
        <p:spPr>
          <a:xfrm>
            <a:off x="1676520" y="1162080"/>
            <a:ext cx="5943600" cy="554508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84240" y="711360"/>
            <a:ext cx="9745200" cy="520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rramenta de Articulação de Folhas Baseadas na C.I.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fundo%20slid%20faixa" descr=""/>
          <p:cNvPicPr/>
          <p:nvPr/>
        </p:nvPicPr>
        <p:blipFill>
          <a:blip r:embed="rId1"/>
          <a:stretch/>
        </p:blipFill>
        <p:spPr>
          <a:xfrm>
            <a:off x="330120" y="304920"/>
            <a:ext cx="1320840" cy="6280200"/>
          </a:xfrm>
          <a:prstGeom prst="rect">
            <a:avLst/>
          </a:prstGeom>
          <a:ln w="0">
            <a:noFill/>
          </a:ln>
        </p:spPr>
      </p:pic>
      <p:grpSp>
        <p:nvGrpSpPr>
          <p:cNvPr id="726" name=""/>
          <p:cNvGrpSpPr/>
          <p:nvPr/>
        </p:nvGrpSpPr>
        <p:grpSpPr>
          <a:xfrm>
            <a:off x="660240" y="533520"/>
            <a:ext cx="8420040" cy="75960"/>
            <a:chOff x="660240" y="533520"/>
            <a:chExt cx="8420040" cy="75960"/>
          </a:xfrm>
        </p:grpSpPr>
        <p:sp>
          <p:nvSpPr>
            <p:cNvPr id="727" name=""/>
            <p:cNvSpPr/>
            <p:nvPr/>
          </p:nvSpPr>
          <p:spPr>
            <a:xfrm>
              <a:off x="825480" y="533520"/>
              <a:ext cx="825480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60240" y="533520"/>
              <a:ext cx="8244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9" name="fig25" descr=""/>
          <p:cNvPicPr/>
          <p:nvPr/>
        </p:nvPicPr>
        <p:blipFill>
          <a:blip r:embed="rId2"/>
          <a:stretch/>
        </p:blipFill>
        <p:spPr>
          <a:xfrm>
            <a:off x="1981080" y="1366920"/>
            <a:ext cx="6191280" cy="5319720"/>
          </a:xfrm>
          <a:prstGeom prst="rect">
            <a:avLst/>
          </a:prstGeom>
          <a:ln w="0">
            <a:noFill/>
          </a:ln>
        </p:spPr>
      </p:pic>
      <p:pic>
        <p:nvPicPr>
          <p:cNvPr id="730" name="novalogoltc" descr=""/>
          <p:cNvPicPr/>
          <p:nvPr/>
        </p:nvPicPr>
        <p:blipFill>
          <a:blip r:embed="rId3"/>
          <a:stretch/>
        </p:blipFill>
        <p:spPr>
          <a:xfrm>
            <a:off x="0" y="0"/>
            <a:ext cx="318960" cy="53352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/>
          <p:nvPr/>
        </p:nvSpPr>
        <p:spPr>
          <a:xfrm>
            <a:off x="743040" y="228600"/>
            <a:ext cx="561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UNIVERSIDADE FEDERAL DO ESPÍRITO SA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9328320" y="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4E5D-5B40-49F0-A4FC-8797606AF206}" type="slidenum"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4240" y="711360"/>
            <a:ext cx="9745200" cy="520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rramenta de Articulação de Folhas Baseadas na C.I.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fundo%20slid%20faixa" descr=""/>
          <p:cNvPicPr/>
          <p:nvPr/>
        </p:nvPicPr>
        <p:blipFill>
          <a:blip r:embed="rId1"/>
          <a:stretch/>
        </p:blipFill>
        <p:spPr>
          <a:xfrm>
            <a:off x="330120" y="304920"/>
            <a:ext cx="1320840" cy="6280200"/>
          </a:xfrm>
          <a:prstGeom prst="rect">
            <a:avLst/>
          </a:prstGeom>
          <a:ln w="0">
            <a:noFill/>
          </a:ln>
        </p:spPr>
      </p:pic>
      <p:grpSp>
        <p:nvGrpSpPr>
          <p:cNvPr id="735" name=""/>
          <p:cNvGrpSpPr/>
          <p:nvPr/>
        </p:nvGrpSpPr>
        <p:grpSpPr>
          <a:xfrm>
            <a:off x="660240" y="533520"/>
            <a:ext cx="8420040" cy="75960"/>
            <a:chOff x="660240" y="533520"/>
            <a:chExt cx="8420040" cy="75960"/>
          </a:xfrm>
        </p:grpSpPr>
        <p:sp>
          <p:nvSpPr>
            <p:cNvPr id="736" name=""/>
            <p:cNvSpPr/>
            <p:nvPr/>
          </p:nvSpPr>
          <p:spPr>
            <a:xfrm>
              <a:off x="825480" y="533520"/>
              <a:ext cx="825480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60240" y="533520"/>
              <a:ext cx="8244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8" name="novalogoltc" descr=""/>
          <p:cNvPicPr/>
          <p:nvPr/>
        </p:nvPicPr>
        <p:blipFill>
          <a:blip r:embed="rId2"/>
          <a:stretch/>
        </p:blipFill>
        <p:spPr>
          <a:xfrm>
            <a:off x="0" y="0"/>
            <a:ext cx="318960" cy="533520"/>
          </a:xfrm>
          <a:prstGeom prst="rect">
            <a:avLst/>
          </a:prstGeom>
          <a:ln w="0">
            <a:noFill/>
          </a:ln>
        </p:spPr>
      </p:pic>
      <p:sp>
        <p:nvSpPr>
          <p:cNvPr id="739" name=""/>
          <p:cNvSpPr/>
          <p:nvPr/>
        </p:nvSpPr>
        <p:spPr>
          <a:xfrm>
            <a:off x="743040" y="228600"/>
            <a:ext cx="561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UNIVERSIDADE FEDERAL DO ESPÍRITO SA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9328320" y="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9FE9-73EE-470C-9F45-38059E2712B8}" type="slidenum"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171880" y="-719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971800" y="22194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941640" y="0"/>
            <a:ext cx="56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 da Ferramenta C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IntCIM" descr=""/>
          <p:cNvPicPr/>
          <p:nvPr/>
        </p:nvPicPr>
        <p:blipFill>
          <a:blip r:embed="rId3"/>
          <a:stretch/>
        </p:blipFill>
        <p:spPr>
          <a:xfrm>
            <a:off x="1752480" y="1752480"/>
            <a:ext cx="6604200" cy="349740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>
            <a:off x="84240" y="711360"/>
            <a:ext cx="9745200" cy="520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rramenta de Articulação de Folhas Baseadas na C.I.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fundo%20slid%20faixa" descr=""/>
          <p:cNvPicPr/>
          <p:nvPr/>
        </p:nvPicPr>
        <p:blipFill>
          <a:blip r:embed="rId1"/>
          <a:stretch/>
        </p:blipFill>
        <p:spPr>
          <a:xfrm>
            <a:off x="330120" y="304920"/>
            <a:ext cx="1320840" cy="6280200"/>
          </a:xfrm>
          <a:prstGeom prst="rect">
            <a:avLst/>
          </a:prstGeom>
          <a:ln w="0">
            <a:noFill/>
          </a:ln>
        </p:spPr>
      </p:pic>
      <p:grpSp>
        <p:nvGrpSpPr>
          <p:cNvPr id="747" name=""/>
          <p:cNvGrpSpPr/>
          <p:nvPr/>
        </p:nvGrpSpPr>
        <p:grpSpPr>
          <a:xfrm>
            <a:off x="660240" y="533520"/>
            <a:ext cx="8420040" cy="75960"/>
            <a:chOff x="660240" y="533520"/>
            <a:chExt cx="8420040" cy="75960"/>
          </a:xfrm>
        </p:grpSpPr>
        <p:sp>
          <p:nvSpPr>
            <p:cNvPr id="748" name=""/>
            <p:cNvSpPr/>
            <p:nvPr/>
          </p:nvSpPr>
          <p:spPr>
            <a:xfrm>
              <a:off x="825480" y="533520"/>
              <a:ext cx="825480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60240" y="533520"/>
              <a:ext cx="8244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0" name="novalogoltc" descr=""/>
          <p:cNvPicPr/>
          <p:nvPr/>
        </p:nvPicPr>
        <p:blipFill>
          <a:blip r:embed="rId2"/>
          <a:stretch/>
        </p:blipFill>
        <p:spPr>
          <a:xfrm>
            <a:off x="0" y="0"/>
            <a:ext cx="318960" cy="53352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743040" y="228600"/>
            <a:ext cx="561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UNIVERSIDADE FEDERAL DO ESPÍRITO SA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9328320" y="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2367-B5AA-410D-BA76-87B0A413FC81}" type="slidenum"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171880" y="-719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971800" y="22194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941640" y="0"/>
            <a:ext cx="56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yout Padroniza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4240" y="711360"/>
            <a:ext cx="9745200" cy="520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rramenta de Articulação de Folhas Baseadas na C.I.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teste07LAYOUT1" descr=""/>
          <p:cNvPicPr/>
          <p:nvPr/>
        </p:nvPicPr>
        <p:blipFill>
          <a:blip r:embed="rId3"/>
          <a:stretch/>
        </p:blipFill>
        <p:spPr>
          <a:xfrm>
            <a:off x="228600" y="19810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58" name="teste07LAYOUT2" descr=""/>
          <p:cNvPicPr/>
          <p:nvPr/>
        </p:nvPicPr>
        <p:blipFill>
          <a:blip r:embed="rId4"/>
          <a:stretch/>
        </p:blipFill>
        <p:spPr>
          <a:xfrm>
            <a:off x="5143680" y="19810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fundo%20slid%20faixa" descr=""/>
          <p:cNvPicPr/>
          <p:nvPr/>
        </p:nvPicPr>
        <p:blipFill>
          <a:blip r:embed="rId1"/>
          <a:stretch/>
        </p:blipFill>
        <p:spPr>
          <a:xfrm>
            <a:off x="330120" y="304920"/>
            <a:ext cx="1320840" cy="628020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660240" y="533520"/>
            <a:ext cx="8420040" cy="75960"/>
            <a:chOff x="660240" y="533520"/>
            <a:chExt cx="8420040" cy="75960"/>
          </a:xfrm>
        </p:grpSpPr>
        <p:sp>
          <p:nvSpPr>
            <p:cNvPr id="61" name=""/>
            <p:cNvSpPr/>
            <p:nvPr/>
          </p:nvSpPr>
          <p:spPr>
            <a:xfrm>
              <a:off x="825480" y="533520"/>
              <a:ext cx="825480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0240" y="533520"/>
              <a:ext cx="8244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novalogoltc" descr=""/>
          <p:cNvPicPr/>
          <p:nvPr/>
        </p:nvPicPr>
        <p:blipFill>
          <a:blip r:embed="rId2"/>
          <a:stretch/>
        </p:blipFill>
        <p:spPr>
          <a:xfrm>
            <a:off x="0" y="0"/>
            <a:ext cx="318960" cy="533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43040" y="228600"/>
            <a:ext cx="561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UNIVERSIDADE FEDERAL DO ESPÍRITO SA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5240" y="971640"/>
            <a:ext cx="9575640" cy="2844720"/>
          </a:xfrm>
          <a:prstGeom prst="rect">
            <a:avLst/>
          </a:prstGeom>
          <a:solidFill>
            <a:srgbClr val="fefad6"/>
          </a:solidFill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bjetivo Ger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66"/>
                </a:solidFill>
                <a:latin typeface="Arial"/>
              </a:rPr>
              <a:t>Desenvolver Aplicações Multidisciplinares em Geoprocessamento através da Utilização de Ambientes de Programação em Sistemas de Informações Geográficas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328320" y="0"/>
            <a:ext cx="577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328320" y="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1E75-2E2B-40E5-B999-72D72C9CCE68}" type="slidenum"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fundo%20slid%20faixa" descr=""/>
          <p:cNvPicPr/>
          <p:nvPr/>
        </p:nvPicPr>
        <p:blipFill>
          <a:blip r:embed="rId1"/>
          <a:stretch/>
        </p:blipFill>
        <p:spPr>
          <a:xfrm>
            <a:off x="330120" y="304920"/>
            <a:ext cx="1320840" cy="6280200"/>
          </a:xfrm>
          <a:prstGeom prst="rect">
            <a:avLst/>
          </a:prstGeom>
          <a:ln w="0">
            <a:noFill/>
          </a:ln>
        </p:spPr>
      </p:pic>
      <p:grpSp>
        <p:nvGrpSpPr>
          <p:cNvPr id="760" name=""/>
          <p:cNvGrpSpPr/>
          <p:nvPr/>
        </p:nvGrpSpPr>
        <p:grpSpPr>
          <a:xfrm>
            <a:off x="660240" y="533520"/>
            <a:ext cx="8420040" cy="75960"/>
            <a:chOff x="660240" y="533520"/>
            <a:chExt cx="8420040" cy="75960"/>
          </a:xfrm>
        </p:grpSpPr>
        <p:sp>
          <p:nvSpPr>
            <p:cNvPr id="761" name=""/>
            <p:cNvSpPr/>
            <p:nvPr/>
          </p:nvSpPr>
          <p:spPr>
            <a:xfrm>
              <a:off x="825480" y="533520"/>
              <a:ext cx="825480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60240" y="533520"/>
              <a:ext cx="8244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3" name="novalogoltc" descr=""/>
          <p:cNvPicPr/>
          <p:nvPr/>
        </p:nvPicPr>
        <p:blipFill>
          <a:blip r:embed="rId2"/>
          <a:stretch/>
        </p:blipFill>
        <p:spPr>
          <a:xfrm>
            <a:off x="0" y="0"/>
            <a:ext cx="318960" cy="53352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743040" y="228600"/>
            <a:ext cx="561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UNIVERSIDADE FEDERAL DO ESPÍRITO SA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328320" y="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B10D-D356-4374-81F3-7EB6E648E12E}" type="slidenum"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286000" y="685800"/>
            <a:ext cx="5029200" cy="5205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stes e 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7" name=""/>
          <p:cNvGraphicFramePr/>
          <p:nvPr/>
        </p:nvGraphicFramePr>
        <p:xfrm>
          <a:off x="436680" y="1370160"/>
          <a:ext cx="8991360" cy="5030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6680" y="1370160"/>
                    <a:ext cx="8991360" cy="50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fundo%20slid%20faixa" descr=""/>
          <p:cNvPicPr/>
          <p:nvPr/>
        </p:nvPicPr>
        <p:blipFill>
          <a:blip r:embed="rId1"/>
          <a:stretch/>
        </p:blipFill>
        <p:spPr>
          <a:xfrm>
            <a:off x="330120" y="304920"/>
            <a:ext cx="1320840" cy="6280200"/>
          </a:xfrm>
          <a:prstGeom prst="rect">
            <a:avLst/>
          </a:prstGeom>
          <a:ln w="0">
            <a:noFill/>
          </a:ln>
        </p:spPr>
      </p:pic>
      <p:grpSp>
        <p:nvGrpSpPr>
          <p:cNvPr id="770" name=""/>
          <p:cNvGrpSpPr/>
          <p:nvPr/>
        </p:nvGrpSpPr>
        <p:grpSpPr>
          <a:xfrm>
            <a:off x="660240" y="533520"/>
            <a:ext cx="8420040" cy="75960"/>
            <a:chOff x="660240" y="533520"/>
            <a:chExt cx="8420040" cy="75960"/>
          </a:xfrm>
        </p:grpSpPr>
        <p:sp>
          <p:nvSpPr>
            <p:cNvPr id="771" name=""/>
            <p:cNvSpPr/>
            <p:nvPr/>
          </p:nvSpPr>
          <p:spPr>
            <a:xfrm>
              <a:off x="825480" y="533520"/>
              <a:ext cx="825480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60240" y="533520"/>
              <a:ext cx="8244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3" name="novalogoltc" descr=""/>
          <p:cNvPicPr/>
          <p:nvPr/>
        </p:nvPicPr>
        <p:blipFill>
          <a:blip r:embed="rId2"/>
          <a:stretch/>
        </p:blipFill>
        <p:spPr>
          <a:xfrm>
            <a:off x="0" y="0"/>
            <a:ext cx="318960" cy="53352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743040" y="228600"/>
            <a:ext cx="561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UNIVERSIDADE FEDERAL DO ESPÍRITO SA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9328320" y="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E8C5-34FD-4ECD-A3A2-FDA8314FCED7}" type="slidenum"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990720" y="647640"/>
            <a:ext cx="8134200" cy="5205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lusões, Subprodutos e Projetos Fut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-609480" y="1143000"/>
            <a:ext cx="34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onclusões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28600" y="1498680"/>
            <a:ext cx="9372600" cy="5277600"/>
          </a:xfrm>
          <a:prstGeom prst="rect">
            <a:avLst/>
          </a:prstGeom>
          <a:solidFill>
            <a:srgbClr val="fefad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Arial"/>
              </a:rPr>
              <a:t>As ferramentas implementadas permitem a realização dos procedimentos topográficos básicos com geração de produtos padroniz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Arial"/>
              </a:rPr>
              <a:t>Otimizações futuras poderão ser realizadas com pequenas adaptações para as novas versões do  ArcView usando VB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3399"/>
                </a:solidFill>
                <a:latin typeface="Arial"/>
              </a:rPr>
              <a:t>Os resultados acadêmicos estão sendo positivos com a utilização das ferramentas por turmas da disciplina de topografia (2000/2 e 2001/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3399"/>
                </a:solidFill>
                <a:latin typeface="Arial"/>
              </a:rPr>
              <a:t>A presente dissertação contou com sugestões técnicas da comunidade científica onde fora publicado e/ou apresenta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algn="just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Arial"/>
                <a:ea typeface="Times New Roman"/>
              </a:rPr>
              <a:t>GISBRASIL 99 . Salvador-BA, 1999.</a:t>
            </a:r>
            <a:r>
              <a:rPr b="1" lang="pt-BR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algn="just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Arial"/>
                <a:ea typeface="Times New Roman"/>
              </a:rPr>
              <a:t>XIX Congresso Brasiliero de Cartografia. Recife-PE, 1999.</a:t>
            </a:r>
            <a:r>
              <a:rPr b="1" lang="pt-BR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algn="just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Arial"/>
                <a:ea typeface="Arial Unicode MS"/>
              </a:rPr>
              <a:t>II Simpósio Latino-Americano de Agrimensura e Cartografia. Foz do Iguaçú-PR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algn="just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Arial"/>
                <a:ea typeface="Arial Unicode MS"/>
              </a:rPr>
              <a:t>VII Conferência Latino-Americana de Usuários ESRI/ERDAS.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 Unicode MS"/>
              </a:rPr>
              <a:t>San José – Costa Rica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9" name="fundo%20slid%20faixa" descr=""/>
          <p:cNvPicPr/>
          <p:nvPr/>
        </p:nvPicPr>
        <p:blipFill>
          <a:blip r:embed="rId1"/>
          <a:stretch/>
        </p:blipFill>
        <p:spPr>
          <a:xfrm>
            <a:off x="330120" y="304920"/>
            <a:ext cx="1320840" cy="6280200"/>
          </a:xfrm>
          <a:prstGeom prst="rect">
            <a:avLst/>
          </a:prstGeom>
          <a:ln w="0">
            <a:noFill/>
          </a:ln>
        </p:spPr>
      </p:pic>
      <p:grpSp>
        <p:nvGrpSpPr>
          <p:cNvPr id="780" name=""/>
          <p:cNvGrpSpPr/>
          <p:nvPr/>
        </p:nvGrpSpPr>
        <p:grpSpPr>
          <a:xfrm>
            <a:off x="660240" y="533520"/>
            <a:ext cx="8420040" cy="75960"/>
            <a:chOff x="660240" y="533520"/>
            <a:chExt cx="8420040" cy="75960"/>
          </a:xfrm>
        </p:grpSpPr>
        <p:sp>
          <p:nvSpPr>
            <p:cNvPr id="781" name=""/>
            <p:cNvSpPr/>
            <p:nvPr/>
          </p:nvSpPr>
          <p:spPr>
            <a:xfrm>
              <a:off x="825480" y="533520"/>
              <a:ext cx="825480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60240" y="533520"/>
              <a:ext cx="8244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3" name="novalogoltc" descr=""/>
          <p:cNvPicPr/>
          <p:nvPr/>
        </p:nvPicPr>
        <p:blipFill>
          <a:blip r:embed="rId2"/>
          <a:stretch/>
        </p:blipFill>
        <p:spPr>
          <a:xfrm>
            <a:off x="0" y="0"/>
            <a:ext cx="318960" cy="533520"/>
          </a:xfrm>
          <a:prstGeom prst="rect">
            <a:avLst/>
          </a:prstGeom>
          <a:ln w="0">
            <a:noFill/>
          </a:ln>
        </p:spPr>
      </p:pic>
      <p:sp>
        <p:nvSpPr>
          <p:cNvPr id="784" name=""/>
          <p:cNvSpPr/>
          <p:nvPr/>
        </p:nvSpPr>
        <p:spPr>
          <a:xfrm>
            <a:off x="743040" y="228600"/>
            <a:ext cx="561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UNIVERSIDADE FEDERAL DO ESPÍRITO SA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9328320" y="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64D8-2513-4229-8DB7-5C420AC9D4BB}" type="slidenum"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990720" y="647640"/>
            <a:ext cx="8134200" cy="5205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lusões, Subprodutos e Projetos Fut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6320" y="1143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onclusões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80880" y="1574640"/>
            <a:ext cx="9372600" cy="2533320"/>
          </a:xfrm>
          <a:prstGeom prst="rect">
            <a:avLst/>
          </a:prstGeom>
          <a:solidFill>
            <a:srgbClr val="fefad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3399"/>
                </a:solidFill>
                <a:latin typeface="Arial"/>
              </a:rPr>
              <a:t>A proposta de utilização acadêmica está sendo submetida em artigo técnico ao XX CBC.Porto Alegre-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3399"/>
                </a:solidFill>
                <a:latin typeface="Arial"/>
              </a:rPr>
              <a:t>O domínio do Ambiente do ArcView GIS e sua linguagem tem propiciado a realização de Projetos de Pesquisa, Prestação de Serviços e Curs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3399"/>
                </a:solidFill>
                <a:latin typeface="Arial"/>
              </a:rPr>
              <a:t>Projeto MAPE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3399"/>
                </a:solidFill>
                <a:latin typeface="Arial"/>
              </a:rPr>
              <a:t>Projeto SIHB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3399"/>
                </a:solidFill>
                <a:latin typeface="Arial"/>
              </a:rPr>
              <a:t>Projeto Gasoduto: Lagoa Parda-Vitó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3399"/>
                </a:solidFill>
                <a:latin typeface="Arial"/>
              </a:rPr>
              <a:t>I, II e III Curso de Extensão em Geoprocess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9" name="fundo%20slid%20faixa" descr=""/>
          <p:cNvPicPr/>
          <p:nvPr/>
        </p:nvPicPr>
        <p:blipFill>
          <a:blip r:embed="rId1"/>
          <a:stretch/>
        </p:blipFill>
        <p:spPr>
          <a:xfrm>
            <a:off x="330120" y="304920"/>
            <a:ext cx="1320840" cy="6280200"/>
          </a:xfrm>
          <a:prstGeom prst="rect">
            <a:avLst/>
          </a:prstGeom>
          <a:ln w="0">
            <a:noFill/>
          </a:ln>
        </p:spPr>
      </p:pic>
      <p:grpSp>
        <p:nvGrpSpPr>
          <p:cNvPr id="790" name=""/>
          <p:cNvGrpSpPr/>
          <p:nvPr/>
        </p:nvGrpSpPr>
        <p:grpSpPr>
          <a:xfrm>
            <a:off x="660240" y="533520"/>
            <a:ext cx="8420040" cy="75960"/>
            <a:chOff x="660240" y="533520"/>
            <a:chExt cx="8420040" cy="75960"/>
          </a:xfrm>
        </p:grpSpPr>
        <p:sp>
          <p:nvSpPr>
            <p:cNvPr id="791" name=""/>
            <p:cNvSpPr/>
            <p:nvPr/>
          </p:nvSpPr>
          <p:spPr>
            <a:xfrm>
              <a:off x="825480" y="533520"/>
              <a:ext cx="825480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60240" y="533520"/>
              <a:ext cx="8244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3" name="novalogoltc" descr=""/>
          <p:cNvPicPr/>
          <p:nvPr/>
        </p:nvPicPr>
        <p:blipFill>
          <a:blip r:embed="rId2"/>
          <a:stretch/>
        </p:blipFill>
        <p:spPr>
          <a:xfrm>
            <a:off x="0" y="0"/>
            <a:ext cx="318960" cy="53352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/>
          <p:nvPr/>
        </p:nvSpPr>
        <p:spPr>
          <a:xfrm>
            <a:off x="743040" y="228600"/>
            <a:ext cx="561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UNIVERSIDADE FEDERAL DO ESPÍRITO SA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9328320" y="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7C03-F9CA-4C4F-AA8F-70C070173398}" type="slidenum"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685800" y="1447920"/>
            <a:ext cx="8381880" cy="2999880"/>
            <a:chOff x="685800" y="1447920"/>
            <a:chExt cx="8381880" cy="2999880"/>
          </a:xfrm>
        </p:grpSpPr>
        <p:sp>
          <p:nvSpPr>
            <p:cNvPr id="797" name=""/>
            <p:cNvSpPr/>
            <p:nvPr/>
          </p:nvSpPr>
          <p:spPr>
            <a:xfrm>
              <a:off x="990720" y="1981080"/>
              <a:ext cx="8076960" cy="2466720"/>
            </a:xfrm>
            <a:prstGeom prst="rect">
              <a:avLst/>
            </a:prstGeom>
            <a:solidFill>
              <a:srgbClr val="fefad6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Ferramenta de Locação de Projetos e Obr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Currículo Mínimo: Cartografia e Informátic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Simulador de Exercícios e Prov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Coordenação do Projeto SP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85800" y="144792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ubproduto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9" name=""/>
          <p:cNvSpPr/>
          <p:nvPr/>
        </p:nvSpPr>
        <p:spPr>
          <a:xfrm>
            <a:off x="1066680" y="762120"/>
            <a:ext cx="8134560" cy="5205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lusões, Subprodutos e Projetos Fut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fundo%20slid%20faixa" descr=""/>
          <p:cNvPicPr/>
          <p:nvPr/>
        </p:nvPicPr>
        <p:blipFill>
          <a:blip r:embed="rId1"/>
          <a:stretch/>
        </p:blipFill>
        <p:spPr>
          <a:xfrm>
            <a:off x="330120" y="304920"/>
            <a:ext cx="1320840" cy="6280200"/>
          </a:xfrm>
          <a:prstGeom prst="rect">
            <a:avLst/>
          </a:prstGeom>
          <a:ln w="0">
            <a:noFill/>
          </a:ln>
        </p:spPr>
      </p:pic>
      <p:grpSp>
        <p:nvGrpSpPr>
          <p:cNvPr id="801" name=""/>
          <p:cNvGrpSpPr/>
          <p:nvPr/>
        </p:nvGrpSpPr>
        <p:grpSpPr>
          <a:xfrm>
            <a:off x="660240" y="533520"/>
            <a:ext cx="8420040" cy="75960"/>
            <a:chOff x="660240" y="533520"/>
            <a:chExt cx="8420040" cy="75960"/>
          </a:xfrm>
        </p:grpSpPr>
        <p:sp>
          <p:nvSpPr>
            <p:cNvPr id="802" name=""/>
            <p:cNvSpPr/>
            <p:nvPr/>
          </p:nvSpPr>
          <p:spPr>
            <a:xfrm>
              <a:off x="825480" y="533520"/>
              <a:ext cx="825480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60240" y="533520"/>
              <a:ext cx="8244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4" name="novalogoltc" descr=""/>
          <p:cNvPicPr/>
          <p:nvPr/>
        </p:nvPicPr>
        <p:blipFill>
          <a:blip r:embed="rId2"/>
          <a:stretch/>
        </p:blipFill>
        <p:spPr>
          <a:xfrm>
            <a:off x="0" y="0"/>
            <a:ext cx="318960" cy="53352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/>
          <p:nvPr/>
        </p:nvSpPr>
        <p:spPr>
          <a:xfrm>
            <a:off x="743040" y="228600"/>
            <a:ext cx="561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UNIVERSIDADE FEDERAL DO ESPÍRITO SA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9328320" y="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EBB7-D72E-429A-90CB-1344B90F0C91}" type="slidenum"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181480" y="0"/>
            <a:ext cx="34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rojetos Futuro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52280" y="1393920"/>
            <a:ext cx="9601200" cy="5487840"/>
          </a:xfrm>
          <a:prstGeom prst="rect">
            <a:avLst/>
          </a:prstGeom>
          <a:solidFill>
            <a:srgbClr val="fefad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437"/>
              </a:spcBef>
              <a:buClr>
                <a:srgbClr val="003366"/>
              </a:buClr>
              <a:buFont typeface="Arial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t-BR" sz="2300" spc="-1" strike="noStrike">
                <a:solidFill>
                  <a:srgbClr val="003366"/>
                </a:solidFill>
                <a:latin typeface="Arial"/>
              </a:rPr>
              <a:t>Otimização das Ferramentas Implementadas e </a:t>
            </a:r>
            <a:r>
              <a:rPr b="1" lang="pt-BR" sz="23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2300" spc="-1" strike="noStrike">
                <a:solidFill>
                  <a:srgbClr val="003366"/>
                </a:solidFill>
                <a:latin typeface="Arial"/>
              </a:rPr>
              <a:t>Implementação de </a:t>
            </a:r>
            <a:r>
              <a:rPr b="1" lang="pt-BR" sz="23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2300" spc="-1" strike="noStrike">
                <a:solidFill>
                  <a:srgbClr val="003366"/>
                </a:solidFill>
                <a:latin typeface="Arial"/>
              </a:rPr>
              <a:t>Ferramentas nas Áreas de Fotogrametria, Sensoriamento Remoto </a:t>
            </a:r>
            <a:r>
              <a:rPr b="1" lang="pt-BR" sz="23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2300" spc="-1" strike="noStrike">
                <a:solidFill>
                  <a:srgbClr val="003366"/>
                </a:solidFill>
                <a:latin typeface="Arial"/>
              </a:rPr>
              <a:t>e Geodésia Avançada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buClr>
                <a:srgbClr val="003366"/>
              </a:buClr>
              <a:buFont typeface="Arial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pt-BR" sz="23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t-BR" sz="2300" spc="-1" strike="noStrike">
                <a:solidFill>
                  <a:srgbClr val="003366"/>
                </a:solidFill>
                <a:latin typeface="Arial"/>
              </a:rPr>
              <a:t>Proposta de Estudos de Viabilização das      </a:t>
            </a:r>
            <a:r>
              <a:rPr b="1" lang="pt-BR" sz="23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2300" spc="-1" strike="noStrike">
                <a:solidFill>
                  <a:srgbClr val="003366"/>
                </a:solidFill>
                <a:latin typeface="Arial"/>
              </a:rPr>
              <a:t>Ferramentas </a:t>
            </a:r>
            <a:r>
              <a:rPr b="1" lang="pt-BR" sz="23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2300" spc="-1" strike="noStrike">
                <a:solidFill>
                  <a:srgbClr val="003366"/>
                </a:solidFill>
                <a:latin typeface="Arial"/>
              </a:rPr>
              <a:t>Implementadas via Interne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buClr>
                <a:srgbClr val="003366"/>
              </a:buClr>
              <a:buFont typeface="Arial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pt-BR" sz="23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t-BR" sz="2300" spc="-1" strike="noStrike">
                <a:solidFill>
                  <a:srgbClr val="003366"/>
                </a:solidFill>
                <a:latin typeface="Arial"/>
              </a:rPr>
              <a:t>Implementação de Ferramenta de </a:t>
            </a:r>
            <a:r>
              <a:rPr b="1" lang="pt-BR" sz="23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2300" spc="-1" strike="noStrike">
                <a:solidFill>
                  <a:srgbClr val="003366"/>
                </a:solidFill>
                <a:latin typeface="Arial"/>
              </a:rPr>
              <a:t>Nivelamento </a:t>
            </a:r>
            <a:r>
              <a:rPr b="1" lang="pt-BR" sz="23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2300" spc="-1" strike="noStrike">
                <a:solidFill>
                  <a:srgbClr val="003366"/>
                </a:solidFill>
                <a:latin typeface="Arial"/>
              </a:rPr>
              <a:t>Geométrico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buClr>
                <a:srgbClr val="003366"/>
              </a:buClr>
              <a:buFont typeface="Arial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pt-BR" sz="23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t-BR" sz="2300" spc="-1" strike="noStrike">
                <a:solidFill>
                  <a:srgbClr val="003366"/>
                </a:solidFill>
                <a:latin typeface="Arial"/>
              </a:rPr>
              <a:t>Incentivo e Orientação às Utilizações </a:t>
            </a:r>
            <a:r>
              <a:rPr b="1" lang="pt-BR" sz="23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2300" spc="-1" strike="noStrike">
                <a:solidFill>
                  <a:srgbClr val="003366"/>
                </a:solidFill>
                <a:latin typeface="Arial"/>
              </a:rPr>
              <a:t>Acadêmic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buClr>
                <a:srgbClr val="003366"/>
              </a:buClr>
              <a:buFont typeface="Arial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pt-BR" sz="23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t-BR" sz="2300" spc="-1" strike="noStrike">
                <a:solidFill>
                  <a:srgbClr val="003366"/>
                </a:solidFill>
                <a:latin typeface="Arial"/>
              </a:rPr>
              <a:t>Implantação, Ajustamento e </a:t>
            </a:r>
            <a:r>
              <a:rPr b="1" lang="pt-BR" sz="23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2300" spc="-1" strike="noStrike">
                <a:solidFill>
                  <a:srgbClr val="003366"/>
                </a:solidFill>
                <a:latin typeface="Arial"/>
              </a:rPr>
              <a:t>Disponibilização </a:t>
            </a:r>
            <a:r>
              <a:rPr b="1" lang="pt-BR" sz="23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2300" spc="-1" strike="noStrike">
                <a:solidFill>
                  <a:srgbClr val="003366"/>
                </a:solidFill>
                <a:latin typeface="Arial"/>
              </a:rPr>
              <a:t>da Rede Geodésica GPS do ES</a:t>
            </a:r>
            <a:r>
              <a:rPr b="1" lang="pt-BR" sz="2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t-BR" sz="27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(Doutorado);</a:t>
            </a:r>
            <a:r>
              <a:rPr b="1" lang="pt-BR" sz="27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buClr>
                <a:srgbClr val="003366"/>
              </a:buClr>
              <a:buFont typeface="Arial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pt-BR" sz="2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t-BR" sz="2300" spc="-1" strike="noStrike">
                <a:solidFill>
                  <a:srgbClr val="003366"/>
                </a:solidFill>
                <a:latin typeface="Arial"/>
              </a:rPr>
              <a:t>Orientação dos Módulos Complementares do </a:t>
            </a:r>
            <a:r>
              <a:rPr b="1" lang="pt-BR" sz="23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2300" spc="-1" strike="noStrike">
                <a:solidFill>
                  <a:srgbClr val="003366"/>
                </a:solidFill>
                <a:latin typeface="Arial"/>
              </a:rPr>
              <a:t>SPID</a:t>
            </a:r>
            <a:r>
              <a:rPr b="1" lang="pt-BR" sz="2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(Análise </a:t>
            </a: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Espacial, Análise de Redes, </a:t>
            </a: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Linguagem e </a:t>
            </a: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Módulo Topográfico e </a:t>
            </a: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Geodésico)</a:t>
            </a:r>
            <a:r>
              <a:rPr b="1" lang="pt-BR" sz="27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990720" y="685800"/>
            <a:ext cx="8134200" cy="5205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lusões, Subprodutos e Projetos Fut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fundo%20slid%20faixa" descr=""/>
          <p:cNvPicPr/>
          <p:nvPr/>
        </p:nvPicPr>
        <p:blipFill>
          <a:blip r:embed="rId1"/>
          <a:stretch/>
        </p:blipFill>
        <p:spPr>
          <a:xfrm>
            <a:off x="330120" y="304920"/>
            <a:ext cx="1320840" cy="6280200"/>
          </a:xfrm>
          <a:prstGeom prst="rect">
            <a:avLst/>
          </a:prstGeom>
          <a:ln w="0">
            <a:noFill/>
          </a:ln>
        </p:spPr>
      </p:pic>
      <p:grpSp>
        <p:nvGrpSpPr>
          <p:cNvPr id="811" name=""/>
          <p:cNvGrpSpPr/>
          <p:nvPr/>
        </p:nvGrpSpPr>
        <p:grpSpPr>
          <a:xfrm>
            <a:off x="660240" y="533520"/>
            <a:ext cx="8420040" cy="75960"/>
            <a:chOff x="660240" y="533520"/>
            <a:chExt cx="8420040" cy="75960"/>
          </a:xfrm>
        </p:grpSpPr>
        <p:sp>
          <p:nvSpPr>
            <p:cNvPr id="812" name=""/>
            <p:cNvSpPr/>
            <p:nvPr/>
          </p:nvSpPr>
          <p:spPr>
            <a:xfrm>
              <a:off x="825480" y="533520"/>
              <a:ext cx="825480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60240" y="533520"/>
              <a:ext cx="8244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14" name="novalogoltc" descr=""/>
          <p:cNvPicPr/>
          <p:nvPr/>
        </p:nvPicPr>
        <p:blipFill>
          <a:blip r:embed="rId2"/>
          <a:stretch/>
        </p:blipFill>
        <p:spPr>
          <a:xfrm>
            <a:off x="0" y="0"/>
            <a:ext cx="318960" cy="53352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743040" y="228600"/>
            <a:ext cx="561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UNIVERSIDADE FEDERAL DO ESPÍRITO SA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9328320" y="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0D7F-30A0-4DB6-8AFD-EB56BE297901}" type="slidenum"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7" name="IMAGE002" descr=""/>
          <p:cNvPicPr/>
          <p:nvPr/>
        </p:nvPicPr>
        <p:blipFill>
          <a:blip r:embed="rId3"/>
          <a:stretch/>
        </p:blipFill>
        <p:spPr>
          <a:xfrm>
            <a:off x="888840" y="762120"/>
            <a:ext cx="4064040" cy="2952720"/>
          </a:xfrm>
          <a:prstGeom prst="rect">
            <a:avLst/>
          </a:prstGeom>
          <a:ln w="0">
            <a:noFill/>
          </a:ln>
        </p:spPr>
      </p:pic>
      <p:pic>
        <p:nvPicPr>
          <p:cNvPr id="818" name="IMAGE007" descr=""/>
          <p:cNvPicPr/>
          <p:nvPr/>
        </p:nvPicPr>
        <p:blipFill>
          <a:blip r:embed="rId4"/>
          <a:stretch/>
        </p:blipFill>
        <p:spPr>
          <a:xfrm>
            <a:off x="5048280" y="743040"/>
            <a:ext cx="4064040" cy="2990880"/>
          </a:xfrm>
          <a:prstGeom prst="rect">
            <a:avLst/>
          </a:prstGeom>
          <a:ln w="0">
            <a:noFill/>
          </a:ln>
        </p:spPr>
      </p:pic>
      <p:pic>
        <p:nvPicPr>
          <p:cNvPr id="819" name="IMAGE003" descr=""/>
          <p:cNvPicPr/>
          <p:nvPr/>
        </p:nvPicPr>
        <p:blipFill>
          <a:blip r:embed="rId5"/>
          <a:stretch/>
        </p:blipFill>
        <p:spPr>
          <a:xfrm>
            <a:off x="5048280" y="3772080"/>
            <a:ext cx="4038480" cy="3047760"/>
          </a:xfrm>
          <a:prstGeom prst="rect">
            <a:avLst/>
          </a:prstGeom>
          <a:ln w="0">
            <a:noFill/>
          </a:ln>
        </p:spPr>
      </p:pic>
      <p:sp>
        <p:nvSpPr>
          <p:cNvPr id="820" name=""/>
          <p:cNvSpPr/>
          <p:nvPr/>
        </p:nvSpPr>
        <p:spPr>
          <a:xfrm>
            <a:off x="3809880" y="763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Uso Acadêmico- Turmas – 200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1" name="IMAGE004" descr=""/>
          <p:cNvPicPr/>
          <p:nvPr/>
        </p:nvPicPr>
        <p:blipFill>
          <a:blip r:embed="rId6"/>
          <a:stretch/>
        </p:blipFill>
        <p:spPr>
          <a:xfrm>
            <a:off x="888840" y="3772080"/>
            <a:ext cx="40640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fundo%20slid%20faixa" descr=""/>
          <p:cNvPicPr/>
          <p:nvPr/>
        </p:nvPicPr>
        <p:blipFill>
          <a:blip r:embed="rId1"/>
          <a:stretch/>
        </p:blipFill>
        <p:spPr>
          <a:xfrm>
            <a:off x="330120" y="304920"/>
            <a:ext cx="1320840" cy="628020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660240" y="533520"/>
            <a:ext cx="8420040" cy="75960"/>
            <a:chOff x="660240" y="533520"/>
            <a:chExt cx="8420040" cy="75960"/>
          </a:xfrm>
        </p:grpSpPr>
        <p:sp>
          <p:nvSpPr>
            <p:cNvPr id="70" name=""/>
            <p:cNvSpPr/>
            <p:nvPr/>
          </p:nvSpPr>
          <p:spPr>
            <a:xfrm>
              <a:off x="825480" y="533520"/>
              <a:ext cx="825480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0240" y="533520"/>
              <a:ext cx="8244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" name="novalogoltc" descr=""/>
          <p:cNvPicPr/>
          <p:nvPr/>
        </p:nvPicPr>
        <p:blipFill>
          <a:blip r:embed="rId2"/>
          <a:stretch/>
        </p:blipFill>
        <p:spPr>
          <a:xfrm>
            <a:off x="0" y="0"/>
            <a:ext cx="318960" cy="533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3040" y="228600"/>
            <a:ext cx="561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UNIVERSIDADE FEDERAL DO ESPÍRITO SA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7800" y="723960"/>
            <a:ext cx="8832960" cy="3957120"/>
          </a:xfrm>
          <a:prstGeom prst="rect">
            <a:avLst/>
          </a:prstGeom>
          <a:solidFill>
            <a:srgbClr val="fefad6"/>
          </a:solidFill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Implementação em linguagem AVENUE de métodos topográficos de Poligonação e Irradiação Taqueométrica com ajustamento Paramétrico com MM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Implementação de método conversão de coordenadas geográficas em plana UTM e UTM em geográ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Implementação de ferramenta de nomenclatura, classificação e articulação de folhas baseadas na Carta Internacional ao Milionésimo (CI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28320" y="0"/>
            <a:ext cx="577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328320" y="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6E18-A097-41C0-97B5-00F1F5027318}" type="slidenum"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fundo%20slid%20faixa" descr=""/>
          <p:cNvPicPr/>
          <p:nvPr/>
        </p:nvPicPr>
        <p:blipFill>
          <a:blip r:embed="rId1"/>
          <a:stretch/>
        </p:blipFill>
        <p:spPr>
          <a:xfrm>
            <a:off x="330120" y="304920"/>
            <a:ext cx="1320840" cy="628020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660240" y="533520"/>
            <a:ext cx="8420040" cy="75960"/>
            <a:chOff x="660240" y="533520"/>
            <a:chExt cx="8420040" cy="75960"/>
          </a:xfrm>
        </p:grpSpPr>
        <p:sp>
          <p:nvSpPr>
            <p:cNvPr id="79" name=""/>
            <p:cNvSpPr/>
            <p:nvPr/>
          </p:nvSpPr>
          <p:spPr>
            <a:xfrm>
              <a:off x="825480" y="533520"/>
              <a:ext cx="825480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0240" y="533520"/>
              <a:ext cx="8244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1" name="novalogoltc" descr=""/>
          <p:cNvPicPr/>
          <p:nvPr/>
        </p:nvPicPr>
        <p:blipFill>
          <a:blip r:embed="rId2"/>
          <a:stretch/>
        </p:blipFill>
        <p:spPr>
          <a:xfrm>
            <a:off x="0" y="0"/>
            <a:ext cx="318960" cy="533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43040" y="228600"/>
            <a:ext cx="561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UNIVERSIDADE FEDERAL DO ESPÍRITO SA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7800" y="685800"/>
            <a:ext cx="8832960" cy="4894200"/>
          </a:xfrm>
          <a:prstGeom prst="rect">
            <a:avLst/>
          </a:prstGeom>
          <a:solidFill>
            <a:srgbClr val="fefad6"/>
          </a:solidFill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bjetivos Específicos (cont.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Elaboração de Proposta de Currículo Integrado de Disciplinas de Cartografia e Inform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Utilização acadêmica das ferramentas topográf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Em trabalhos de campo para conferên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Como aplicativo de Cálculo e Edição Final de         Trabalhos Prá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Na Preparação de Exercícios e Pro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Possibilidade de otimização de ferramentas de cartografia digital pelos alunos de Eng. Civil e Infor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28320" y="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4CC0-3BE7-468F-8CA0-68D0D9B8F51F}" type="slidenum"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fundo%20slid%20faixa" descr=""/>
          <p:cNvPicPr/>
          <p:nvPr/>
        </p:nvPicPr>
        <p:blipFill>
          <a:blip r:embed="rId1"/>
          <a:stretch/>
        </p:blipFill>
        <p:spPr>
          <a:xfrm>
            <a:off x="330120" y="304920"/>
            <a:ext cx="1320840" cy="628020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660240" y="533520"/>
            <a:ext cx="8420040" cy="75960"/>
            <a:chOff x="660240" y="533520"/>
            <a:chExt cx="8420040" cy="75960"/>
          </a:xfrm>
        </p:grpSpPr>
        <p:sp>
          <p:nvSpPr>
            <p:cNvPr id="87" name=""/>
            <p:cNvSpPr/>
            <p:nvPr/>
          </p:nvSpPr>
          <p:spPr>
            <a:xfrm>
              <a:off x="825480" y="533520"/>
              <a:ext cx="825480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0240" y="533520"/>
              <a:ext cx="8244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200560" y="0"/>
            <a:ext cx="20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rodu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novalogoltc" descr=""/>
          <p:cNvPicPr/>
          <p:nvPr/>
        </p:nvPicPr>
        <p:blipFill>
          <a:blip r:embed="rId2"/>
          <a:stretch/>
        </p:blipFill>
        <p:spPr>
          <a:xfrm>
            <a:off x="0" y="0"/>
            <a:ext cx="318960" cy="533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43040" y="228600"/>
            <a:ext cx="561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UNIVERSIDADE FEDERAL DO ESPÍRITO SA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328320" y="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972D-6AD3-4CE9-8BD0-612540BEE43B}" type="slidenum"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762120"/>
            <a:ext cx="9658080" cy="5814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oprocessamento e SIG: Conceitos Bás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5840" y="1463760"/>
            <a:ext cx="9245520" cy="1477080"/>
          </a:xfrm>
          <a:prstGeom prst="rect">
            <a:avLst/>
          </a:prstGeom>
          <a:solidFill>
            <a:srgbClr val="fefad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GEOPROCESSAMEN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Denota a disciplina do conhecimento que utiliza técnicas matemáticas e computacionais para o tratamento da informação geográfica.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ÂMARA, G.  (199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3257640"/>
            <a:ext cx="9245520" cy="3146040"/>
          </a:xfrm>
          <a:prstGeom prst="rect">
            <a:avLst/>
          </a:prstGeom>
          <a:solidFill>
            <a:srgbClr val="fefad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istema de Informações Geográficas caracterizam-se p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Arial"/>
              <a:buChar char="•"/>
              <a:tabLst>
                <a:tab algn="l" pos="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Integrar em uma </a:t>
            </a:r>
            <a:r>
              <a:rPr b="1" lang="en-US" sz="1800" spc="-1" strike="noStrike" u="sng">
                <a:solidFill>
                  <a:srgbClr val="003399"/>
                </a:solidFill>
                <a:uFillTx/>
                <a:latin typeface="Arial"/>
              </a:rPr>
              <a:t>única base de dados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, informações espaciais provenientes de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3399"/>
                </a:solidFill>
                <a:uFillTx/>
                <a:latin typeface="Arial"/>
              </a:rPr>
              <a:t>dados cartográfic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Arial"/>
              <a:buChar char="•"/>
              <a:tabLst>
                <a:tab algn="l" pos="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Dados de cens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Arial"/>
              <a:buChar char="•"/>
              <a:tabLst>
                <a:tab algn="l" pos="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</a:tabLst>
            </a:pPr>
            <a:r>
              <a:rPr b="1" lang="en-US" sz="1800" spc="-1" strike="noStrike" u="sng">
                <a:solidFill>
                  <a:srgbClr val="003399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3399"/>
                </a:solidFill>
                <a:uFillTx/>
                <a:latin typeface="Arial"/>
              </a:rPr>
              <a:t>Dados de cadastro urbano e r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Arial"/>
              <a:buChar char="•"/>
              <a:tabLst>
                <a:tab algn="l" pos="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Imagens de satél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Arial"/>
              <a:buChar char="•"/>
              <a:tabLst>
                <a:tab algn="l" pos="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Redes e M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Arial"/>
              <a:buChar char="•"/>
              <a:tabLst>
                <a:tab algn="l" pos="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ombinar e Criar novas informações através de </a:t>
            </a:r>
            <a:r>
              <a:rPr b="1" lang="en-US" sz="1800" spc="-1" strike="noStrike" u="sng">
                <a:solidFill>
                  <a:srgbClr val="003399"/>
                </a:solidFill>
                <a:uFillTx/>
                <a:latin typeface="Arial"/>
              </a:rPr>
              <a:t>algoritmos de manipul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fundo%20slid%20faixa" descr=""/>
          <p:cNvPicPr/>
          <p:nvPr/>
        </p:nvPicPr>
        <p:blipFill>
          <a:blip r:embed="rId1"/>
          <a:stretch/>
        </p:blipFill>
        <p:spPr>
          <a:xfrm>
            <a:off x="330120" y="304920"/>
            <a:ext cx="1320840" cy="62802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660240" y="533520"/>
            <a:ext cx="8420040" cy="75960"/>
            <a:chOff x="660240" y="533520"/>
            <a:chExt cx="8420040" cy="75960"/>
          </a:xfrm>
        </p:grpSpPr>
        <p:sp>
          <p:nvSpPr>
            <p:cNvPr id="98" name=""/>
            <p:cNvSpPr/>
            <p:nvPr/>
          </p:nvSpPr>
          <p:spPr>
            <a:xfrm>
              <a:off x="825480" y="533520"/>
              <a:ext cx="825480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0240" y="533520"/>
              <a:ext cx="8244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60240" y="762120"/>
            <a:ext cx="8255160" cy="459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s SIG´s e suas Linguagens de Progra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novalogoltc" descr=""/>
          <p:cNvPicPr/>
          <p:nvPr/>
        </p:nvPicPr>
        <p:blipFill>
          <a:blip r:embed="rId2"/>
          <a:stretch/>
        </p:blipFill>
        <p:spPr>
          <a:xfrm>
            <a:off x="0" y="0"/>
            <a:ext cx="318960" cy="533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43040" y="228600"/>
            <a:ext cx="561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UNIVERSIDADE FEDERAL DO ESPÍRITO SA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328320" y="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D355-F89E-4AB2-A041-99BD33812456}" type="slidenum"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14400" y="1279440"/>
            <a:ext cx="6781680" cy="1077120"/>
            <a:chOff x="914400" y="1279440"/>
            <a:chExt cx="6781680" cy="1077120"/>
          </a:xfrm>
        </p:grpSpPr>
        <p:grpSp>
          <p:nvGrpSpPr>
            <p:cNvPr id="105" name=""/>
            <p:cNvGrpSpPr/>
            <p:nvPr/>
          </p:nvGrpSpPr>
          <p:grpSpPr>
            <a:xfrm>
              <a:off x="914400" y="1447920"/>
              <a:ext cx="1650600" cy="908640"/>
              <a:chOff x="914400" y="1447920"/>
              <a:chExt cx="1650600" cy="908640"/>
            </a:xfrm>
          </p:grpSpPr>
          <p:pic>
            <p:nvPicPr>
              <p:cNvPr id="106" name="gbanner" descr=""/>
              <p:cNvPicPr/>
              <p:nvPr/>
            </p:nvPicPr>
            <p:blipFill>
              <a:blip r:embed="rId3"/>
              <a:stretch/>
            </p:blipFill>
            <p:spPr>
              <a:xfrm>
                <a:off x="914400" y="1447920"/>
                <a:ext cx="165060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1123920" y="1957680"/>
                <a:ext cx="1031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RAS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2666880" y="1600200"/>
              <a:ext cx="2146320" cy="304920"/>
            </a:xfrm>
            <a:prstGeom prst="rightArrow">
              <a:avLst>
                <a:gd name="adj1" fmla="val 50000"/>
                <a:gd name="adj2" fmla="val 175974"/>
              </a:avLst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32360" y="1279440"/>
              <a:ext cx="412920" cy="930240"/>
            </a:xfrm>
            <a:custGeom>
              <a:avLst/>
              <a:gdLst>
                <a:gd name="textAreaLeft" fmla="*/ 263880 w 412920"/>
                <a:gd name="textAreaRight" fmla="*/ 413280 w 412920"/>
                <a:gd name="textAreaTop" fmla="*/ 24120 h 930240"/>
                <a:gd name="textAreaBottom" fmla="*/ 906120 h 93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45200" y="1320840"/>
              <a:ext cx="2450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Times New Roman"/>
                </a:rPr>
                <a:t>Bibliotecas para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Times New Roman"/>
                </a:rPr>
                <a:t>C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58520" y="1828800"/>
              <a:ext cx="192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Times New Roman"/>
                </a:rPr>
                <a:t>Fortran 77 (Unix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852480" y="2473200"/>
            <a:ext cx="6841080" cy="1720080"/>
            <a:chOff x="852480" y="2473200"/>
            <a:chExt cx="6841080" cy="1720080"/>
          </a:xfrm>
        </p:grpSpPr>
        <p:pic>
          <p:nvPicPr>
            <p:cNvPr id="113" name="logo_l_arcinfo" descr=""/>
            <p:cNvPicPr/>
            <p:nvPr/>
          </p:nvPicPr>
          <p:blipFill>
            <a:blip r:embed="rId4"/>
            <a:stretch/>
          </p:blipFill>
          <p:spPr>
            <a:xfrm>
              <a:off x="852480" y="2473200"/>
              <a:ext cx="128124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668680" y="2930400"/>
              <a:ext cx="2146320" cy="304560"/>
            </a:xfrm>
            <a:prstGeom prst="rightArrow">
              <a:avLst>
                <a:gd name="adj1" fmla="val 50000"/>
                <a:gd name="adj2" fmla="val 176182"/>
              </a:avLst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97440" y="2473200"/>
              <a:ext cx="412920" cy="1295280"/>
            </a:xfrm>
            <a:custGeom>
              <a:avLst/>
              <a:gdLst>
                <a:gd name="textAreaLeft" fmla="*/ 263880 w 412920"/>
                <a:gd name="textAreaRight" fmla="*/ 413280 w 4129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09920" y="2587320"/>
              <a:ext cx="248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Times New Roman"/>
                </a:rPr>
                <a:t>AML (Anteriores a 8.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28640" y="2930400"/>
              <a:ext cx="190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Times New Roman"/>
                </a:rPr>
                <a:t>VBA (Versão 8.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6120" y="3159000"/>
              <a:ext cx="224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3366"/>
                  </a:solidFill>
                  <a:latin typeface="Times New Roman"/>
                </a:rPr>
                <a:t>Componentes par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3366"/>
                  </a:solidFill>
                  <a:latin typeface="Times New Roman"/>
                </a:rPr>
                <a:t>uso de </a:t>
              </a:r>
              <a:r>
                <a:rPr b="1" lang="pt-BR" sz="1800" spc="-1" strike="noStrike">
                  <a:solidFill>
                    <a:srgbClr val="003366"/>
                  </a:solidFill>
                  <a:latin typeface="Arial"/>
                  <a:ea typeface="Arial"/>
                </a:rPr>
                <a:t>C++ e Delph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7520" y="373356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ArcInf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762120" y="4214880"/>
            <a:ext cx="7527600" cy="1195200"/>
            <a:chOff x="762120" y="4214880"/>
            <a:chExt cx="7527600" cy="1195200"/>
          </a:xfrm>
        </p:grpSpPr>
        <p:pic>
          <p:nvPicPr>
            <p:cNvPr id="121" name="spring" descr=""/>
            <p:cNvPicPr/>
            <p:nvPr/>
          </p:nvPicPr>
          <p:blipFill>
            <a:blip r:embed="rId5"/>
            <a:stretch/>
          </p:blipFill>
          <p:spPr>
            <a:xfrm>
              <a:off x="762120" y="4214880"/>
              <a:ext cx="1295280" cy="1195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" name=""/>
            <p:cNvGrpSpPr/>
            <p:nvPr/>
          </p:nvGrpSpPr>
          <p:grpSpPr>
            <a:xfrm>
              <a:off x="2514600" y="4404960"/>
              <a:ext cx="5775120" cy="723240"/>
              <a:chOff x="2514600" y="4404960"/>
              <a:chExt cx="5775120" cy="723240"/>
            </a:xfrm>
          </p:grpSpPr>
          <p:sp>
            <p:nvSpPr>
              <p:cNvPr id="123" name=""/>
              <p:cNvSpPr/>
              <p:nvPr/>
            </p:nvSpPr>
            <p:spPr>
              <a:xfrm>
                <a:off x="2514600" y="4595040"/>
                <a:ext cx="2146320" cy="304560"/>
              </a:xfrm>
              <a:prstGeom prst="rightArrow">
                <a:avLst>
                  <a:gd name="adj1" fmla="val 50000"/>
                  <a:gd name="adj2" fmla="val 176182"/>
                </a:avLst>
              </a:prstGeom>
              <a:solidFill>
                <a:srgbClr val="00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724280" y="4442760"/>
                <a:ext cx="228600" cy="68544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17640 h 685440"/>
                  <a:gd name="textAreaBottom" fmla="*/ 667800 h 685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019840" y="4404960"/>
                <a:ext cx="3269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Times New Roman"/>
                  </a:rPr>
                  <a:t>LEG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3366"/>
                    </a:solidFill>
                    <a:latin typeface="Times New Roman"/>
                  </a:rPr>
                  <a:t>(Linguagem Espacial para Geoprocessamento Algébrico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" name=""/>
          <p:cNvGrpSpPr/>
          <p:nvPr/>
        </p:nvGrpSpPr>
        <p:grpSpPr>
          <a:xfrm>
            <a:off x="762120" y="5668920"/>
            <a:ext cx="7929720" cy="807840"/>
            <a:chOff x="762120" y="5668920"/>
            <a:chExt cx="7929720" cy="807840"/>
          </a:xfrm>
        </p:grpSpPr>
        <p:pic>
          <p:nvPicPr>
            <p:cNvPr id="127" name="idrisi32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762120" y="5790960"/>
              <a:ext cx="1488960" cy="346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" name=""/>
            <p:cNvGrpSpPr/>
            <p:nvPr/>
          </p:nvGrpSpPr>
          <p:grpSpPr>
            <a:xfrm>
              <a:off x="2895480" y="5668920"/>
              <a:ext cx="5796360" cy="807840"/>
              <a:chOff x="2895480" y="5668920"/>
              <a:chExt cx="5796360" cy="807840"/>
            </a:xfrm>
          </p:grpSpPr>
          <p:sp>
            <p:nvSpPr>
              <p:cNvPr id="129" name=""/>
              <p:cNvSpPr/>
              <p:nvPr/>
            </p:nvSpPr>
            <p:spPr>
              <a:xfrm>
                <a:off x="2895480" y="5783040"/>
                <a:ext cx="2146320" cy="304920"/>
              </a:xfrm>
              <a:prstGeom prst="rightArrow">
                <a:avLst>
                  <a:gd name="adj1" fmla="val 50000"/>
                  <a:gd name="adj2" fmla="val 175974"/>
                </a:avLst>
              </a:prstGeom>
              <a:solidFill>
                <a:srgbClr val="00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116680" y="5707080"/>
                <a:ext cx="293400" cy="533160"/>
              </a:xfrm>
              <a:custGeom>
                <a:avLst/>
                <a:gdLst>
                  <a:gd name="textAreaLeft" fmla="*/ 187560 w 293400"/>
                  <a:gd name="textAreaRight" fmla="*/ 293760 w 293400"/>
                  <a:gd name="textAreaTop" fmla="*/ 13680 h 533160"/>
                  <a:gd name="textAreaBottom" fmla="*/ 51948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08280" y="5668920"/>
                <a:ext cx="328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3366"/>
                    </a:solidFill>
                    <a:latin typeface="Times New Roman"/>
                  </a:rPr>
                  <a:t>IML – (Idrisi Macro Languag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529240" y="6232320"/>
                <a:ext cx="18432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fundo%20slid%20faixa" descr=""/>
          <p:cNvPicPr/>
          <p:nvPr/>
        </p:nvPicPr>
        <p:blipFill>
          <a:blip r:embed="rId1"/>
          <a:stretch/>
        </p:blipFill>
        <p:spPr>
          <a:xfrm>
            <a:off x="330120" y="304920"/>
            <a:ext cx="1320840" cy="628020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660240" y="533520"/>
            <a:ext cx="8420040" cy="75960"/>
            <a:chOff x="660240" y="533520"/>
            <a:chExt cx="8420040" cy="75960"/>
          </a:xfrm>
        </p:grpSpPr>
        <p:sp>
          <p:nvSpPr>
            <p:cNvPr id="135" name=""/>
            <p:cNvSpPr/>
            <p:nvPr/>
          </p:nvSpPr>
          <p:spPr>
            <a:xfrm>
              <a:off x="825480" y="533520"/>
              <a:ext cx="825480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60240" y="533520"/>
              <a:ext cx="8244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7" name="novalogoltc" descr=""/>
          <p:cNvPicPr/>
          <p:nvPr/>
        </p:nvPicPr>
        <p:blipFill>
          <a:blip r:embed="rId2"/>
          <a:stretch/>
        </p:blipFill>
        <p:spPr>
          <a:xfrm>
            <a:off x="0" y="0"/>
            <a:ext cx="318960" cy="5335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43040" y="228600"/>
            <a:ext cx="561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UNIVERSIDADE FEDERAL DO ESPÍRITO SA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328320" y="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30AC-4275-43ED-B6B1-B7D4696D138B}" type="slidenum"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0" y="1219320"/>
            <a:ext cx="9203400" cy="1752480"/>
            <a:chOff x="0" y="1219320"/>
            <a:chExt cx="9203400" cy="1752480"/>
          </a:xfrm>
        </p:grpSpPr>
        <p:sp>
          <p:nvSpPr>
            <p:cNvPr id="141" name=""/>
            <p:cNvSpPr/>
            <p:nvPr/>
          </p:nvSpPr>
          <p:spPr>
            <a:xfrm>
              <a:off x="3632040" y="1752480"/>
              <a:ext cx="742680" cy="228240"/>
            </a:xfrm>
            <a:prstGeom prst="rightArrow">
              <a:avLst>
                <a:gd name="adj1" fmla="val 50000"/>
                <a:gd name="adj2" fmla="val 81349"/>
              </a:avLst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57880" y="1219320"/>
              <a:ext cx="412560" cy="1752480"/>
            </a:xfrm>
            <a:custGeom>
              <a:avLst/>
              <a:gdLst>
                <a:gd name="textAreaLeft" fmla="*/ 263520 w 412560"/>
                <a:gd name="textAreaRight" fmla="*/ 412920 w 41256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36960" y="1260360"/>
              <a:ext cx="146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AVEN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65840" y="2286000"/>
              <a:ext cx="423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VBA (Versões superiores a 3.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" name="arcview3_x" descr="ArcView 3.x"/>
            <p:cNvPicPr/>
            <p:nvPr/>
          </p:nvPicPr>
          <p:blipFill>
            <a:blip r:embed="rId3"/>
            <a:stretch/>
          </p:blipFill>
          <p:spPr>
            <a:xfrm>
              <a:off x="0" y="1676160"/>
              <a:ext cx="3467160" cy="44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"/>
          <p:cNvSpPr/>
          <p:nvPr/>
        </p:nvSpPr>
        <p:spPr>
          <a:xfrm>
            <a:off x="577800" y="3048120"/>
            <a:ext cx="8667720" cy="3531960"/>
          </a:xfrm>
          <a:prstGeom prst="rect">
            <a:avLst/>
          </a:prstGeom>
          <a:solidFill>
            <a:srgbClr val="fefad6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brangência Internacio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odelo Conceitu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inguagem AVENU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rescente número de Scripts e Extensõ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isponibilidade Acadêm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licativos para Internet (IM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0240" y="762120"/>
            <a:ext cx="8255160" cy="459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s SIG´s e suas Linguagens de Progra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fundo%20slid%20faixa" descr=""/>
          <p:cNvPicPr/>
          <p:nvPr/>
        </p:nvPicPr>
        <p:blipFill>
          <a:blip r:embed="rId1"/>
          <a:stretch/>
        </p:blipFill>
        <p:spPr>
          <a:xfrm>
            <a:off x="330120" y="304920"/>
            <a:ext cx="1320840" cy="628020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660240" y="533520"/>
            <a:ext cx="8420040" cy="75960"/>
            <a:chOff x="660240" y="533520"/>
            <a:chExt cx="8420040" cy="75960"/>
          </a:xfrm>
        </p:grpSpPr>
        <p:sp>
          <p:nvSpPr>
            <p:cNvPr id="150" name=""/>
            <p:cNvSpPr/>
            <p:nvPr/>
          </p:nvSpPr>
          <p:spPr>
            <a:xfrm>
              <a:off x="825480" y="533520"/>
              <a:ext cx="825480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0240" y="533520"/>
              <a:ext cx="82440" cy="759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2" name="novalogoltc" descr=""/>
          <p:cNvPicPr/>
          <p:nvPr/>
        </p:nvPicPr>
        <p:blipFill>
          <a:blip r:embed="rId2"/>
          <a:stretch/>
        </p:blipFill>
        <p:spPr>
          <a:xfrm>
            <a:off x="0" y="0"/>
            <a:ext cx="318960" cy="5335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43040" y="228600"/>
            <a:ext cx="561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UNIVERSIDADE FEDERAL DO ESPÍRITO SA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328320" y="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5660-0E48-482D-9C21-27DBBAE762A0}" type="slidenum"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90640" y="1628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55600" y="685800"/>
            <a:ext cx="7594560" cy="5205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Modelo Conceitual do ArcView G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95640" y="1295280"/>
            <a:ext cx="9319680" cy="5306040"/>
            <a:chOff x="395640" y="1295280"/>
            <a:chExt cx="9319680" cy="5306040"/>
          </a:xfrm>
        </p:grpSpPr>
        <p:sp>
          <p:nvSpPr>
            <p:cNvPr id="158" name=""/>
            <p:cNvSpPr/>
            <p:nvPr/>
          </p:nvSpPr>
          <p:spPr>
            <a:xfrm>
              <a:off x="395640" y="12952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96720" y="1299960"/>
              <a:ext cx="9318600" cy="5300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545760" y="1373040"/>
              <a:ext cx="9005400" cy="5113080"/>
              <a:chOff x="545760" y="1373040"/>
              <a:chExt cx="9005400" cy="5113080"/>
            </a:xfrm>
          </p:grpSpPr>
          <p:sp>
            <p:nvSpPr>
              <p:cNvPr id="161" name=""/>
              <p:cNvSpPr/>
              <p:nvPr/>
            </p:nvSpPr>
            <p:spPr>
              <a:xfrm>
                <a:off x="4324320" y="1669680"/>
                <a:ext cx="1395000" cy="500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513680" y="1766520"/>
                <a:ext cx="9165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Projeto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43120" y="3306600"/>
                <a:ext cx="1394640" cy="498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44440" y="3403440"/>
                <a:ext cx="7124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200" spc="-1" strike="noStrike">
                    <a:solidFill>
                      <a:srgbClr val="000000"/>
                    </a:solidFill>
                    <a:latin typeface="Times New Roman"/>
                  </a:rPr>
                  <a:t>View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778120" y="3306600"/>
                <a:ext cx="1392840" cy="498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993040" y="3403440"/>
                <a:ext cx="867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Tabela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711320" y="3306600"/>
                <a:ext cx="1392840" cy="498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908240" y="3403440"/>
                <a:ext cx="9014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200" spc="-1" strike="noStrike">
                    <a:solidFill>
                      <a:srgbClr val="000000"/>
                    </a:solidFill>
                    <a:latin typeface="Times New Roman"/>
                  </a:rPr>
                  <a:t>Layout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567120" y="3306600"/>
                <a:ext cx="1394640" cy="498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58720" y="3403440"/>
                <a:ext cx="7293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200" spc="-1" strike="noStrike">
                    <a:solidFill>
                      <a:srgbClr val="000000"/>
                    </a:solidFill>
                    <a:latin typeface="Times New Roman"/>
                  </a:rPr>
                  <a:t>Chart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156160" y="3306600"/>
                <a:ext cx="1395000" cy="498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422560" y="3403440"/>
                <a:ext cx="776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Script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51760" y="5105160"/>
                <a:ext cx="1392840" cy="500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058400" y="5203440"/>
                <a:ext cx="8830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200" spc="-1" strike="noStrike">
                    <a:solidFill>
                      <a:srgbClr val="000000"/>
                    </a:solidFill>
                    <a:latin typeface="Times New Roman"/>
                  </a:rPr>
                  <a:t>Theme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567440" y="3825720"/>
                <a:ext cx="1440" cy="12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937320" y="3816000"/>
                <a:ext cx="1800" cy="65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3940920" y="4465440"/>
                <a:ext cx="1107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5048280" y="3825360"/>
                <a:ext cx="1440" cy="63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744880" y="3825720"/>
                <a:ext cx="1440" cy="63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744880" y="4465440"/>
                <a:ext cx="11588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6904080" y="3825360"/>
                <a:ext cx="1440" cy="63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113640" y="3825720"/>
                <a:ext cx="1440" cy="63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2031120" y="4465440"/>
                <a:ext cx="108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031480" y="4465440"/>
                <a:ext cx="1800" cy="63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368840" y="3825720"/>
                <a:ext cx="1440" cy="168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3473280" y="5509800"/>
                <a:ext cx="38678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3500280" y="3825720"/>
                <a:ext cx="1800" cy="168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435280" y="3825720"/>
                <a:ext cx="1800" cy="166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425200" y="5586120"/>
                <a:ext cx="10080" cy="65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545760" y="6237000"/>
                <a:ext cx="4862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092120" y="5260680"/>
                <a:ext cx="541440" cy="498600"/>
              </a:xfrm>
              <a:custGeom>
                <a:avLst/>
                <a:gdLst/>
                <a:ahLst/>
                <a:rect l="l" t="t" r="r" b="b"/>
                <a:pathLst>
                  <a:path w="630" h="627">
                    <a:moveTo>
                      <a:pt x="315" y="0"/>
                    </a:moveTo>
                    <a:lnTo>
                      <a:pt x="0" y="314"/>
                    </a:lnTo>
                    <a:lnTo>
                      <a:pt x="315" y="627"/>
                    </a:lnTo>
                    <a:lnTo>
                      <a:pt x="630" y="314"/>
                    </a:lnTo>
                    <a:lnTo>
                      <a:pt x="3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655440" y="5989320"/>
                <a:ext cx="541440" cy="496800"/>
              </a:xfrm>
              <a:custGeom>
                <a:avLst/>
                <a:gdLst/>
                <a:ahLst/>
                <a:rect l="l" t="t" r="r" b="b"/>
                <a:pathLst>
                  <a:path w="630" h="628">
                    <a:moveTo>
                      <a:pt x="315" y="0"/>
                    </a:moveTo>
                    <a:lnTo>
                      <a:pt x="0" y="314"/>
                    </a:lnTo>
                    <a:lnTo>
                      <a:pt x="315" y="628"/>
                    </a:lnTo>
                    <a:lnTo>
                      <a:pt x="630" y="314"/>
                    </a:lnTo>
                    <a:lnTo>
                      <a:pt x="3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069960" y="4219200"/>
                <a:ext cx="541440" cy="498600"/>
              </a:xfrm>
              <a:custGeom>
                <a:avLst/>
                <a:gdLst/>
                <a:ahLst/>
                <a:rect l="l" t="t" r="r" b="b"/>
                <a:pathLst>
                  <a:path w="629" h="627">
                    <a:moveTo>
                      <a:pt x="314" y="0"/>
                    </a:moveTo>
                    <a:lnTo>
                      <a:pt x="0" y="313"/>
                    </a:lnTo>
                    <a:lnTo>
                      <a:pt x="314" y="627"/>
                    </a:lnTo>
                    <a:lnTo>
                      <a:pt x="629" y="313"/>
                    </a:lnTo>
                    <a:lnTo>
                      <a:pt x="3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119840" y="4219200"/>
                <a:ext cx="541440" cy="498600"/>
              </a:xfrm>
              <a:custGeom>
                <a:avLst/>
                <a:gdLst/>
                <a:ahLst/>
                <a:rect l="l" t="t" r="r" b="b"/>
                <a:pathLst>
                  <a:path w="630" h="627">
                    <a:moveTo>
                      <a:pt x="315" y="0"/>
                    </a:moveTo>
                    <a:lnTo>
                      <a:pt x="0" y="313"/>
                    </a:lnTo>
                    <a:lnTo>
                      <a:pt x="315" y="627"/>
                    </a:lnTo>
                    <a:lnTo>
                      <a:pt x="630" y="313"/>
                    </a:lnTo>
                    <a:lnTo>
                      <a:pt x="3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293200" y="4214520"/>
                <a:ext cx="539640" cy="496800"/>
              </a:xfrm>
              <a:custGeom>
                <a:avLst/>
                <a:gdLst/>
                <a:ahLst/>
                <a:rect l="l" t="t" r="r" b="b"/>
                <a:pathLst>
                  <a:path w="630" h="627">
                    <a:moveTo>
                      <a:pt x="315" y="0"/>
                    </a:moveTo>
                    <a:lnTo>
                      <a:pt x="0" y="314"/>
                    </a:lnTo>
                    <a:lnTo>
                      <a:pt x="315" y="627"/>
                    </a:lnTo>
                    <a:lnTo>
                      <a:pt x="630" y="314"/>
                    </a:lnTo>
                    <a:lnTo>
                      <a:pt x="3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562680" y="3555720"/>
                <a:ext cx="1800" cy="268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62680" y="3555720"/>
                <a:ext cx="283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098320" y="2168280"/>
                <a:ext cx="1440" cy="113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633920" y="2168280"/>
                <a:ext cx="1800" cy="85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3473280" y="3020760"/>
                <a:ext cx="1160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473280" y="3020760"/>
                <a:ext cx="144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1462680" y="1884240"/>
                <a:ext cx="2861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462680" y="1884240"/>
                <a:ext cx="1440" cy="142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485320" y="2168280"/>
                <a:ext cx="1440" cy="85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485320" y="3020760"/>
                <a:ext cx="177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263720" y="3020760"/>
                <a:ext cx="144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717520" y="1884240"/>
                <a:ext cx="30938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11360" y="1884240"/>
                <a:ext cx="1800" cy="142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081520" y="1639440"/>
                <a:ext cx="541440" cy="498600"/>
              </a:xfrm>
              <a:custGeom>
                <a:avLst/>
                <a:gdLst/>
                <a:ahLst/>
                <a:rect l="l" t="t" r="r" b="b"/>
                <a:pathLst>
                  <a:path w="629" h="627">
                    <a:moveTo>
                      <a:pt x="315" y="0"/>
                    </a:moveTo>
                    <a:lnTo>
                      <a:pt x="0" y="314"/>
                    </a:lnTo>
                    <a:lnTo>
                      <a:pt x="315" y="627"/>
                    </a:lnTo>
                    <a:lnTo>
                      <a:pt x="629" y="314"/>
                    </a:lnTo>
                    <a:lnTo>
                      <a:pt x="3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495920" y="1639440"/>
                <a:ext cx="541440" cy="498600"/>
              </a:xfrm>
              <a:custGeom>
                <a:avLst/>
                <a:gdLst/>
                <a:ahLst/>
                <a:rect l="l" t="t" r="r" b="b"/>
                <a:pathLst>
                  <a:path w="630" h="627">
                    <a:moveTo>
                      <a:pt x="315" y="0"/>
                    </a:moveTo>
                    <a:lnTo>
                      <a:pt x="0" y="314"/>
                    </a:lnTo>
                    <a:lnTo>
                      <a:pt x="315" y="627"/>
                    </a:lnTo>
                    <a:lnTo>
                      <a:pt x="630" y="314"/>
                    </a:lnTo>
                    <a:lnTo>
                      <a:pt x="3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782520" y="6189480"/>
                <a:ext cx="309240" cy="93600"/>
                <a:chOff x="3782520" y="6189480"/>
                <a:chExt cx="309240" cy="93600"/>
              </a:xfrm>
            </p:grpSpPr>
            <p:sp>
              <p:nvSpPr>
                <p:cNvPr id="212" name=""/>
                <p:cNvSpPr/>
                <p:nvPr/>
              </p:nvSpPr>
              <p:spPr>
                <a:xfrm flipH="1">
                  <a:off x="3878640" y="6237000"/>
                  <a:ext cx="21312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782520" y="6189480"/>
                  <a:ext cx="99720" cy="93600"/>
                </a:xfrm>
                <a:custGeom>
                  <a:avLst/>
                  <a:gdLst/>
                  <a:ahLst/>
                  <a:rect l="l" t="t" r="r" b="b"/>
                  <a:pathLst>
                    <a:path w="116" h="118">
                      <a:moveTo>
                        <a:pt x="116" y="0"/>
                      </a:moveTo>
                      <a:lnTo>
                        <a:pt x="0" y="60"/>
                      </a:lnTo>
                      <a:lnTo>
                        <a:pt x="116" y="11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2391120" y="4417920"/>
                <a:ext cx="309240" cy="93600"/>
                <a:chOff x="2391120" y="4417920"/>
                <a:chExt cx="309240" cy="9360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2391120" y="4463640"/>
                  <a:ext cx="21096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600640" y="4417920"/>
                  <a:ext cx="99720" cy="93600"/>
                </a:xfrm>
                <a:custGeom>
                  <a:avLst/>
                  <a:gdLst/>
                  <a:ahLst/>
                  <a:rect l="l" t="t" r="r" b="b"/>
                  <a:pathLst>
                    <a:path w="116" h="117">
                      <a:moveTo>
                        <a:pt x="0" y="117"/>
                      </a:moveTo>
                      <a:lnTo>
                        <a:pt x="116" y="58"/>
                      </a:lnTo>
                      <a:lnTo>
                        <a:pt x="0" y="0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4246920" y="4419360"/>
                <a:ext cx="309240" cy="93600"/>
                <a:chOff x="4246920" y="4419360"/>
                <a:chExt cx="309240" cy="93600"/>
              </a:xfrm>
            </p:grpSpPr>
            <p:sp>
              <p:nvSpPr>
                <p:cNvPr id="218" name=""/>
                <p:cNvSpPr/>
                <p:nvPr/>
              </p:nvSpPr>
              <p:spPr>
                <a:xfrm flipH="1">
                  <a:off x="4343040" y="4466880"/>
                  <a:ext cx="21312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246920" y="4419360"/>
                  <a:ext cx="99720" cy="93600"/>
                </a:xfrm>
                <a:custGeom>
                  <a:avLst/>
                  <a:gdLst/>
                  <a:ahLst/>
                  <a:rect l="l" t="t" r="r" b="b"/>
                  <a:pathLst>
                    <a:path w="116" h="117">
                      <a:moveTo>
                        <a:pt x="116" y="0"/>
                      </a:moveTo>
                      <a:lnTo>
                        <a:pt x="0" y="59"/>
                      </a:lnTo>
                      <a:lnTo>
                        <a:pt x="116" y="1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6180480" y="4412880"/>
                <a:ext cx="308880" cy="92160"/>
                <a:chOff x="6180480" y="4412880"/>
                <a:chExt cx="308880" cy="921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6180480" y="4458960"/>
                  <a:ext cx="21276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390000" y="4412880"/>
                  <a:ext cx="99360" cy="92160"/>
                </a:xfrm>
                <a:custGeom>
                  <a:avLst/>
                  <a:gdLst/>
                  <a:ahLst/>
                  <a:rect l="l" t="t" r="r" b="b"/>
                  <a:pathLst>
                    <a:path w="117" h="118">
                      <a:moveTo>
                        <a:pt x="0" y="118"/>
                      </a:moveTo>
                      <a:lnTo>
                        <a:pt x="117" y="58"/>
                      </a:lnTo>
                      <a:lnTo>
                        <a:pt x="0" y="0"/>
                      </a:lnTo>
                      <a:lnTo>
                        <a:pt x="0" y="1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2191320" y="1836360"/>
                <a:ext cx="307080" cy="92160"/>
                <a:chOff x="2191320" y="1836360"/>
                <a:chExt cx="307080" cy="92160"/>
              </a:xfrm>
            </p:grpSpPr>
            <p:sp>
              <p:nvSpPr>
                <p:cNvPr id="224" name=""/>
                <p:cNvSpPr/>
                <p:nvPr/>
              </p:nvSpPr>
              <p:spPr>
                <a:xfrm flipH="1">
                  <a:off x="2287080" y="1884240"/>
                  <a:ext cx="21132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191320" y="1836360"/>
                  <a:ext cx="99720" cy="92160"/>
                </a:xfrm>
                <a:custGeom>
                  <a:avLst/>
                  <a:gdLst/>
                  <a:ahLst/>
                  <a:rect l="l" t="t" r="r" b="b"/>
                  <a:pathLst>
                    <a:path w="116" h="118">
                      <a:moveTo>
                        <a:pt x="116" y="0"/>
                      </a:moveTo>
                      <a:lnTo>
                        <a:pt x="0" y="60"/>
                      </a:lnTo>
                      <a:lnTo>
                        <a:pt x="116" y="11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7605720" y="1838160"/>
                <a:ext cx="309240" cy="91800"/>
                <a:chOff x="7605720" y="1838160"/>
                <a:chExt cx="309240" cy="918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7605720" y="1884240"/>
                  <a:ext cx="21168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813800" y="1838160"/>
                  <a:ext cx="101160" cy="91800"/>
                </a:xfrm>
                <a:custGeom>
                  <a:avLst/>
                  <a:gdLst/>
                  <a:ahLst/>
                  <a:rect l="l" t="t" r="r" b="b"/>
                  <a:pathLst>
                    <a:path w="116" h="118">
                      <a:moveTo>
                        <a:pt x="0" y="118"/>
                      </a:moveTo>
                      <a:lnTo>
                        <a:pt x="116" y="58"/>
                      </a:lnTo>
                      <a:lnTo>
                        <a:pt x="0" y="0"/>
                      </a:lnTo>
                      <a:lnTo>
                        <a:pt x="0" y="1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9" name=""/>
              <p:cNvSpPr/>
              <p:nvPr/>
            </p:nvSpPr>
            <p:spPr>
              <a:xfrm>
                <a:off x="4633920" y="2168280"/>
                <a:ext cx="41580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726800" y="2220480"/>
                <a:ext cx="206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0,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098320" y="2168280"/>
                <a:ext cx="41580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189760" y="2220480"/>
                <a:ext cx="206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0,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485320" y="2168280"/>
                <a:ext cx="41436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578200" y="2220480"/>
                <a:ext cx="206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0,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717520" y="1884240"/>
                <a:ext cx="41436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808600" y="1935000"/>
                <a:ext cx="206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0,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37320" y="1884240"/>
                <a:ext cx="41580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032000" y="1935000"/>
                <a:ext cx="206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0,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462680" y="3092040"/>
                <a:ext cx="381600" cy="2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54120" y="3144600"/>
                <a:ext cx="17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1,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39720" y="3803400"/>
                <a:ext cx="41580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632600" y="3855600"/>
                <a:ext cx="206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0,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539720" y="4870080"/>
                <a:ext cx="381600" cy="25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632240" y="4922640"/>
                <a:ext cx="17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1,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473280" y="3092040"/>
                <a:ext cx="381600" cy="2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567240" y="3144600"/>
                <a:ext cx="17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1,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098320" y="3092040"/>
                <a:ext cx="381600" cy="2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189400" y="3144600"/>
                <a:ext cx="17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1,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263720" y="3092040"/>
                <a:ext cx="381600" cy="2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356240" y="3144600"/>
                <a:ext cx="17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1,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811360" y="3092040"/>
                <a:ext cx="381600" cy="2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904240" y="3144600"/>
                <a:ext cx="17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1,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87720" y="3803400"/>
                <a:ext cx="38160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179520" y="3855600"/>
                <a:ext cx="17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1,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004120" y="4870080"/>
                <a:ext cx="381600" cy="25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095920" y="4922640"/>
                <a:ext cx="17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1,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473280" y="3803400"/>
                <a:ext cx="41580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567600" y="3855600"/>
                <a:ext cx="206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0,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937320" y="3803400"/>
                <a:ext cx="41580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032000" y="3855600"/>
                <a:ext cx="206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0,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876360" y="3803400"/>
                <a:ext cx="41652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971400" y="3855600"/>
                <a:ext cx="206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0,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020920" y="3803400"/>
                <a:ext cx="41652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113800" y="3855600"/>
                <a:ext cx="206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0,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341120" y="3803400"/>
                <a:ext cx="38160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432920" y="3855600"/>
                <a:ext cx="17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1,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717520" y="3803400"/>
                <a:ext cx="41436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08600" y="3855600"/>
                <a:ext cx="206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0,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407920" y="3803400"/>
                <a:ext cx="41400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499000" y="3855600"/>
                <a:ext cx="206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0,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11280" y="3874680"/>
                <a:ext cx="415800" cy="25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05600" y="3927240"/>
                <a:ext cx="206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0,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022840" y="1373040"/>
                <a:ext cx="730800" cy="25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12840" y="1425240"/>
                <a:ext cx="492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possue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406640" y="1373040"/>
                <a:ext cx="728640" cy="25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495200" y="1425240"/>
                <a:ext cx="492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possue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908160" y="5003640"/>
                <a:ext cx="94752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997800" y="5055840"/>
                <a:ext cx="689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representa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92120" y="3993840"/>
                <a:ext cx="64656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182120" y="4044600"/>
                <a:ext cx="415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exibe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025320" y="3993840"/>
                <a:ext cx="64656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116040" y="4044600"/>
                <a:ext cx="415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exibe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628080" y="5744880"/>
                <a:ext cx="64656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719520" y="5797440"/>
                <a:ext cx="415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exibe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236320" y="3993840"/>
                <a:ext cx="72900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327040" y="4044600"/>
                <a:ext cx="492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possue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859920" y="2774520"/>
                <a:ext cx="541440" cy="498600"/>
              </a:xfrm>
              <a:custGeom>
                <a:avLst/>
                <a:gdLst/>
                <a:ahLst/>
                <a:rect l="l" t="t" r="r" b="b"/>
                <a:pathLst>
                  <a:path w="630" h="627">
                    <a:moveTo>
                      <a:pt x="315" y="0"/>
                    </a:moveTo>
                    <a:lnTo>
                      <a:pt x="0" y="313"/>
                    </a:lnTo>
                    <a:lnTo>
                      <a:pt x="315" y="627"/>
                    </a:lnTo>
                    <a:lnTo>
                      <a:pt x="630" y="313"/>
                    </a:lnTo>
                    <a:lnTo>
                      <a:pt x="3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8" name=""/>
              <p:cNvGrpSpPr/>
              <p:nvPr/>
            </p:nvGrpSpPr>
            <p:grpSpPr>
              <a:xfrm>
                <a:off x="3970080" y="2979360"/>
                <a:ext cx="309240" cy="93600"/>
                <a:chOff x="3970080" y="2979360"/>
                <a:chExt cx="309240" cy="93600"/>
              </a:xfrm>
            </p:grpSpPr>
            <p:sp>
              <p:nvSpPr>
                <p:cNvPr id="289" name=""/>
                <p:cNvSpPr/>
                <p:nvPr/>
              </p:nvSpPr>
              <p:spPr>
                <a:xfrm flipH="1">
                  <a:off x="4066200" y="3027240"/>
                  <a:ext cx="21312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970080" y="2979360"/>
                  <a:ext cx="99720" cy="93600"/>
                </a:xfrm>
                <a:custGeom>
                  <a:avLst/>
                  <a:gdLst/>
                  <a:ahLst/>
                  <a:rect l="l" t="t" r="r" b="b"/>
                  <a:pathLst>
                    <a:path w="116" h="118">
                      <a:moveTo>
                        <a:pt x="116" y="0"/>
                      </a:moveTo>
                      <a:lnTo>
                        <a:pt x="0" y="60"/>
                      </a:lnTo>
                      <a:lnTo>
                        <a:pt x="116" y="11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1" name=""/>
              <p:cNvSpPr/>
              <p:nvPr/>
            </p:nvSpPr>
            <p:spPr>
              <a:xfrm>
                <a:off x="3803040" y="2517480"/>
                <a:ext cx="72900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893760" y="2570040"/>
                <a:ext cx="492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possue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071760" y="2774520"/>
                <a:ext cx="541440" cy="498600"/>
              </a:xfrm>
              <a:custGeom>
                <a:avLst/>
                <a:gdLst/>
                <a:ahLst/>
                <a:rect l="l" t="t" r="r" b="b"/>
                <a:pathLst>
                  <a:path w="630" h="627">
                    <a:moveTo>
                      <a:pt x="315" y="0"/>
                    </a:moveTo>
                    <a:lnTo>
                      <a:pt x="0" y="313"/>
                    </a:lnTo>
                    <a:lnTo>
                      <a:pt x="315" y="627"/>
                    </a:lnTo>
                    <a:lnTo>
                      <a:pt x="630" y="313"/>
                    </a:lnTo>
                    <a:lnTo>
                      <a:pt x="3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" name=""/>
              <p:cNvGrpSpPr/>
              <p:nvPr/>
            </p:nvGrpSpPr>
            <p:grpSpPr>
              <a:xfrm>
                <a:off x="6180480" y="2981160"/>
                <a:ext cx="308880" cy="93600"/>
                <a:chOff x="6180480" y="2981160"/>
                <a:chExt cx="308880" cy="9360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180480" y="3027240"/>
                  <a:ext cx="2127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390000" y="2981160"/>
                  <a:ext cx="99360" cy="93600"/>
                </a:xfrm>
                <a:custGeom>
                  <a:avLst/>
                  <a:gdLst/>
                  <a:ahLst/>
                  <a:rect l="l" t="t" r="r" b="b"/>
                  <a:pathLst>
                    <a:path w="117" h="118">
                      <a:moveTo>
                        <a:pt x="0" y="118"/>
                      </a:moveTo>
                      <a:lnTo>
                        <a:pt x="117" y="58"/>
                      </a:lnTo>
                      <a:lnTo>
                        <a:pt x="0" y="0"/>
                      </a:lnTo>
                      <a:lnTo>
                        <a:pt x="0" y="1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5980680" y="2517480"/>
                <a:ext cx="73080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072480" y="2570040"/>
                <a:ext cx="492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possue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825080" y="2500200"/>
                <a:ext cx="539640" cy="496800"/>
              </a:xfrm>
              <a:custGeom>
                <a:avLst/>
                <a:gdLst/>
                <a:ahLst/>
                <a:rect l="l" t="t" r="r" b="b"/>
                <a:pathLst>
                  <a:path w="630" h="627">
                    <a:moveTo>
                      <a:pt x="315" y="0"/>
                    </a:moveTo>
                    <a:lnTo>
                      <a:pt x="0" y="313"/>
                    </a:lnTo>
                    <a:lnTo>
                      <a:pt x="315" y="627"/>
                    </a:lnTo>
                    <a:lnTo>
                      <a:pt x="630" y="313"/>
                    </a:lnTo>
                    <a:lnTo>
                      <a:pt x="3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5046840" y="2599920"/>
                <a:ext cx="100800" cy="284400"/>
                <a:chOff x="5046840" y="2599920"/>
                <a:chExt cx="100800" cy="2844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5097960" y="2599920"/>
                  <a:ext cx="1440" cy="19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046840" y="2793600"/>
                  <a:ext cx="100800" cy="90720"/>
                </a:xfrm>
                <a:custGeom>
                  <a:avLst/>
                  <a:gdLst/>
                  <a:ahLst/>
                  <a:rect l="l" t="t" r="r" b="b"/>
                  <a:pathLst>
                    <a:path w="118" h="116">
                      <a:moveTo>
                        <a:pt x="0" y="0"/>
                      </a:moveTo>
                      <a:lnTo>
                        <a:pt x="60" y="116"/>
                      </a:lnTo>
                      <a:lnTo>
                        <a:pt x="11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3" name=""/>
              <p:cNvSpPr/>
              <p:nvPr/>
            </p:nvSpPr>
            <p:spPr>
              <a:xfrm rot="16200000">
                <a:off x="4526280" y="2678400"/>
                <a:ext cx="492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possue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4" name=""/>
              <p:cNvGrpSpPr/>
              <p:nvPr/>
            </p:nvGrpSpPr>
            <p:grpSpPr>
              <a:xfrm>
                <a:off x="4199040" y="5465520"/>
                <a:ext cx="308880" cy="93600"/>
                <a:chOff x="4199040" y="5465520"/>
                <a:chExt cx="308880" cy="93600"/>
              </a:xfrm>
            </p:grpSpPr>
            <p:sp>
              <p:nvSpPr>
                <p:cNvPr id="305" name=""/>
                <p:cNvSpPr/>
                <p:nvPr/>
              </p:nvSpPr>
              <p:spPr>
                <a:xfrm flipH="1">
                  <a:off x="4294800" y="5513040"/>
                  <a:ext cx="21312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4199040" y="5465520"/>
                  <a:ext cx="99360" cy="93600"/>
                </a:xfrm>
                <a:custGeom>
                  <a:avLst/>
                  <a:gdLst/>
                  <a:ahLst/>
                  <a:rect l="l" t="t" r="r" b="b"/>
                  <a:pathLst>
                    <a:path w="116" h="117">
                      <a:moveTo>
                        <a:pt x="116" y="0"/>
                      </a:moveTo>
                      <a:lnTo>
                        <a:pt x="0" y="59"/>
                      </a:lnTo>
                      <a:lnTo>
                        <a:pt x="116" y="1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7" name=""/>
              <p:cNvSpPr/>
              <p:nvPr/>
            </p:nvSpPr>
            <p:spPr>
              <a:xfrm>
                <a:off x="1299240" y="4187520"/>
                <a:ext cx="541440" cy="496800"/>
              </a:xfrm>
              <a:custGeom>
                <a:avLst/>
                <a:gdLst/>
                <a:ahLst/>
                <a:rect l="l" t="t" r="r" b="b"/>
                <a:pathLst>
                  <a:path w="629" h="627">
                    <a:moveTo>
                      <a:pt x="315" y="0"/>
                    </a:moveTo>
                    <a:lnTo>
                      <a:pt x="0" y="313"/>
                    </a:lnTo>
                    <a:lnTo>
                      <a:pt x="315" y="627"/>
                    </a:lnTo>
                    <a:lnTo>
                      <a:pt x="629" y="313"/>
                    </a:lnTo>
                    <a:lnTo>
                      <a:pt x="3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1522440" y="4287600"/>
                <a:ext cx="100800" cy="284040"/>
                <a:chOff x="1522440" y="4287600"/>
                <a:chExt cx="100800" cy="28404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1573560" y="4287600"/>
                  <a:ext cx="1800" cy="19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522440" y="4481280"/>
                  <a:ext cx="100800" cy="90360"/>
                </a:xfrm>
                <a:custGeom>
                  <a:avLst/>
                  <a:gdLst/>
                  <a:ahLst/>
                  <a:rect l="l" t="t" r="r" b="b"/>
                  <a:pathLst>
                    <a:path w="119" h="116">
                      <a:moveTo>
                        <a:pt x="0" y="0"/>
                      </a:moveTo>
                      <a:lnTo>
                        <a:pt x="60" y="116"/>
                      </a:lnTo>
                      <a:lnTo>
                        <a:pt x="11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 rot="16200000">
                <a:off x="945360" y="4366080"/>
                <a:ext cx="492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possue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9565200" y="63417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946960" y="3355560"/>
              <a:ext cx="1019880" cy="40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15440" y="3438360"/>
              <a:ext cx="636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200" spc="-1" strike="noStrike">
                  <a:solidFill>
                    <a:srgbClr val="000000"/>
                  </a:solidFill>
                  <a:latin typeface="Times New Roman"/>
                </a:rPr>
                <a:t>Tabl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00160" y="338112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476240" y="1747440"/>
              <a:ext cx="11912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11600" y="1809360"/>
              <a:ext cx="791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200" spc="-1" strike="noStrike">
                  <a:solidFill>
                    <a:srgbClr val="000000"/>
                  </a:solidFill>
                  <a:latin typeface="Times New Roman"/>
                </a:rPr>
                <a:t>Projec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68400" y="1828440"/>
              <a:ext cx="109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728240" y="213336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4T20:38:58Z</dcterms:created>
  <dc:creator>LTC</dc:creator>
  <dc:description/>
  <dc:language>en-US</dc:language>
  <cp:lastModifiedBy>bortolon</cp:lastModifiedBy>
  <dcterms:modified xsi:type="dcterms:W3CDTF">2001-06-06T13:28:53Z</dcterms:modified>
  <cp:revision>159</cp:revision>
  <dc:subject/>
  <dc:title>Slide sem título </dc:title>
</cp:coreProperties>
</file>