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74AF-AA80-4969-871B-92FB51513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F56D-1B70-4625-84AF-14F6AF97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5C24-8A1E-4AB6-9C67-46894C94A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9271-7505-436C-B177-5906D3353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1460-2CE7-4EF3-973C-FBFD10A74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0EDE-3DF1-414A-AC84-A5C1FF05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8D07-71F2-4766-8FBE-AF5D7E42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698E-948B-4524-A735-C603645B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667A-A184-4701-B1EF-99F2ECD7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D769-429A-4085-9D70-552BA3A0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E34A-5CE3-44EB-BC18-39E5748D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D04A-3F20-4ED8-A207-495BFACB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553E-67FE-4BB3-A1BB-14A787F0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8D2F-29FB-4847-AB27-813F6250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80E9-403A-4E3A-852D-943F817F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6673-889A-457C-9031-04DEA483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B477-CF1C-40D0-B7FE-9F587F71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1C98-801E-4D4D-8B4F-22216F6B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DD31-57B7-49A9-A5B8-36850DE3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C063-CA42-43B4-A860-47F951B8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FCB0-849B-4499-9F81-D4BCADE4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AB0E-6EF9-42EB-AEE7-C7D6DBFA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5157-B4A9-44DD-A8FC-ECF7D36E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FF9F-A41D-4833-B768-568AAFC6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095880"/>
            <a:ext cx="2286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Comic Sans MS"/>
              </a:rPr>
              <a:t>Exceçõ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800" y="62294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Comic Sans MS"/>
              </a:rPr>
              <a:t>Linguagens de Program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7CE3-812C-4077-B646-F234D07A1981}" type="slidenum">
              <a:rPr b="0" lang="en-US" sz="1400" spc="-1" strike="noStrike">
                <a:solidFill>
                  <a:srgbClr val="0033c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304920" y="1314360"/>
            <a:ext cx="8839080" cy="41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6706-C222-4C7D-B2C4-4EDDFFD2C7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839080" cy="412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Comic Sans MS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Linguagens de Programação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onceitos e Técnica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Exceções</a:t>
            </a: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cc"/>
                </a:solidFill>
                <a:latin typeface="Comic Sans MS"/>
              </a:rPr>
              <a:t>Prof.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torno de Código de Err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Quem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chama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deve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realizar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este e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tratamento para cada código de retorn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brecarga de código fica ainda maior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estes no local da exceção e no código de chamada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de duplicar o tamanho de um programa  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olv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o problema de tratamento não local da exceção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xperiência mostra que 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 programador não testa todos os códigos de retorno possívei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ão é obrigatório fazê-l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FCD4-4B2F-41D5-8E89-366D073B44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torno de Código de Err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sultado da funçã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 sempre possível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r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incompatibilidade com o resultado normal da funçã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ariável global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uário da função pode não ter ciência de que essa variável existe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so não fica explícito na chamada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rrno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de C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tra exceção pode ocorrer antes do tratamento da anterior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blema maior em programas concorrente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EB64-A66F-41A6-9AED-13B5060510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torno de Código de Err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râmetro de saída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lhor do que o retorno em variável global ou no resultado da funçã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xige inclusão de um novo parâmetro nas chamadas dos subprograma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quer a propagação desse parâmetro até o ponto de tratamento da exceçã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minui a redigibilidade do código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6F53-38C1-42B1-BBBE-0C50B8BFE2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torno de Código de Err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f(int x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condicao1(x)) return 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condicao2(x)) return 2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condicao3(x)) return 3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ecutaFuncionalidade(x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g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resp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p = f(7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resp == 1) trata1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resp == 2) trata2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resp == 3) trata3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8E37-F2A2-4824-BBBD-BDFB70DCFC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utras Opções em C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lização do sistema de manipulação de sinais de sua biblioteca padrão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inais gerado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051560" indent="-2102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r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função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aise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051560" indent="-2102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 resposta a comportamento excepcional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ata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ento na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função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gnal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so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s funções da biblioteca padrão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tjmp 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ngjmp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alva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e recupera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estado do programa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ngjmp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é um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ot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não local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051560" indent="-2102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ssa o controle do programa para o ponto onde o último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tjmp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foi executado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9DB0-A083-4919-B12A-3E5EA961F2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utras Opções em C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xigem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ratamento imediato da exceçã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lução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gnal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concentra o tratamento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 todas as exceções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uma única funçã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oluçã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tjmp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ngjmp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ermite localizar o tratamento em qualquer ponto do program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stringe o tratamento ao último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tjmp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luções complexas e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 baixa legibilidade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ica a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ritério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o programador C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cidir qual a abordagem de tratamento será utilizada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C1DD-1ABF-4B62-8354-60081574CF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ecanismos de Tratamento 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 Exceçõ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B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scam garantir e estimular o tratamento das condições excepcionais sem que haja uma grande sobrecarga do texto do programa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Quando uma exceção ocorre ela necessita ser tratada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ratador de Exceçã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B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oco ou unidade de código que manipula a exceçã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nalização ou disparo da exceção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ção de indicar a ocorrência da exceção e transferir o controle para o tratador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08F2-9757-4EA4-9560-9ACC65C049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de Exceçõ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iferem na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finiçã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ela LP – overflow em C++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elo Programador – estoque baixo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inalizaçã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ela LP – acesso indevido a vetor em JAVA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elo Programador – estoque baixo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ratament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brigatório – Programador tem de tratar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pcional – Programador pode não tratar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63E1-662D-46F9-BDAF-020CBAB7B4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xceções em LPs O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bjeto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dem ser lançad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 para outras partes do programa seguindo um fluxo de controle distinto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do usual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lasses podem ser especiais ou nã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vem ser organizadas dentro de uma hierarquia de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lasse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xemplo em C++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ErroMedico {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ErroDiagnostico: public ErroMedico {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ErroCirurgia: public ErroMedico {};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CECB-DFA9-4A55-8920-5662CC0F0A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xceções Padrão de C++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3352680" y="3054240"/>
            <a:ext cx="2400480" cy="34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33cc"/>
                </a:solidFill>
                <a:latin typeface="Times New Roman"/>
              </a:rPr>
              <a:t>exce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3886200"/>
            <a:ext cx="1828800" cy="34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33cc"/>
                </a:solidFill>
                <a:latin typeface="Times New Roman"/>
              </a:rPr>
              <a:t>logic_e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3886200"/>
            <a:ext cx="1714680" cy="351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33cc"/>
                </a:solidFill>
                <a:latin typeface="Times New Roman"/>
              </a:rPr>
              <a:t>runtime_e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2946240"/>
            <a:ext cx="1028880" cy="34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33cc"/>
                </a:solidFill>
                <a:latin typeface="Times New Roman"/>
              </a:rPr>
              <a:t>bad_all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43200" y="2262240"/>
            <a:ext cx="1638360" cy="342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33cc"/>
                </a:solidFill>
                <a:latin typeface="Times New Roman"/>
              </a:rPr>
              <a:t>bad_exce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2940120"/>
            <a:ext cx="1028880" cy="342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33cc"/>
                </a:solidFill>
                <a:latin typeface="Times New Roman"/>
              </a:rPr>
              <a:t>bad_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10160" y="2254320"/>
            <a:ext cx="1257120" cy="342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33cc"/>
                </a:solidFill>
                <a:latin typeface="Times New Roman"/>
              </a:rPr>
              <a:t>bad_type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9880" y="3886200"/>
            <a:ext cx="1600200" cy="34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33cc"/>
                </a:solidFill>
                <a:latin typeface="Times New Roman"/>
              </a:rPr>
              <a:t>ios_base::fail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009960" y="3168720"/>
            <a:ext cx="342720" cy="144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922560" y="2597040"/>
            <a:ext cx="1800" cy="45720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836960" y="2597040"/>
            <a:ext cx="1800" cy="45720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53160" y="3168720"/>
            <a:ext cx="342720" cy="144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10160" y="3397320"/>
            <a:ext cx="1440" cy="48888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67160" y="3397320"/>
            <a:ext cx="1440" cy="48888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3397320"/>
            <a:ext cx="1800" cy="48888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4686480"/>
            <a:ext cx="1981080" cy="350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33cc"/>
                </a:solidFill>
                <a:latin typeface="Times New Roman"/>
              </a:rPr>
              <a:t>overflow_e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81480" y="4686480"/>
            <a:ext cx="1371600" cy="350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33cc"/>
                </a:solidFill>
                <a:latin typeface="Times New Roman"/>
              </a:rPr>
              <a:t>out_of_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09960" y="4229280"/>
            <a:ext cx="1440" cy="45720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4229280"/>
            <a:ext cx="1800" cy="45720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F1E9-3BB1-4FB4-93EC-71BCD81500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ceituaçã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em todas condições geradoras de erro podem ser detectadas em tempo de compilaçã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ftware seguro e confiável deve implementar um comportamento aceitável na presença dessas condições anormai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rmo exceção designa um evento ocorrido durante a execução de um programa que desvia o fluxo normal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a exceção é uma condição provocada por uma situação excepcional a qual requer uma ação específica imediata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CA72-0A11-46C7-BB1B-130D0DACD4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xceções em JAV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4191120"/>
            <a:ext cx="81788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hrowable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564480" indent="-21708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lasse especial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564480" indent="-21708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bjetos disparáveis pelo mecanismo de exceção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60640" indent="-2606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rror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564480" indent="-21708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lasses de erros graves (não recuperáveis)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564480" indent="-21708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gramador normalmente não manipula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60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133720" y="1828800"/>
            <a:ext cx="5181120" cy="2385720"/>
            <a:chOff x="2133720" y="1828800"/>
            <a:chExt cx="5181120" cy="2385720"/>
          </a:xfrm>
        </p:grpSpPr>
        <p:sp>
          <p:nvSpPr>
            <p:cNvPr id="164" name=""/>
            <p:cNvSpPr/>
            <p:nvPr/>
          </p:nvSpPr>
          <p:spPr>
            <a:xfrm>
              <a:off x="3202200" y="1828800"/>
              <a:ext cx="1424520" cy="47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33cc"/>
                  </a:solidFill>
                  <a:latin typeface="Times New Roman"/>
                </a:rPr>
                <a:t>Throw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33080" y="2659320"/>
              <a:ext cx="1424520" cy="47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33cc"/>
                  </a:solidFill>
                  <a:latin typeface="Times New Roman"/>
                </a:rPr>
                <a:t>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33720" y="2659320"/>
              <a:ext cx="1424520" cy="47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33cc"/>
                  </a:solidFill>
                  <a:latin typeface="Times New Roman"/>
                </a:rPr>
                <a:t>Err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37640" y="3769560"/>
              <a:ext cx="2077200" cy="4449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cc"/>
                  </a:solidFill>
                  <a:latin typeface="Times New Roman"/>
                </a:rPr>
                <a:t>Outras Exceçõ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66440" y="3769560"/>
              <a:ext cx="2077560" cy="44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33cc"/>
                  </a:solidFill>
                  <a:latin typeface="Times New Roman"/>
                </a:rPr>
                <a:t>Runtime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2964600" y="2302920"/>
              <a:ext cx="593280" cy="35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4270320" y="2302920"/>
              <a:ext cx="356040" cy="35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753720" y="3133800"/>
              <a:ext cx="754200" cy="63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4982760" y="3133800"/>
              <a:ext cx="699840" cy="63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9BFC-C072-4500-B3B1-B32A7EF0F1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xceções em JAV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xception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uperclasse de todas as exceções manipuláveis pelo programador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untimeException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ubclasse especial de exceçõe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Geralmente são disparadas pela LP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gramador não é obrigado a tratá-la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bora n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rmalmente indi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que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 problemas sérios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qu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 devem implicar na terminação do programa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, permitem que o programador tenha a opção de tratá-la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umenta a redigibilidade e reduz a confiabilidade pois tratamento não é requerido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1B32-225A-4641-A5D9-B51FC59FF9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finição de Exceções em JAV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ecessário criar subclasse de Exception ou de alguma de suas subclasse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UmaExcecao extends Exception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vate float f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UmaExcecao(String msg, float x) {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per(msg)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 = x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float contexto() {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f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73F2-06DC-4BEE-8493-2C27954721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inalização de Exceçõ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elo próprio mecanismo de exceçõe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xplicitamente pelo programador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so d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y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row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 C++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y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row ErroMedico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 JAV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y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row new Exception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91C0-E3D4-4290-8E26-7A5B1CDD30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ratadores de Exceçõ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1788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cho de código do programa responsáve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por tomar atitudes em resposta à ocorrência de uma exceção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ão são chamados explicitamente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ão precisam possuir nome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so d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tch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associado a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y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B49C-DB79-4B9A-937D-BFD4DC20C68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ratadores de Exceçõ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264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ing n = "635"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ing d = "27"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y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num = Integer.valueOf(n).intValue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den = Integer.valueOf(d).intValue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resultado = num / den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atch (NumberFormatException e)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 ("Erro na Formatacao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atch (ArithmeticException e)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 ("Divisao por zero 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558B-13AA-48CA-97F2-0856A76D055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ratadores de Exceçõ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1788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elhora a redigibilidade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ão necessita incluir testes de exceções após cada chamad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elhora a legibilidade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epara código de tratamento do código de funcionalidad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9BE4-447E-4535-A72D-A502041EBA8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ratadores de Exceçõ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1788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istribuição Inapropriada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y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codigo no qual varias excecoes podem ser sinalizada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atch (ErroMedico &amp;e)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trata qualquer erro medico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atch (ErroDiagnostico &amp;e)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trata apenas erro de diagnostico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atch (ErroCirurgia &amp;e)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trata apenas erro de cirurgia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3BA5-6E11-49EB-9646-A75D98EA1C9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aptura de Qualquer Exceçã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178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 JAVA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y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num = Integer.valueOf(n).intValue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den = Integer.valueOf(d).intValue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resultado = num / den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atch (NumberFormatException e)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 ("Erro na Formatacao 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atch (ArithmeticException e)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("Divisao por zero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atch (Exception e)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 ("Qualquer outra Excecao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AB37-95EC-454A-8AAE-8C3B49672AE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aptura de Qualquer Exceçã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178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 C++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y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codigo que dispara excecoe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atch (ErroDiagnostico &amp;e)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trata apenas erro de diagnostico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atch (ErroCirurgia &amp;e)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trata apenas erro de cirurgia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atch (ErroMedico &amp;e)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trata qualquer erro medico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atch ( ... 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trata qualquer outra excecao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212D-FEE2-4A99-B0B8-3F668718C79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ausas de Exceções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37339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rros Hardwar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lha no disco rígido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rros Softwar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ess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índice inexistente de vetor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últiplos resultado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eitura de registro ou fim de arquivo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28600" y="1752480"/>
            <a:ext cx="8762760" cy="1981440"/>
            <a:chOff x="228600" y="1752480"/>
            <a:chExt cx="8762760" cy="1981440"/>
          </a:xfrm>
        </p:grpSpPr>
        <p:grpSp>
          <p:nvGrpSpPr>
            <p:cNvPr id="91" name=""/>
            <p:cNvGrpSpPr/>
            <p:nvPr/>
          </p:nvGrpSpPr>
          <p:grpSpPr>
            <a:xfrm>
              <a:off x="236520" y="1756440"/>
              <a:ext cx="8745840" cy="1973160"/>
              <a:chOff x="236520" y="1756440"/>
              <a:chExt cx="8745840" cy="197316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236520" y="1756440"/>
                <a:ext cx="2562840" cy="1973160"/>
                <a:chOff x="236520" y="1756440"/>
                <a:chExt cx="2562840" cy="197316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54600" y="1756440"/>
                  <a:ext cx="2326680" cy="197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Exceçõe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36520" y="1756440"/>
                  <a:ext cx="2562840" cy="1973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799720" y="1756440"/>
                <a:ext cx="3031920" cy="1189440"/>
                <a:chOff x="2799720" y="1756440"/>
                <a:chExt cx="3031920" cy="118944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917800" y="1756440"/>
                  <a:ext cx="2796120" cy="118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Erro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799720" y="1756440"/>
                  <a:ext cx="3031920" cy="118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5832360" y="1756440"/>
                <a:ext cx="3150000" cy="594720"/>
                <a:chOff x="5832360" y="1756440"/>
                <a:chExt cx="3150000" cy="594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5950440" y="1756440"/>
                  <a:ext cx="2913840" cy="59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Hardwar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832360" y="1756440"/>
                  <a:ext cx="3150000" cy="59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5832360" y="2351160"/>
                <a:ext cx="3150000" cy="594720"/>
                <a:chOff x="5832360" y="2351160"/>
                <a:chExt cx="3150000" cy="5947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5950440" y="2351160"/>
                  <a:ext cx="2913840" cy="59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Softwar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832360" y="2351160"/>
                  <a:ext cx="3150000" cy="59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2799720" y="2945880"/>
                <a:ext cx="3031920" cy="783360"/>
                <a:chOff x="2799720" y="2945880"/>
                <a:chExt cx="3031920" cy="7833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2917800" y="2945880"/>
                  <a:ext cx="2796120" cy="78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Flux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799720" y="2945880"/>
                  <a:ext cx="3031920" cy="78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5832360" y="2945880"/>
                <a:ext cx="3150000" cy="783360"/>
                <a:chOff x="5832360" y="2945880"/>
                <a:chExt cx="3150000" cy="7833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950440" y="2945880"/>
                  <a:ext cx="2913840" cy="78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cc"/>
                      </a:solidFill>
                      <a:latin typeface="Comic Sans MS"/>
                      <a:ea typeface="Times New Roman"/>
                    </a:rPr>
                    <a:t>Múltiplos Resultado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832360" y="2945880"/>
                  <a:ext cx="3150000" cy="78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0" name=""/>
            <p:cNvSpPr/>
            <p:nvPr/>
          </p:nvSpPr>
          <p:spPr>
            <a:xfrm>
              <a:off x="228600" y="1752480"/>
              <a:ext cx="8762760" cy="19814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71A4-0CF7-407E-89B5-268DBBD8BD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pagação de Exceçõ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static void main(String[] args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("Bloco 1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y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("Bloco 2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y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("Bloco 3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y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witch(Math.abs(new Random().nextInt())%4+1)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fault: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se 1: throw new NumberFormatException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se 2: throw new EOFException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se 3: throw new NullPointerException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se 4: throw new IOException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B9C9-EC0C-41A3-A00C-BEF6BB9F987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pagação de Exceçõ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178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atch (EOFException e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("Trata no bloco 3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atch (IOException e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("Trata no bloco 2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atch (NullPointerException e)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("Trata no bloco 1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2911-067C-467A-8E2D-2AF0A881C14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lançamento de Exceçõ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873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static void main(String[] args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y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y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row new IOException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atch (IOException e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("Trata primeiro aqui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row e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atch (IOException e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("Continua tratando aqui 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157C-8662-470C-B827-FDA7EC02223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pecificação de Exceçõ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bprograma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de 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ança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exceção sem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ratar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bprograma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ecessita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xplicitar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exceções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que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pode disparar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 C++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f() throw (A,B,C)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dispara A, B e C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g() throw()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não dispara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h();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pode disparar qq exceção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ão verifica se o compromisso assumido na especificação está sendo cumprid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ão obriga a função chamadora a tratar todas as exceções possíveis de serem geradas pela função chamada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B259-0CEF-4664-A216-D7F0E7C7AE3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pecificação de Exceçõ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419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ErroI { 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ErroII { 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f () throw (ErroI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row ErroII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exc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ut &lt;&lt;"erro nao esperado"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it(1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1828800"/>
            <a:ext cx="33530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t_unexpected(ex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 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atch (ErroI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ut&lt;&lt;"erro em f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3589-E579-4351-9E61-AFB2C1318EA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pecificação de Exceçõ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419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ErroI { 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ErroII { 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f () throw (ErroI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row ErroI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exc()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ut &lt;&lt;"erro nao esperado"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it(1)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1828800"/>
            <a:ext cx="33530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t_unexpected(ex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 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atch (ErroII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ut&lt;&lt;"erro em f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1802-396B-4F3C-8BEC-2787F50292F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pecificação de Exceçõ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 JAVA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pecificação das exceções não tratadas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é obrigatória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xceções RuntimeException não precisam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31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static void main(String[] args) throws IOException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31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("Bloco 1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31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y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31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("Bloco 2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31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y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31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("Bloco 3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31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y {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witch(Math.abs(new Random().nextInt())%4+1)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fault: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se 1: throw new NumberFormatException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9A73-D599-4120-9AAB-66EC5D59EB3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pecificação de Exceçõ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se 2: throw new EOFException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se 3: throw new NullPointerException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se 4: throw new IOException()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atch (EOFException e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("Trata no bloco 3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atch (NumberFormatException e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("Trata no bloco 2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atch (NullPointerException e)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("Trata no bloco 1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861F-12C3-4BD8-906D-DD9011E50AC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pagação de Exceções 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ntre Métod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178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static void main(String[] args) throws IOException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("Bloco 1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y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meiro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atch (NullPointerException e)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("Trata no bloco 1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F1A4-90C3-4A94-93BD-5746D58F1E2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pagação de Exceções 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ntre Métod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static void primeiro() throws IOException,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ullPointerException {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("Bloco 2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y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gundo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atch (NumberFormatException e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("Trata no bloco 2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static void segundo() throws IOException,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ullPointerException {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("Bloco 3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A0B4-283A-430B-99DA-B9B69C9585A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bordagens de LPs para Exceções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ão oferecer recursos próprios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ratamento através de mecanismos já existentes (testes, subprogramas e desvio incondicional)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, PASCAL e MODULA-2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ssuir mecanismo de tratamento de Exceções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andos específico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ovo tipo de fluxo de execuçã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DA, C++ e JAVA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6A59-E4C1-4F73-B7F5-1D3BDACAEF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pagação de Exceções 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ntre Métod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y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witch(Math.abs(new Random().nextInt())%4+1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fault: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se 1: throw new NumberFormatException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se 2: throw new EOFException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se 3: throw new NullPointerException();   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se 4: throw new IOException();   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atch (EOFException e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("Trata no bloco 3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92D6-25A1-4E5C-BEC2-79557CCEB40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odos de Continuaçã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erminaçã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sume o erro como crític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ão retorna ao ponto no qual a exceção foi gerad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 controle retorna para um ponto mais externo do programa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tomada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sume o erro como corrigível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execução pode retornar para o bloco no qual ocorreu a exceçã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xperiência indica baixa efetividade dessa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pçã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ioria das LPs adota o modelo de terminação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742F-C6FC-4B83-A6CA-AA8C6474235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erminaçã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 C++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ErroI { 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ErroII { 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ErroIII { 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f () throw (ErroI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row ErroI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in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ut &lt;&lt; "comeca aqui\n"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y {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ut &lt;&lt; "passa por aqui\n"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05E3-1057-44FB-A4C0-9C728FABCB9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erminaçã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y {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 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atch (ErroIII)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ut&lt;&lt;"não passa por aqui\n"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ut&lt;&lt;"também não passa por aqui\n"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atch (ErroI)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ut&lt;&lt;"erro I em f\n"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atch (ErroII)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ut&lt;&lt;"não passa por aqui\n"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ut &lt;&lt; "termina aqui\n"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37F7-C182-4914-BEB9-2D78AFC931D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tomad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 JAVA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mport java.util.*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class Retomada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atic class ImparException extends Exception {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static void main(String[] args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oolean continua = true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andom r = new Random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ile (continua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inua = false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6325-1E3B-4232-B558-139707C30A7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tomad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178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y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 ("Escolha um numero par: 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i = r.nextInt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i%2 != 0) throw new ImparException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atch(ImparException e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("Tente novamente!!!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inua = true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9638-9DCB-4761-82D7-BB91B11BFE2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 Cláusula finally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class Sempre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static void main(String[] args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("Bloco 1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y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("Bloco 2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y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row new Exception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finally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("finally do bloco 2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4B73-CF95-45BB-A683-F0E2614A632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 Cláusula finally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178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atch(Exception e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("Excecao capturada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finally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("finally do bloco 1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E461-9BEF-484E-AA3F-9C557BF101B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 Cláusula finally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178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class CarroBomba {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SuperAquecimentoException extends Exception {}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FogoException extends Exception {}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andom r = new Random();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void ligar() {}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void mover() throws SuperAquecimentoException,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goException {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at temperatura = r.nextFloat();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temperatura &gt; 100.0) {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row new SuperAquecimentoException();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row new FogoException();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void desligar() {}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690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51AB-FD16-444E-A3B8-439FBAC1D7C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 Cláusula finally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178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static void main(String[] args) {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y {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roBomba c = new CarroBomba();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y {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.ligar();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.mover();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atch(SuperAquecimentoException e) {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("vai fundir o motor!!!");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finally {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.desligar();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atch (FogoException e) {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 ("vai explodir!!!");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D6F9-3C99-4504-9E3F-0C0F933577E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usência de Mecanismo de Exceção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pções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ixar o programa abortar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estar a condição excepcional antes de ela ocorrer e realizar o tratamento imediato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tornar código de erro indicando a exceção ocorrida em uma variável global, no resultado da função ou em um parâmetro específic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2D61-D5BB-4D7F-A5B5-089E6F388D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erda de Exceção em JAV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178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class Perda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InfartoException extends Exception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String toString() { return "Urgente!"; 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infarto() throws InfartoException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row new InfartoException 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ResfriadoException extends Exception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String toString() { return "Descanse!"; 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resfriado() throws ResfriadoException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row new ResfriadoException 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723E-EA7E-4491-9EAD-3AB985E15C8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erda de Exceção em JAV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178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static void main(String[] args) throws Exception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da p = new Perda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y {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.infarto()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finally {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.resfriado()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95E3-E027-45AE-A849-D2E3CE7290E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xceções e Polimorfism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umenta a complexidade dos programa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ecessário definir regra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 JAV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s construtores podem adicionar novas exceções a serem propagadas às declaradas no construtor da superclasse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s construtores devem necessariamente propagar as exceções declaradas no construtor da superclasse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étodos declarados na superclasse não podem ter novas exceções propagadas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ão é obrigatório propagar as exceções dos métodos da superclasse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s métodos sobrescritos podem disparar exceções que sejam subclasses das exceções propagadas na superclasse</a:t>
            </a:r>
            <a:r>
              <a:rPr b="0" lang="pt-BR" sz="1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2DF1-4415-4E96-A852-A0A0864B981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xceções e Polimorfism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 JAVA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InfracaoTransito extends Exception {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ExcessoVelocidade extends InfracaoTransito {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AltaVelocidade extends ExcessoVelocidade {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AvancarSinal extends InfracaoTransito {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Acidente extends Exception {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Batida extends Acidente {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stract class Dirigir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rigir() throws InfracaoTransito { 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irTrabalhar () throws InfracaoTransito {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stract void viajar() throws ExcessoVelocidade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vancarSinal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caminhar() {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D804-2468-48B5-8FEE-7F549944855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xceções e Polimorfism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face Perigo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irTrabalhar () throws Batida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congestionamento() throws Batida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class DirecaoPerigosa extends Dirigir implements Perigo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recaoPerigosa() throws Batida, InfracaoTransito {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recaoPerigosa (String s) throws ExcessoVelocidade,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fracaoTransito {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void caminhar() throws AltaVelocidade {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public void irTrabalhar() throws Batida {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void irTrabalhar() {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void congestionamento() throws Batida {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viajar() throws AltaVelocidade {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BFBA-2DE8-49B4-A1E5-019B9E58125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xceções e Polimorfism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static void main(String[] args) {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y {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recaoPerigosa dp = new DirecaoPerigosa ();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p.viajar ();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atch(AltaVelocidade e) {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atch(Batida e) {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atch(InfracaoTransito e) {}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y {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rigir d = new DirecaoPerigosa();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.viajar ();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atch(AvancarSinal e) {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atch(ExcessoVelocidade e) {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atch(Batida e) {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atch(InfracaoTransito e) {}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F36F-9390-4B11-AB72-C3E086A7898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luxo de Controle com Exceçõ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219320" y="1905120"/>
            <a:ext cx="6140160" cy="4038120"/>
            <a:chOff x="1219320" y="1905120"/>
            <a:chExt cx="6140160" cy="4038120"/>
          </a:xfrm>
        </p:grpSpPr>
        <p:sp>
          <p:nvSpPr>
            <p:cNvPr id="247" name=""/>
            <p:cNvSpPr/>
            <p:nvPr/>
          </p:nvSpPr>
          <p:spPr>
            <a:xfrm>
              <a:off x="1219320" y="1905120"/>
              <a:ext cx="1208520" cy="38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0033cc"/>
                  </a:solidFill>
                  <a:latin typeface="Times New Roman"/>
                </a:rPr>
                <a:t>main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400" spc="-1" strike="noStrike">
                  <a:solidFill>
                    <a:srgbClr val="0033cc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400" spc="-1" strike="noStrike">
                  <a:solidFill>
                    <a:srgbClr val="0033cc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0" i="1" lang="pt-BR" sz="1400" spc="-1" strike="noStrike">
                  <a:solidFill>
                    <a:srgbClr val="0033cc"/>
                  </a:solidFill>
                  <a:latin typeface="Times New Roman"/>
                </a:rPr>
                <a:t>try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400" spc="-1" strike="noStrike">
                  <a:solidFill>
                    <a:srgbClr val="0033cc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0" i="1" lang="pt-BR" sz="1400" spc="-1" strike="noStrike">
                  <a:solidFill>
                    <a:srgbClr val="0033cc"/>
                  </a:solidFill>
                  <a:latin typeface="Times New Roman"/>
                </a:rPr>
                <a:t>funçãoI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400" spc="-1" strike="noStrike">
                  <a:solidFill>
                    <a:srgbClr val="0033cc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400" spc="-1" strike="noStrike">
                  <a:solidFill>
                    <a:srgbClr val="0033cc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400" spc="-1" strike="noStrike">
                  <a:solidFill>
                    <a:srgbClr val="0033cc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400" spc="-1" strike="noStrike">
                  <a:solidFill>
                    <a:srgbClr val="0033cc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0033cc"/>
                  </a:solidFill>
                  <a:latin typeface="Times New Roman"/>
                </a:rPr>
                <a:t>} catch(B)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400" spc="-1" strike="noStrike">
                  <a:solidFill>
                    <a:srgbClr val="0033cc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400" spc="-1" strike="noStrike">
                  <a:solidFill>
                    <a:srgbClr val="0033cc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4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0" i="1" lang="pt-BR" sz="1400" spc="-1" strike="noStrike">
                  <a:solidFill>
                    <a:srgbClr val="0033cc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400" spc="-1" strike="noStrike">
                  <a:solidFill>
                    <a:srgbClr val="0033cc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400" spc="-1" strike="noStrike">
                  <a:solidFill>
                    <a:srgbClr val="0033cc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0033cc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36720" y="2981880"/>
              <a:ext cx="1477080" cy="249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0033cc"/>
                  </a:solidFill>
                  <a:latin typeface="Times New Roman"/>
                </a:rPr>
                <a:t>funçãoI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400" spc="-1" strike="noStrike">
                  <a:solidFill>
                    <a:srgbClr val="0033cc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0033cc"/>
                  </a:solidFill>
                  <a:latin typeface="Times New Roman"/>
                </a:rPr>
                <a:t>  </a:t>
              </a:r>
              <a:r>
                <a:rPr b="0" i="1" lang="pt-BR" sz="1400" spc="-1" strike="noStrike">
                  <a:solidFill>
                    <a:srgbClr val="0033cc"/>
                  </a:solidFill>
                  <a:latin typeface="Times New Roman"/>
                </a:rPr>
                <a:t>try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400" spc="-1" strike="noStrike">
                  <a:solidFill>
                    <a:srgbClr val="0033cc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0033cc"/>
                  </a:solidFill>
                  <a:latin typeface="Times New Roman"/>
                </a:rPr>
                <a:t>funçãoII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400" spc="-1" strike="noStrike">
                  <a:solidFill>
                    <a:srgbClr val="0033cc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0033cc"/>
                  </a:solidFill>
                  <a:latin typeface="Times New Roman"/>
                </a:rPr>
                <a:t>  </a:t>
              </a:r>
              <a:r>
                <a:rPr b="0" i="1" lang="pt-BR" sz="1400" spc="-1" strike="noStrike">
                  <a:solidFill>
                    <a:srgbClr val="0033cc"/>
                  </a:solidFill>
                  <a:latin typeface="Times New Roman"/>
                </a:rPr>
                <a:t>}catch(A)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400" spc="-1" strike="noStrike">
                  <a:solidFill>
                    <a:srgbClr val="0033cc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400" spc="-1" strike="noStrike">
                  <a:solidFill>
                    <a:srgbClr val="0033cc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0033cc"/>
                  </a:solidFill>
                  <a:latin typeface="Times New Roman"/>
                </a:rPr>
                <a:t>   </a:t>
              </a:r>
              <a:r>
                <a:rPr b="0" i="1" lang="pt-BR" sz="1400" spc="-1" strike="noStrike">
                  <a:solidFill>
                    <a:srgbClr val="0033cc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0033cc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88760" y="3813480"/>
              <a:ext cx="1170720" cy="183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0033cc"/>
                  </a:solidFill>
                  <a:latin typeface="Times New Roman"/>
                </a:rPr>
                <a:t>funçãoII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400" spc="-1" strike="noStrike">
                  <a:solidFill>
                    <a:srgbClr val="0033cc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0033cc"/>
                  </a:solidFill>
                  <a:latin typeface="Times New Roman"/>
                </a:rPr>
                <a:t>throw A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400" spc="-1" strike="noStrike">
                  <a:solidFill>
                    <a:srgbClr val="0033cc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0033cc"/>
                  </a:solidFill>
                  <a:latin typeface="Times New Roman"/>
                </a:rPr>
                <a:t>throw B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400" spc="-1" strike="noStrike">
                  <a:solidFill>
                    <a:srgbClr val="0033cc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400" spc="-1" strike="noStrike">
                  <a:solidFill>
                    <a:srgbClr val="0033cc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0033cc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427480" y="3219480"/>
              <a:ext cx="6714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427840" y="3100680"/>
              <a:ext cx="120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099600" y="5357520"/>
              <a:ext cx="53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099600" y="3219480"/>
              <a:ext cx="0" cy="2137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14160" y="3932280"/>
              <a:ext cx="107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5114160" y="4407480"/>
              <a:ext cx="107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517000" y="4882320"/>
              <a:ext cx="671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17360" y="4882320"/>
              <a:ext cx="0" cy="950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2696040" y="5832720"/>
              <a:ext cx="2820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2696400" y="4169520"/>
              <a:ext cx="0" cy="166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2427840" y="4169880"/>
              <a:ext cx="26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5785560" y="5476320"/>
              <a:ext cx="402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5785920" y="4050720"/>
              <a:ext cx="0" cy="1425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5113800" y="4051080"/>
              <a:ext cx="67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17360" y="4043160"/>
              <a:ext cx="402840" cy="2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14160" y="4161960"/>
              <a:ext cx="4028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33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48440" y="5587200"/>
              <a:ext cx="4028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33cc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64960" y="3686760"/>
              <a:ext cx="4028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33cc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651280" y="3686760"/>
              <a:ext cx="4028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99600" y="2855160"/>
              <a:ext cx="402840" cy="35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E48E-9200-46EA-B202-BB3B20C21BC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antagens do Mecanismo 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 Exceçõ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lhoram a legibilidade dos programa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param o código com a funcionalidade principal do programa do código responsável pelo tratamento de exceçõe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mentam a confiabilidade e robustez dos programa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rmalmente requerem o tratamento obrigatório das exceções ocorrida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omovem a idéia de recuperação dos programas mesmo na presença de situações anômala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centiva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a reutilização e a modularidade do código responsável pelo tratamento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181B-DF12-4782-94B7-E70558FC523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svantagens do Mecanismo 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 Exceçõ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az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maior complexidade para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 aprendizado d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 linguagem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de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reduzir a eficiência computacional dos programas nessa linguagem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ragilidades em C++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úmero reduzido de exceções pré-definidas na biblioteca padrão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 funções não são obrigadas a especificar as exceções que podem propagar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ão detecção em tempo de compilação da quebra de compromisso com uma dada especificação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ão existe obrigação de explicitar a exceção relançada para o nível superior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F4E1-2A88-4EDF-A7DA-6EC3A4B79F3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bort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duz a confiança do usuário no sistema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ficulta a depuração dos erros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itas exceções podem ser contornadas sem que seja necessário interromper a execução do programa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0A0E-B100-434F-996C-6F8B11FAB4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este e Tratamento Imediat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rrega muito o texto do programa com código de tratament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bscuresce a funcionalidade do algoritmo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 testes de exceçõ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ubprogramas para tratamento reduzem esse problem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ogramador tem de lembrar, identificar e testar todas as possíveis condições causadoras de exceçõe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rmalmente não ocorre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gumas exceções não podem ser tratadas localmente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AD3A-CBE3-4CA0-9ADB-6C9258A2DD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este e Tratamento Imediat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162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divideInteiros (int numerador, int denominador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denominador == 0 )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ta_divisao_zero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se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numerador / denominador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trata_divisao_zero(void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("Divisao por zero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1891-2D31-43BA-B0D7-A0C3A39ADE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este e Tratamento Imediat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162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id  executaFuncionalidade(int x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 (“Faz alguma coisa!!!”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f(int x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condicao1(x)) trata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)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condicao2(x)) trata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)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condicao3(x)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(“Nao consegue tratar aqui”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it(1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ecutaFuncionalidade(x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7E4D-0A2C-4307-BCA5-7E705E6318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2T23:32:25Z</dcterms:created>
  <dc:creator>adriana</dc:creator>
  <dc:description/>
  <dc:language>en-US</dc:language>
  <cp:lastModifiedBy>Flávio Miguel Varejão</cp:lastModifiedBy>
  <dcterms:modified xsi:type="dcterms:W3CDTF">2004-09-10T09:35:12Z</dcterms:modified>
  <cp:revision>436</cp:revision>
  <dc:subject/>
  <dc:title>Curso de Qualidade 2004 - SBC</dc:title>
</cp:coreProperties>
</file>