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237-5552-45B6-A9CF-70796A50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2BC-062C-43CD-BB02-3C630E6C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283-4E9B-4C7C-B3D0-A93A24A2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4A9-22ED-4E4D-8482-6145678B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5AA9-D54F-4752-9ADA-83E2A16C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1AC1-D0FC-40CC-A20F-4E7831A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5940-8206-47A7-BB21-BA52CD2B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0BDC-C1D8-49E1-B288-3A0278A0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AE6-6DAE-41D3-BA97-832BD8FA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09B6-1783-47E8-A789-02FD35C1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DF48-BEEF-4CD0-BAB9-CB96AE52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29C-97B1-488F-B12B-B204FEAB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0628-2225-464B-A3E6-CB2ED4A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6676-B3D8-484A-B614-C9AD994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71EA-E5E9-4C0C-AF9F-87785DEA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4520-1103-417F-9C1D-2897E6D7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902D-80D8-4B48-BC9F-25722AB3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6EC-DE30-49A1-837A-99B36F14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C7B-9F2B-452D-AAF1-BCBFCB4B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355-2876-4F8E-A75A-939003C2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F86-3971-4A76-A4D6-EF2543B2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543-A29B-4309-A76D-E999643C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D39-DEA8-41B0-BB82-9517F8C8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515-A250-4643-8182-81ADF7B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Amarr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3E3D-59DE-487C-8B2C-819EDB8B62F1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7F7C-BB86-403F-82E5-57BEFC219F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Amarrações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 Estátic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ferência Seletiva em AD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209680"/>
            <a:ext cx="3733920" cy="38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B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 C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:= A.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20968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d A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632-96DB-413B-A7FE-C77951FFEE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 Estátic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 com Estrutura Aninhad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257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62120" y="2514600"/>
            <a:ext cx="7721280" cy="2808000"/>
            <a:chOff x="762120" y="2514600"/>
            <a:chExt cx="7721280" cy="2808000"/>
          </a:xfrm>
        </p:grpSpPr>
        <p:sp>
          <p:nvSpPr>
            <p:cNvPr id="193" name=""/>
            <p:cNvSpPr/>
            <p:nvPr/>
          </p:nvSpPr>
          <p:spPr>
            <a:xfrm>
              <a:off x="1814760" y="2514600"/>
              <a:ext cx="526320" cy="526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2120" y="339228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14760" y="339228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67760" y="339228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426996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41080" y="426996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9760" y="426996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2080" y="2514600"/>
              <a:ext cx="526320" cy="526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8440" y="339228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1080" y="339228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04080" y="339228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04080" y="426996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57080" y="3392280"/>
              <a:ext cx="526320" cy="52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12760" y="3216600"/>
              <a:ext cx="1930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9080" y="3216600"/>
              <a:ext cx="2983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92440" y="4094280"/>
              <a:ext cx="1052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90440" y="3041280"/>
              <a:ext cx="0" cy="35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304128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12760" y="321660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3080" y="321660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18760" y="391860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92440" y="409428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45080" y="409428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49080" y="321660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26760" y="321660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55080" y="321660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32760" y="3216600"/>
              <a:ext cx="0" cy="17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12760" y="3918600"/>
              <a:ext cx="0" cy="35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55080" y="3918600"/>
              <a:ext cx="0" cy="351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0440" y="4971960"/>
              <a:ext cx="526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4971960"/>
              <a:ext cx="526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1E3-9ECE-4AFF-9B86-03E57F33A6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 Estátic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91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utura de Blocos de C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y = 1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y – 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z = x +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g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w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 =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2057400"/>
            <a:ext cx="4191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x +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FA0-DB3B-412C-8AC9-CBA97C7265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 Dinâmic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ento sub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iro x 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ento sub1(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eva( x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ento sub2(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iro x = 3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1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2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1(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FF0-0FF3-447E-B65D-883431858F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 Dinâmic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ficiênc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egi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cess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ia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ão usado por LP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637-1402-4492-8259-34E69EEC32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e Declara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produzem amarrações entre identificadores e entidades criadas na própria defini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ções produzem amarrações entre identificadores e entidades já criadas ou que ainda o ser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095-12EE-4CA0-AD7F-6D75DB03FB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e Declaraçõ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ocalização de Definições de Variáveis em C++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 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a +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b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= b +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487-1476-4BD8-99F3-1B8FE8C63E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ção de Constant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 C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 float pi = 3.14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define pi 3.14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al int const1  = 9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 final int const2  = 39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al int const3 = (int)(Math.random()*2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 final const4 = (int)(Math.random()*2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al int j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rutor 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 = 1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958-D063-4C8D-A4FD-19C7F90CDD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 Declarações 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Tipo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2438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d, m,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2438280"/>
            <a:ext cx="2438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on angul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grau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r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2438280"/>
            <a:ext cx="2438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um dia_util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, ter, qua, qui, 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828800"/>
            <a:ext cx="817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962520"/>
            <a:ext cx="817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lar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ções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495680"/>
            <a:ext cx="46479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def union angulo curvatu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def struct data aniversario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2F8-5F84-40D0-9DE0-C91012623A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e Declarações de Variávei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de Variáveis em C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k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on angulo ang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data d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*p, i, j, k, v[10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com Inicialização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 = 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virgula = ','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f, g = 3.59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j, k, l = 0, m=2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6E8-8784-431A-863C-412ADA9761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eitu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(ou </a:t>
            </a:r>
            <a:r>
              <a:rPr b="0" i="1" lang="pt-BR" sz="3200" spc="-1" strike="noStrike">
                <a:solidFill>
                  <a:srgbClr val="0033cc"/>
                </a:solidFill>
                <a:latin typeface="Comic Sans MS"/>
                <a:ea typeface="Courier New"/>
              </a:rPr>
              <a:t>binding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 é uma associação entre entidades de programação, tais como entre uma variável e seu valor ou entre um identificador e um tipo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foque na amarração de identificadores a entidade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28C-C074-4A25-9C89-CF7F15B9D0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e Declarações de Variávei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com Inicialização Dinâmica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int x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j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= x +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k = i * j *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com Inicialização em Variáveis Compostas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[3] = { 1, 2, 3 }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420-2872-4198-A44F-4AB100CD41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e Declarações de Variávei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ção de Variáveis em C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ern int a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ção de Variáveis em C++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r = 10;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&amp;j = r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++;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925-816F-44B7-8B9C-0D2A987003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e Declarações de Subprograma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ão de Subprogramas em C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soma (int a, int b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a + b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1600" indent="-291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ção de Subprogramas em C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ncr (int);     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void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k = incr(10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ncr (int x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++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702-CD1F-467A-B87B-2686FDBB4E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Compostas Seqüencia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Seq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ü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ciais em C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funcionario {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 nome [30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atricul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salari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empresa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ionario listafunc [1000]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umfunc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faturamento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m =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n = m;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FAA-FD75-42E2-A91E-D24F149C4D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Compostas Seqüenciai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Seq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ü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ciais em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L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 par = fn (n: int) =&gt; (n mod 2 = 0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 negacao = fn (t: bool) =&gt; if t then false else tru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 impar = negacao o par        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 jogo = if x &lt; y then par else impar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3EA-0CFA-4FA3-A984-F4C18B6F12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Compostas Recursiva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647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ão Recursiva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Função em C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potencia (float x, int n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n == 0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1.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else if (n &lt; 0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1.0/ potencia (x, -n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else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x * potencia (x, n - 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752480"/>
            <a:ext cx="39625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 Recursivo e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list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ele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 lista * proxi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655-4CA9-472C-B73D-CA5F341D31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Compostas Recursiva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Mutuamente Recursivas em C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segunda (int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primeira (int n) {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n &lt; 0) retur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a (n – 1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segunda (int n) {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n &lt; 0) return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meira (n – 1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7EB-A9FD-4EAB-B505-27980F4FAF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ões Compostas Recursiva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rro em Definição de Função strcmp em C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strcmp (char *p, char *q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!strcmp (p, q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licitação de Recursividade em Função ML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 rec mdc = fn ( m:int, n: int) = &gt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m &gt; n then mdc (m – n, n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if m &lt; n then mdc (m, n – m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 m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991-FF4A-4306-BDB2-1FFEC7BA1A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mpos de Amarr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5867280"/>
            <a:ext cx="817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Estática X Dinâmica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3240" y="-379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280" y="1447920"/>
            <a:ext cx="8762760" cy="4343400"/>
            <a:chOff x="152280" y="1447920"/>
            <a:chExt cx="8762760" cy="4343400"/>
          </a:xfrm>
        </p:grpSpPr>
        <p:grpSp>
          <p:nvGrpSpPr>
            <p:cNvPr id="92" name=""/>
            <p:cNvGrpSpPr/>
            <p:nvPr/>
          </p:nvGrpSpPr>
          <p:grpSpPr>
            <a:xfrm>
              <a:off x="158400" y="1450800"/>
              <a:ext cx="8748720" cy="4336560"/>
              <a:chOff x="158400" y="1450800"/>
              <a:chExt cx="8748720" cy="43365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158400" y="1450800"/>
                <a:ext cx="1354320" cy="821880"/>
                <a:chOff x="158400" y="1450800"/>
                <a:chExt cx="1354320" cy="8218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18880" y="1450800"/>
                  <a:ext cx="12330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Identifica-dor ou Símbol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58400" y="1450800"/>
                  <a:ext cx="135432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13080" y="1450800"/>
                <a:ext cx="3696840" cy="821880"/>
                <a:chOff x="1513080" y="1450800"/>
                <a:chExt cx="3696840" cy="821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73920" y="1450800"/>
                  <a:ext cx="3574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ntida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13080" y="1450800"/>
                  <a:ext cx="36968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210640" y="1450800"/>
                <a:ext cx="3696480" cy="968400"/>
                <a:chOff x="5210640" y="1450800"/>
                <a:chExt cx="3696480" cy="9684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5264640" y="1451520"/>
                  <a:ext cx="3578760" cy="967680"/>
                  <a:chOff x="5264640" y="1451520"/>
                  <a:chExt cx="3578760" cy="96768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264640" y="1451520"/>
                    <a:ext cx="3578760" cy="59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264640" y="1823400"/>
                    <a:ext cx="3578760" cy="59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  <a:ea typeface="Times New Roman"/>
                      </a:rPr>
                      <a:t>Tempo de Amarraçã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5210640" y="1450800"/>
                  <a:ext cx="36964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158400" y="2272680"/>
                <a:ext cx="1354320" cy="462960"/>
                <a:chOff x="158400" y="2272680"/>
                <a:chExt cx="1354320" cy="462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8880" y="2272680"/>
                  <a:ext cx="123300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8400" y="2272680"/>
                  <a:ext cx="1354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513080" y="2272680"/>
                <a:ext cx="3696840" cy="462960"/>
                <a:chOff x="1513080" y="2272680"/>
                <a:chExt cx="3696840" cy="462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573920" y="2272680"/>
                  <a:ext cx="357444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Operação de multiplic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513080" y="2272680"/>
                  <a:ext cx="369684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5210640" y="2272680"/>
                <a:ext cx="3696480" cy="462960"/>
                <a:chOff x="5210640" y="2272680"/>
                <a:chExt cx="3696480" cy="462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271120" y="2272680"/>
                  <a:ext cx="357516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projeto da L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210640" y="2272680"/>
                  <a:ext cx="369648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58400" y="2736000"/>
                <a:ext cx="1354320" cy="757080"/>
                <a:chOff x="158400" y="2736000"/>
                <a:chExt cx="1354320" cy="7570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18880" y="2736000"/>
                  <a:ext cx="1233000" cy="7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i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58400" y="2736000"/>
                  <a:ext cx="1354320" cy="75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513080" y="2736000"/>
                <a:ext cx="3696840" cy="757080"/>
                <a:chOff x="1513080" y="2736000"/>
                <a:chExt cx="3696840" cy="7570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573920" y="2736000"/>
                  <a:ext cx="3574440" cy="7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Intervalo de inteir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13080" y="2736000"/>
                  <a:ext cx="3696840" cy="75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210640" y="2736000"/>
                <a:ext cx="3696480" cy="757080"/>
                <a:chOff x="5210640" y="2736000"/>
                <a:chExt cx="3696480" cy="7570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271120" y="2736000"/>
                  <a:ext cx="3575160" cy="7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projeto da LP (JAVA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implementação do compilador 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10640" y="2736000"/>
                  <a:ext cx="3696480" cy="75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58400" y="3493440"/>
                <a:ext cx="1354320" cy="610200"/>
                <a:chOff x="158400" y="3493440"/>
                <a:chExt cx="1354320" cy="6102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18880" y="3493440"/>
                  <a:ext cx="123300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58400" y="3493440"/>
                  <a:ext cx="135432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513080" y="3493440"/>
                <a:ext cx="3696840" cy="610200"/>
                <a:chOff x="1513080" y="3493440"/>
                <a:chExt cx="3696840" cy="6102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573920" y="3493440"/>
                  <a:ext cx="357444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Ti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513080" y="3493440"/>
                  <a:ext cx="369684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210640" y="3493440"/>
                <a:ext cx="3696480" cy="610200"/>
                <a:chOff x="5210640" y="3493440"/>
                <a:chExt cx="3696480" cy="610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271120" y="3493440"/>
                  <a:ext cx="357516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compilação 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xecução (polimorfismo em C++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10640" y="3493440"/>
                  <a:ext cx="369648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58400" y="4103640"/>
                <a:ext cx="1354320" cy="462960"/>
                <a:chOff x="158400" y="4103640"/>
                <a:chExt cx="1354320" cy="4629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18880" y="4103640"/>
                  <a:ext cx="123300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funçã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8400" y="4103640"/>
                  <a:ext cx="1354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513080" y="4103640"/>
                <a:ext cx="3696840" cy="462960"/>
                <a:chOff x="1513080" y="4103640"/>
                <a:chExt cx="3696840" cy="462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573920" y="4103640"/>
                  <a:ext cx="357444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Código correspondente da fun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513080" y="4103640"/>
                  <a:ext cx="369684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210640" y="4103640"/>
                <a:ext cx="3696480" cy="462960"/>
                <a:chOff x="5210640" y="4103640"/>
                <a:chExt cx="3696480" cy="4629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271120" y="4103640"/>
                  <a:ext cx="357516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lig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210640" y="4103640"/>
                  <a:ext cx="369648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58400" y="4566960"/>
                <a:ext cx="1354320" cy="610200"/>
                <a:chOff x="158400" y="4566960"/>
                <a:chExt cx="1354320" cy="6102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18880" y="4566960"/>
                  <a:ext cx="123300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 glob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58400" y="4566960"/>
                  <a:ext cx="135432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513080" y="4566960"/>
                <a:ext cx="3696840" cy="610200"/>
                <a:chOff x="1513080" y="4566960"/>
                <a:chExt cx="3696840" cy="610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573920" y="4566960"/>
                  <a:ext cx="357444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 em memó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513080" y="4566960"/>
                  <a:ext cx="369684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210640" y="4566960"/>
                <a:ext cx="3696480" cy="610200"/>
                <a:chOff x="5210640" y="4566960"/>
                <a:chExt cx="3696480" cy="6102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271120" y="4566960"/>
                  <a:ext cx="357516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carga do program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210640" y="4566960"/>
                  <a:ext cx="369648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58400" y="5177160"/>
                <a:ext cx="1354320" cy="610200"/>
                <a:chOff x="158400" y="5177160"/>
                <a:chExt cx="1354320" cy="6102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18880" y="5177160"/>
                  <a:ext cx="123300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 lo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8400" y="5177160"/>
                  <a:ext cx="135432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513080" y="5177160"/>
                <a:ext cx="3696840" cy="610200"/>
                <a:chOff x="1513080" y="5177160"/>
                <a:chExt cx="3696840" cy="610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573920" y="5177160"/>
                  <a:ext cx="357444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Variável em memó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513080" y="5177160"/>
                  <a:ext cx="369684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210640" y="5177160"/>
                <a:ext cx="3696480" cy="610200"/>
                <a:chOff x="5210640" y="5177160"/>
                <a:chExt cx="3696480" cy="6102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271120" y="5177160"/>
                  <a:ext cx="357516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cc"/>
                      </a:solidFill>
                      <a:latin typeface="Times New Roman"/>
                      <a:ea typeface="Times New Roman"/>
                    </a:rPr>
                    <a:t>execu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210640" y="5177160"/>
                  <a:ext cx="3696480" cy="61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152280" y="1447920"/>
              <a:ext cx="8762760" cy="4343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240" y="6567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AB1-221C-47AF-B48C-8D01B13098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dentificadore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dentificadores são cadeias de caracteres definidas pelos programadores para servirem de referênci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ntidades de  comput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bjetivam aumentar a legibilidade, redigibilidade e modifica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Ps podem ser </a:t>
            </a:r>
            <a:r>
              <a:rPr b="0" i="1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se sensitiv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limitar o número máximo de caractere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uns identificadores podem ter significado especial para a LP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lavras reservadas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alavra Chave </a:t>
            </a:r>
            <a:r>
              <a:rPr b="0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alavras Pré-definida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RTRAN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GER REA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L INTEGER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C47-AD31-4ECE-96F7-C657B2FE18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bientes de Amarração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 interpretação de comandos e expressões, tais como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5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ou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(a + 1)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, dependem do que denotam os identificadores utilizados nesses comandos e expressõe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m ambiente (ou </a:t>
            </a:r>
            <a:r>
              <a:rPr b="0" i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vironment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) é um conjunto de amarraçõe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da amarração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ssui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um determinado escopo, isto é, a região do programa onde a entidade é visível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1C4-377E-4919-860E-A447EE5926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bientes de Amarraçã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marração de Identificador a Duas Entidades Distintas no Mesmo Ambiente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 = 1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b =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a =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= b + a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384-F6E2-4564-BF1D-CE74227716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tático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finição do subprogram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mpo de compil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xto do program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Dinâmico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hamada do subprogram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empo de execuçã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uxo de controle do programa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B95-A320-4BBF-8ACC-44BAC7B191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 Estátic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209680"/>
            <a:ext cx="7772040" cy="3311280"/>
            <a:chOff x="762120" y="2209680"/>
            <a:chExt cx="7772040" cy="3311280"/>
          </a:xfrm>
        </p:grpSpPr>
        <p:sp>
          <p:nvSpPr>
            <p:cNvPr id="170" name=""/>
            <p:cNvSpPr/>
            <p:nvPr/>
          </p:nvSpPr>
          <p:spPr>
            <a:xfrm>
              <a:off x="762120" y="2209680"/>
              <a:ext cx="2201760" cy="2763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76800" y="2209680"/>
              <a:ext cx="2201760" cy="2763720"/>
              <a:chOff x="3376800" y="2209680"/>
              <a:chExt cx="2201760" cy="2763720"/>
            </a:xfrm>
          </p:grpSpPr>
          <p:sp>
            <p:nvSpPr>
              <p:cNvPr id="172" name=""/>
              <p:cNvSpPr/>
              <p:nvPr/>
            </p:nvSpPr>
            <p:spPr>
              <a:xfrm>
                <a:off x="3376800" y="2209680"/>
                <a:ext cx="2201760" cy="2763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51840" y="2670120"/>
                <a:ext cx="1651320" cy="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33cc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51840" y="3438000"/>
                <a:ext cx="1651320" cy="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33cc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51840" y="4205520"/>
                <a:ext cx="1651320" cy="4604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33cc"/>
                    </a:solidFill>
                    <a:latin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6129000" y="2209680"/>
              <a:ext cx="2201760" cy="2763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01520" y="2670120"/>
              <a:ext cx="1651320" cy="921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01520" y="3745080"/>
              <a:ext cx="1651320" cy="921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14440" y="2949480"/>
              <a:ext cx="1103760" cy="46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4440" y="4101120"/>
              <a:ext cx="1103760" cy="46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440" y="5060520"/>
              <a:ext cx="2408040" cy="46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Bloco Monolí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01840" y="5060520"/>
              <a:ext cx="2924280" cy="46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Blocos Não Aninh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5060520"/>
              <a:ext cx="2408040" cy="46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Blocos Aninhad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8AB-25D0-4B71-A06C-35BD343737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copo Estático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cultamento de Entidade em Blocos Aninhados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i = 0,  x = 10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i++ &lt; 100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at x = 3.23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tf(“x = %f\n“, x*i);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FAA-4893-4505-AC34-5634CCC1DC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8-28T15:29:55Z</dcterms:modified>
  <cp:revision>212</cp:revision>
  <dc:subject/>
  <dc:title>Curso de Qualidade 2004 - SBC</dc:title>
</cp:coreProperties>
</file>