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2316-6B48-42A2-8346-23F6F306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5A23-1461-42BD-BB6D-018227CD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5FE9-212C-4E7F-8CBD-0320F245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E3BB-A9C6-4DD1-801D-1FFA0E5E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CDDA-3B18-45C3-81CA-B0448BCA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9085-5C02-41BF-8A6F-7B633BD9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C75D-C7AB-4DBD-A011-3A8CCAC9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2918-7410-4F5E-9C1E-465305F4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78B9-65C7-4FB2-A7FD-C377D9D5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8C3E-11F3-43F4-93A5-B3575848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2FAF-B0D9-4A97-9C1E-94A154E7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3747-2BC7-40C4-9DA2-019EAC7A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1633-A33F-49DD-8302-C059AE82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109F-F1C5-4201-B5AB-C65F4EA4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BE3C-9B68-497E-93C7-5F88BDC3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3A67-5C5B-4054-9310-851C44DE6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4FF1-31BE-4BB1-863D-74F7F17D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CAED-C5DE-448B-8E06-27680828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F603-E1CA-4D5B-B5FA-9F86B8F5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5AE4-2805-407B-9FC8-122790D5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8E6D-84D9-4899-829E-4630D6CB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39B1-3100-465C-AA60-252C7FB3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4B7E-65CE-41D5-BE4A-EA332189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2B69-DDE6-4457-A760-AFADFF1F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095880"/>
            <a:ext cx="2286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Comic Sans MS"/>
              </a:rPr>
              <a:t>Concorrê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800" y="62294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Comic Sans MS"/>
              </a:rPr>
              <a:t>Linguagens de Program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13EB-F2B8-49B1-88BE-7138C967281F}" type="slidenum">
              <a:rPr b="0" lang="en-US" sz="1400" spc="-1" strike="noStrike">
                <a:solidFill>
                  <a:srgbClr val="0033c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1314360"/>
            <a:ext cx="8839080" cy="41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79A1-ACDD-4A0F-B888-B135BDA4D3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839080" cy="412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Comic Sans MS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Linguagens de Programação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onceitos e Técnica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Concorrência</a:t>
            </a: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cc"/>
                </a:solidFill>
                <a:latin typeface="Comic Sans MS"/>
              </a:rPr>
              <a:t>Prof.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cessos Concorrent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628640"/>
          <a:ext cx="2340000" cy="2354040"/>
        </p:xfrm>
        <a:graphic>
          <a:graphicData uri="http://schemas.openxmlformats.org/drawingml/2006/table">
            <a:tbl>
              <a:tblPr/>
              <a:tblGrid>
                <a:gridCol w="1170000"/>
                <a:gridCol w="1170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cc"/>
                          </a:solidFill>
                          <a:latin typeface="Comic Sans MS"/>
                          <a:ea typeface="Times New Roman"/>
                        </a:rPr>
                        <a:t>Processo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cc"/>
                          </a:solidFill>
                          <a:latin typeface="Comic Sans MS"/>
                          <a:ea typeface="Times New Roman"/>
                        </a:rPr>
                        <a:t>Processo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ov ax, [i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ul ax,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ov [i], 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ov ax, [i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ub ax, 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ov [i], 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2596680" y="198072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 final 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50920" y="4005360"/>
          <a:ext cx="2340000" cy="2344680"/>
        </p:xfrm>
        <a:graphic>
          <a:graphicData uri="http://schemas.openxmlformats.org/drawingml/2006/table">
            <a:tbl>
              <a:tblPr/>
              <a:tblGrid>
                <a:gridCol w="1170000"/>
                <a:gridCol w="1170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cc"/>
                          </a:solidFill>
                          <a:latin typeface="Comic Sans MS"/>
                          <a:ea typeface="Times New Roman"/>
                        </a:rPr>
                        <a:t>Processo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cc"/>
                          </a:solidFill>
                          <a:latin typeface="Comic Sans MS"/>
                          <a:ea typeface="Times New Roman"/>
                        </a:rPr>
                        <a:t>Processo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ov ax, [i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ub ax, 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ov [i], 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ov ax, [i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ul ax,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ov [i], 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2595960" y="434304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Valor final de </a:t>
            </a:r>
            <a:r>
              <a:rPr b="0" i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43280" y="1700280"/>
          <a:ext cx="2340000" cy="2344680"/>
        </p:xfrm>
        <a:graphic>
          <a:graphicData uri="http://schemas.openxmlformats.org/drawingml/2006/table">
            <a:tbl>
              <a:tblPr/>
              <a:tblGrid>
                <a:gridCol w="1170000"/>
                <a:gridCol w="1170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cc"/>
                          </a:solidFill>
                          <a:latin typeface="Comic Sans MS"/>
                          <a:ea typeface="Times New Roman"/>
                        </a:rPr>
                        <a:t>Processo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cc"/>
                          </a:solidFill>
                          <a:latin typeface="Comic Sans MS"/>
                          <a:ea typeface="Times New Roman"/>
                        </a:rPr>
                        <a:t>Processo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ov ax, [i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ov ax, [i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ub ax, 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ov [i], 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ul ax,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ov [i], 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7025400" y="2044440"/>
            <a:ext cx="201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Valor final 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43280" y="4076640"/>
          <a:ext cx="2340000" cy="2344680"/>
        </p:xfrm>
        <a:graphic>
          <a:graphicData uri="http://schemas.openxmlformats.org/drawingml/2006/table">
            <a:tbl>
              <a:tblPr/>
              <a:tblGrid>
                <a:gridCol w="1170000"/>
                <a:gridCol w="1170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cc"/>
                          </a:solidFill>
                          <a:latin typeface="Comic Sans MS"/>
                          <a:ea typeface="Times New Roman"/>
                        </a:rPr>
                        <a:t>Processo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cc"/>
                          </a:solidFill>
                          <a:latin typeface="Comic Sans MS"/>
                          <a:ea typeface="Times New Roman"/>
                        </a:rPr>
                        <a:t>Processo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ov ax, [i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ov ax, [i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ul ax,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ov [i], 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ub ax, 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ov [i], 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7098480" y="4420800"/>
            <a:ext cx="192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Valor final 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8C1F-FFFA-462F-AEBB-1DD01BE386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de Interaçã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em Interferência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rocessos independentes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que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 apenas concorrem com outros processos pela utilização de um mesmo recurs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incronização para utilização dos recursos é feita pelo sistema operacional, não provocando qualquer dificuldade para os programadore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6057-105F-493D-BF27-7FEBBF1DC0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de Interaçã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75438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Cooperaçã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rocesso afeta ou é afetado pela execução de outro processo em prol da realização de uma atividad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Para que ocorra a cooperação entre processos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é necessário que exista uma forma de comunicação entre ele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roca de mensagens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C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ompartilhamento de memória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BC46-E2E5-4052-ACEE-40F14573D9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roca de Mensagen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Duas chamadas de sistema básica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send (envio)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receive (recepção)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D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ois tipos de comunicação por troca de mensagen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D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ireta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I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ndireta.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A comunicação de processos através de troca de mensagen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B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loqueante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ão-bloqueante.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Rendezvous (encontro)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A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 comunicação só ocorre quando o remetente e o destinatário se encontram.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1657-96CB-4CAB-90E1-2E28ABD4FF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partilhamento de Memóri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Necessidade de proteção de acesso a dados compartilhados para evitar inconsistência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o 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problema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do 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Produtor e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do C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onsumidor há um processo que produz algo e um processo que utiliza o que foi produzid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9E1C-4AEF-4DD0-A009-04AFB08DC0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dutor e Consumidor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inicializacao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m = 0;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i = 0;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= 0;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codigo do produtor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(i=0; i&lt;1000; i++) {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ile (n == capacidade);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uf[fim] = produzir(i);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m = (fim + 1) % capacidade;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++;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codigo do consumidor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(i=0; i&lt;1000; i++) {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ile (n == 0) ;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umir(buf[ini]);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i = (ini + 1) % capacidade;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--;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Essa solução torna o início da execução do consumidor dependente do término da execução do produtor. A utilização de processos concorrentes para resolver esse problema é mais apropriada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Para evitar o problema de indeterminismo deve haver algum tipo de sincronização entre os processos de modo a garantir acesso exclusivo a sua região crítica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A240-68CF-4E4F-BD26-6B89B9C483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emáfor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Um semáforo é um tipo abstrato de dados que possui um valor inteiro, uma lista de processos em espera e duas operaçõe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P (do holandês Proberen, testar)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V (do holandês Verhogen, incrementar)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A implementação do semáforo deve ser atômica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B26A-0512-49AE-9975-AB28A3D259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emáfor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Para garantir exclusão mútua a uma determinada região (região crítica), cada processo deve chamar a operação P antes de acessar tal região e chamar a operação V após sair dessa regiã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peração P sobre um semáforo 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esta se o processo que executou P(S) pode ou não entrar na região crítica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peração V sobre um semáforo 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S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inaliza ao semáforo que o processo não está mais na região crítica e retira outro processo da fila de espera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B753-D1A5-4729-BA35-0D4E4C7AE0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emáfor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8915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(S)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.valor -= 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e (S.valor &lt; 0)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// bloqueia o processo e insere em S.fila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(S)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.valor += 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e (S.valor &lt;= 0)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// retira algum processo de S.fila e o coloca em execucao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82F9-21BC-46DA-AADC-5CEE3C4965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dutor e Consumidor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 Semáfor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2514600"/>
            <a:ext cx="2590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inicializacao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m = 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i = 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= 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maforo S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.valor = 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2209680"/>
            <a:ext cx="48769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codigo do produ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(i=0; i&lt;1000; i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ile (n == capacidade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uf[fim] = produzir(i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m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fim + 1) % capacida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(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(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286000"/>
            <a:ext cx="44197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codigo do 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(i=0; i&lt;1000; i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ile (n == 0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umir(buf[ini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i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ini + 1) % capacida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(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--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(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53F0-6E39-41EC-BA9D-0E269E572B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ceituaçã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corrência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80820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Arial"/>
              </a:rPr>
              <a:t>T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Arial"/>
              </a:rPr>
              <a:t>ermo usado em computação para designar situações nas quais diferentes processos competem pela utilização de algum recurso (processador, dispositivos periféricos, etc.) ou cooperam para a realização de uma mesma tarefa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6725-C98A-498D-8758-162407F376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gramação Concorrente Estruturada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Mecanismos deixam para o compilador a responsabilidade de garantir o acesso exclusivo à região crítica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Regiões críticas condicionai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Monitor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B0EF-A8DC-4EF8-B23F-C1419FAB8A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onitor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676520"/>
            <a:ext cx="7848720" cy="35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Mecanismos de sincronização compostos por um conjunto de variáveis, procedimentos e estruturas de dados dentro de um módu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F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inalidade é a implementação automática da sincronização, garantindo exclusão mútua entre seus procedi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56D2-A405-477D-BB21-5C2900F112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onitor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nitor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&lt;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ome-do-monitor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&gt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declarações de variáve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1(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...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...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2(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...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No exemplo é mostrada a definição de dois procedimentos p1 e p2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Eles possuem acesso exclusivo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866C-4AEA-4824-A541-70D6DD19E6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usência de Mecanismos em LPs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2915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Algumas LPs, tal como C, não oferecem mecanismos próprios para lidar com concorrência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É p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ossível criar e manipular processos e threads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e lidar com problemas 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de concorrência através de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hamadas de sistema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B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ibliotecas de funçõe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E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specíficas da plataforma de execução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3C10-F622-4D83-A181-8D656F4A13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hamadas fork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581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#include &lt;stdio.h&gt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#include &lt;stdlib.h&gt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#include &lt;errno.h&gt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#include &lt;unistd.h&gt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#include &lt;sys/types.h&gt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#include &lt;sys/wait.h&gt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imprime(char *arg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i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(i=0; i&lt;1000000; i++)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(arg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it(0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C6CE-113E-475E-A0C2-39678728110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hamadas fork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182880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pi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estado_filh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id = fork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pid &lt; 0) { // er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ror("Erro de criação do primeiro filho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pid == 0) { // fil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mprime("-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38CD-1299-44FA-A0B7-ABCAF96A96E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hamadas fork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id = fork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pid &lt; 0) {// erro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ror("Erro de criação do segundo filho.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else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pid == 0) { // filho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mprime(".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it(&amp;estado_filho);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aguarda o término de um filho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it(&amp;estado_filho);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aguarda o término do outro filho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156E-3340-43C9-8CC0-C6F88602152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SIX Thread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O POSIX threads é um padrão adotado para manipular threads em C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A API padrão do pthreads conta com aproximadamente 60 funçõe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E540-16EA-4A18-8EB1-B27DA712756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threads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#include &lt;stdio.h&gt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#include &lt;string.h&gt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#include &lt;pthread.h&gt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*imprime(void *arg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i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(i=0; i&lt;1000000; i++)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((char *)arg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thread_exit(0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Courier New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main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thread_t tid1, tid2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thread_attr_t attr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1600200"/>
            <a:ext cx="48765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ar msg1[3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ar msg2[3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rcpy(msg1, "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rcpy(msg2, "-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thread_attr_init(&amp;att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thread_create (&amp;tid1, &amp;att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mprime, msg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thread_create(&amp;tid2, &amp;att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mprime, msg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thread_join(tid1, NUL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thread_join(tid2, NULL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A216-DD5D-4172-ABEB-65FFE445528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dutor e Consumidor com Pthreads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#include&lt;stdio.h&gt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#include&lt;pthread.h&gt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#include &lt;stdlib.h&gt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#define CAPACIDADE 10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ypedef struct BufferLim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buf[CAPACIDADE]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fim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ini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n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thread_mutex_t mut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thread_cond_t vazio, cheio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BufferLimitado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2EAA-1DCF-4234-8C85-478479167B2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</a:rPr>
              <a:t>Process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Programas de computador são seqüências de instruções passíveis de serem executadas por um processador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Quando estes programas estão sendo executados, eles são chamados de processo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Diferentemente dos programas, os processos são entidades ativas cujo estado é alterado durante a sua execução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B8A8-EFEA-412C-B2CF-28C3DFF444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dutor e Consumidor com Pthreads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105520" y="190476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l-&gt;fim = (bl-&gt;fim + 1) %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PACIDADE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l-&gt;n++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thread_mutex_unlock(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amp;bl-&gt;mut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thread_cond_signal(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amp;bl-&gt;vazio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thread_exit(0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1676520"/>
            <a:ext cx="51814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*produtor(void *arg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ufferLimitado *bl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BufferLimitado *) ar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(i=0; i&lt;1000; i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thread_mutex_lock(&amp;bl-&gt;mu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ile (bl-&gt;n == CAPACIDA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thread_cond_wait(&amp;bl-&gt;chei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amp;bl-&gt;mu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l-&gt;buf[bl-&gt;fim] = 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("produzido: %d\n"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l-&gt;buf[bl-&gt;fim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16A3-5764-46EF-82CB-81DD80CE8F6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dutor e Consumidor com Pthreads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105520" y="190476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l-&gt;ini = (bl-&gt;ini + 1) %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PACIDADE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l-&gt;n--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thread_mutex_unlock(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amp;bl-&gt;mut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thread_cond_signal(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amp;bl-&gt;cheio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thread_exit(0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1676520"/>
            <a:ext cx="51814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*consumidor(void *arg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ufferLimitado *bl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BufferLimitado *)ar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(i=0; i&lt;1000; i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thread_mutex_lock(&amp;bl-&gt;mu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ile (bl-&gt;n =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thread_cond_wait(&amp;bl-&gt;vazi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amp;bl-&gt;mu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("consumido: %d\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l-&gt;buf[bl-&gt;ini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CE33-D0AF-4113-B4BF-9D25B08278C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dutor e Consumidor com Pthreads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1676520"/>
            <a:ext cx="6934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ufferLimitado b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thread_t tid1, tid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l.fim = bl.ini = bl.n = 0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thread_mutex_init(&amp;bl.mut, NUL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thread_cond_init(&amp;bl.cheio, NUL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thread_cond_init(&amp;bl.vazio, NUL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thread_create(&amp;tid1, NULL, produtor, &amp;b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thread_create(&amp;tid2, NULL, consumidor, &amp;b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thread_join(tid1, NUL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thread_join(tid2, NUL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62A4-939B-4FDD-A61D-1793FE95CED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lasses Thread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Dois modos de se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</a:rPr>
              <a:t> criar threads em Java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H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erdando da classe Thread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I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mplementando a interface Runnable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8747-580E-4673-B31B-6F722B888E2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Herdando da Classe Thread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ass Carro extends Thread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ublic Carro(String nome) {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uper(nome); 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ublic void run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or (int i=0; i&lt;10;i++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y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leep((int)(Math.random()*1000)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tch (Exception e) {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ystem.out.print(getName()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or (int j=0; j&lt;i; j++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ystem.out.print("--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ystem.out.println("&gt;")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ystem.out.println(getName() + " completou a prova.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C4A8-358E-496A-991D-4FD9C706F1F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Herdando da Classe Thread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ublic class Corrida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ublic static void main(String args[]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rro carroA = new Carro("Barrichelo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rro carroB = new Carro("Schumacher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rroA.start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rroB.start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y {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rroA.join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} catch (Exception e) {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y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rroB.join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} catch (Exception e) {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25FA-5D26-4511-B3C2-D684F9541B2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038480" y="457200"/>
            <a:ext cx="5105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ssível Result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373392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14400"/>
            <a:ext cx="81788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rrichelo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umach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umacher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rrichelo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umacher--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rrichelo--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umacher----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rrichelo----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rrichelo------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umacher------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rrichelo--------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umacher--------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rrichelo----------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umacher----------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rrichelo------------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chumacher------------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Barrichelo--------------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Barrichelo----------------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Barrichelo completou a pro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umacher--------------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umacher----------------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umacher completou a pro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E84D-58A4-44F6-8C7C-5BB68AA00DB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mplementando Runnable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Carro2 implements Runnable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ivate String nome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blic Carro2(String nome) {this.nome = nome;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blic void run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(int i=0; i&lt;10;i++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y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read.sleep((int)(Math.random()*1000)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tch (Exception e) {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.out.print(nome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(int j=0; j&lt;i; j++)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.out.print("--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.out.println("&gt;")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ystem.out.println(nome + " completou a prova.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B3FE-5734-451F-9194-CA3B6DC1004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mplementando Runnable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blic class Corrida2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blic static void main(String args[]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rro2 carroA = new Carro2("Barrichelo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rro2 carroB = new Carro2("Schumacher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read threadA = new Thread(carroA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read threadB = new Thread(carroB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readA.start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readB.start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y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readA.join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 catch (Exception e) {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y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readB.join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 catch (Exception e) {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0F79-A63E-41B4-B863-3860B349063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étodos Sincronizad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Todo objeto em JAVA possui um bloco de operações únic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Quando métodos de um objeto em JAVA são declarados como synchronized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JVM (Java Virtual Machine) faz com que threads chamem esses métodos em exclusão mútu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361C-77E3-442A-8AC3-1185D8330F1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tad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Durante a execução de um processo, o seu estado é modificad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O estado de um processo é definido pela atividade que está realizand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Possíveis estados de um process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Nov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xecutável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m execuçã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m espera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Encerrad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AFB1-9090-4A4C-973D-32D5E9AC64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étodos Sincronizad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476360" y="1700280"/>
          <a:ext cx="6913440" cy="44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00280"/>
                    <a:ext cx="691344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20B6-62AF-49BD-A875-E63944ED256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dutor e Consumidor com 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étodos Sincronizad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1676520"/>
            <a:ext cx="5715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BufferLimitad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vate int capacidade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vate int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vate int buffer[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vate int fi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vate int in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BufferLimitado(int capacidad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s.capacidade = capacida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m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i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uffer = new int[capacidad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7291-5EB0-4572-90D4-FE12481CE08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dutor e Consumidor com 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étodos Sincronizad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synchronized void inserir(int elemento) throws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InterruptedException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ile ( n == capacidade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it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uffer[fim] = elemento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m = (fim + 1) % capacidade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= n + 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tify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E711-A265-43D5-90B2-D42E7981F07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dutor e Consumidor com 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étodos Sincronizad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synchronized int retirar() throws InterruptedException {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ile ( n == 0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it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elem = buffer[ini]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i = (ini + 1) % capacidade; 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= n – 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tify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elem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A952-F79C-4634-A6C1-A4DF111AE04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dutor e Consumidor com 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étodos Sincronizad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1981080"/>
            <a:ext cx="59436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Produtor extends Thread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vate BufferLimitado buff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Produtor(BufferLimitado buffer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s.buffer = buff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50CB-15D5-420D-825B-F6830253484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dutor e Consumidor com 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étodos Sincronizad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void run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elem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ile (true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m = (int)(Math.random() * 10000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y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uffer.inserir(elem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("produzido: " + elem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read.sleep((int)(Math.random() * 1000)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catch (InterruptedException e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(Erro Produtor: " + e.getMessage()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58B2-2699-40C5-9151-F77BEB7FC11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dutor e Consumidor com 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étodos Sincronizad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71629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Consumidor extends Thread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vate BufferLimitado buffer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Consumidor(BufferLimitado buffer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s.buffer = buffer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3F7E-8890-4BDE-9161-C7906197D72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dutor e Consumidor com 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étodos Sincronizad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void run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elem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ile (true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y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m = buffer.retirar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("consumido: " + elem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read.sleep((int)(Math.random() * 1000)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catch (InterruptedException e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(“Erro Consumidor: " + e.getMessage()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4883-9F7F-4C7F-AA59-885C2AF1259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dutor e Consumidor com 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étodos Sincronizad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class Fabrica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static void main(String args[]) throws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ruptedException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ufferLimitado buffer = new BufferLimitado(10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dutor produtor = new Produtor(buffer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umidor consumidor = new Consumidor(buffer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dutor.start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umidor.start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dutor.join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umidor.join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75F6-A448-49FF-B9BF-0FD25197D6E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ódulos Concorrent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A execução de programas na linguagem de programação ADA consiste na execução de uma ou mais tarefas (tasks)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ADA disponibiliza dois mecanismos de comunicação entre tarefa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assagem de mensagens (rendevouz)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bjetos protegido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4AAB-CAC9-4687-AE6D-7CC5F650441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ransição de Estad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04920" y="2057400"/>
          <a:ext cx="858816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858816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361A-D70C-403D-B1CC-2BBEEFDC84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ssagem de Mensagens (Rendezvous)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F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eita quando uma tarefa chama uma entrada de outra taref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corre quando os dois lados, cliente e servidor, se encontram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Uma tarefa possui uma especificação e um corp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Na especificação podem-se declarar entry points (pontos de entrada)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No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 corpo é feita a implementação do restante da descrição da tarefa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Os pontos de entrada são mutuamente exclusivo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F1B8-3123-4402-A9F8-63E4FF7C851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ssagem de Mensagens (Rendezvous)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82880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sk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&lt;nome-da-task&gt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try 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&lt;nome-da-entrad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&lt;nome-da-task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sk body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&lt;nome-da-task&gt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cept 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&lt;nome-da-entrad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&lt;comando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&lt;nome-da-entrad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&lt;nome-da-task&gt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2A55-8316-4B16-81F1-7C5218E7EBB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5228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ssagem de Mensagens (Rendezvou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th Text_IO; use Text_I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dure teste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type Carro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try iniciar(id: integ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try andar_para_fren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try andar_para_tr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 Carr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body Carro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sicao: integ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eu_id: integ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cept iniciar(id: integer)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sicao :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eu_id := i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d inicia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ut_Line("O carro " &amp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ger'Image(meu_id)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" esta na posicao " &amp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ger'Image(posicao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0806-74AC-4EA3-ABF4-2F6F66A99E0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5228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ssagem de Mensagens (Rendezvou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1676520"/>
            <a:ext cx="8077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l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ccept andar_para_frente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sicao := posicao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d andar_para_fren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ccept andar_para_tras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sicao := posicao -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d andar_para_tr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d sele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ut_Line("O carro " &amp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ger'Image(meu_id) &amp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" esta na posicao " &amp;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ger'Image(posicao)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d Carr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rro1, carro2 : Carr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rro1.iniciar(1); carro2.iniciar(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rro1.andar_para_fren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rro2.andar_para_tr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d tes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A9C0-07BE-4EF1-9ED8-AE2D00D5ADB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5228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ssagem de Mensagens (Rendezvou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1905120"/>
            <a:ext cx="8001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Possível resul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O carro 1 esta na posicao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O carro 1 esta na posicao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O carro 2 esta na posicao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O carro 2 esta na posicao –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0F1B-76AD-48E2-96BD-5D3F231DB0E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bjetos Protegid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Operações protegidas podem ser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rocedimentos (procedures)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F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unções (functions)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ntradas (entries)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Chamadas a procedimentos e entradas protegidos são executadas em exclusão mútua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As funções podem ser executadas em paralelo, mas não quando um procedimento ou entrada protegidos estão sendo executado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0F14-3099-4C75-BCB8-66DAE38246B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quema de uma Unidade 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tegida Simpl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3911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75000"/>
              </a:lnSpc>
              <a:spcBef>
                <a:spcPts val="10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5000"/>
              </a:lnSpc>
              <a:spcBef>
                <a:spcPts val="10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tected type 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&lt;nome-da-unidade&gt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unction 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&lt;nome-da-função&gt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eturn 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&lt;tipo-retorno&gt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cedure 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&lt;nome-do-procedimento&gt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try 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&lt;nome-da-entrada&gt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&lt;declaração de variáveis&gt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d 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&lt;nome-da-unidade&gt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ADA3-453C-4575-9EE8-0A575ED589A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quema de uma Unidade 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tegida Simpl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238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tected body 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&lt;nome-da-unidade&gt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try 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&lt;nome-da-entrada&gt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when 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&lt;condição&gt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&lt;comandos&gt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d 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&lt;nome-da-entrada&gt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cedure 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&lt;nome-do-procedimento&gt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&lt;comandos&gt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d 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&lt;nome-do-procedimento&gt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unction 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&lt;nome-da-função&gt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eturn 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&lt;tipo-retorno&gt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&lt;comandos&gt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turn 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&lt;valor&gt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d 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&lt;nome-da-função&gt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d 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&lt;nome-da-unidade&gt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D20D-5AEA-428F-B577-D9522529A87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mplementação de um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bjeto Protegid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cted type Objeto_Sinal i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try Espera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ure Sinal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unction Esta_Aberto return boolean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vate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berto: boolean := false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Objeto_Sinal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6B55-0ECE-4BB6-AB96-3FB3FA3B391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mplementação de um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bjeto Protegid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cted body Objeto_Sinal i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try Espera when aberto i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gin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berto := false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Espera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ure Sinal i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gin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berto := true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Sinal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unction Esta_Aberto return boolean i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gin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aberto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Esta_Aberto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Objeto_Sinal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4585-E6C0-42C9-BCDB-8983FE0E584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hread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178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Threads são fluxos de execução concorrentes que compartilham recursos do processo do qual são originário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A concorrência intraprocessos  agrava a concorrência interprocesso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AAB7-A9FC-4B04-AC99-498B702794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dutor e Consumidor com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bjetos Protegid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ckage Fabrica i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ype Buffers is array(positive range &lt;&gt;) of integer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cted type BufferLimitado(capacid : natural) i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try Retirar(elem : out Integer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try Inserir(elem : in Integer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vate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uf: Buffers(1..capacid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: natural := 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i, fim: positive := 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pacidade: natural := capacid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BufferLimitado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ype ABuffer is access bufferLimitado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sk type Produtor i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try Iniciar(buf : in ABuffer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Produtor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0" algn="just">
              <a:lnSpc>
                <a:spcPct val="7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852A-3AD8-499C-ACDA-B786E1989F9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dutor e Consumidor com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bjetos Protegid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sk type Consumidor i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try Iniciar(buf : in ABuffer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Consumidor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Fabrica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ith Ada.Text_Io; use Ada.Text_Io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ckage body Fabrica i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cted body BufferLimitado i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try Retirar(elem : out integer) when n &gt; 0 i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gin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m := buf(ini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ini = capacidade) then ini := 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se ini := ini + 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if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:= n - 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Retirar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E72F-3156-40D1-80BB-884A8DF6F45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dutor e Consumidor com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bjetos Protegid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7696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try Inserir(elem : in integer) when n &lt; capacidade i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gin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uf(fim) := elem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fim = capacidade) then fim := 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se fim := fim + 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if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:= n + 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Inserir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BufferLimitado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A4DB-7814-47E9-B6B9-3D9168211EED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dutor e Consumidor com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bjetos Protegid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7696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sk body Produtor i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580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m: integer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580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buf: ABuffer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580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: integer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580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gin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580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cept Iniciar(buf : in ABuffer) do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580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buf := buf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580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580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i in 0..1000 loop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580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m := i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580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buf.inserir(elem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580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t_Line("Produzido: " &amp; Integer'Image(elem)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580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loop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580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Produtor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2AA7-2FBD-4B84-82AF-60E487CCD61A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dutor e Consumidor com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bjetos Protegid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7696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sk body Consumidor i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m: integer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buf: ABuffer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: natural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gin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cept Iniciar(buf : in aBuffer) do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buf := buf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i in 0..1000 loop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buf.retirar(elem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t_Line("Consumido: " &amp; Integer'Image(elem)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loop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Consumidor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Fabrica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DB6F-636E-4E86-8FF6-1147CDBA81F9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dutor e Consumidor com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bjetos Protegid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ith Fabrica; use Fabrica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ith Ada.Text_Io; use Ada.Text_Io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ure Teste i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d: Produtor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: Consumidor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uf: ABuffer := new BufferLimitado(10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gin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d.Iniciar(buf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.Iniciar(buf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Teste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A309-4F2E-4892-90E0-30D9AE0C2D46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antagens de Thread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ão mais leve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ompartilham memória com o processo que o criou e com os demais thread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ossibilitam a utilização de mais de um método ou função de uma mesma aplicação, simultaneament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200400" y="3886200"/>
          <a:ext cx="2519280" cy="23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3886200"/>
                    <a:ext cx="2519280" cy="23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6481-8B69-4B16-BC91-634B2C303D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cessos Concorrent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Comic Sans MS"/>
              </a:rPr>
              <a:t>Os programas concorrentes são não-determinísticos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Comic Sans MS"/>
              </a:rPr>
              <a:t>Isso acarreta alguns problemas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L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ockout</a:t>
            </a:r>
            <a:r>
              <a:rPr b="0" i="1" lang="pt-BR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(trancamento)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D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eadlock (impasse)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tarvation (inanição)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ndeterminism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2F23-6768-44C4-9BD4-009B753650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cessos Concorrent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Indeterminism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 exemplo leva em conta que o conteúdo do endereço de memória i ([i]) é 100, e i é uma variável compartilhada.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sso 1: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; Processo 2: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v ax, [i]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v ax, [i]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ul ax, 2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b ax, 5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v [i], ax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v [i], ax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21E7-356C-450E-BAB2-8018FAED0F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2T23:32:25Z</dcterms:created>
  <dc:creator>adriana</dc:creator>
  <dc:description/>
  <dc:language>en-US</dc:language>
  <cp:lastModifiedBy>Flávio Miguel Varejão</cp:lastModifiedBy>
  <dcterms:modified xsi:type="dcterms:W3CDTF">2004-09-20T10:31:07Z</dcterms:modified>
  <cp:revision>432</cp:revision>
  <dc:subject/>
  <dc:title>Curso de Qualidade 2004 - SBC</dc:title>
</cp:coreProperties>
</file>