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1B3-827D-4ABA-AC87-88C9442E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9B9-4780-40F4-8C12-DC7C6AA7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668-2F1B-4232-BEE6-F732ABAD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60C-E5A4-4D4D-86A0-35FCE81A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306F-E42E-41B1-BEC5-3DE77B29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FB1C-E4AD-4700-931B-CC2C9414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338B-D679-477C-B10B-B1AEA16F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26BC-64FE-46FF-9850-A406F2CC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87B4-1C88-41D3-8E1C-7720D636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89E5-EEB8-4681-BDAE-231F0995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73E8-3D64-41B2-86C9-3E9ACB3F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A73-CFDC-4DC7-95BA-6641F8BD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7CCC-1C62-43E6-88E2-9F24A71A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96D5-D869-47CE-A560-8AE7CE69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609F-F377-4FAE-A1FE-760EC3C4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BF5A-4B6A-4C00-9BD4-9B569CDD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4944-E346-45A1-908F-8AB95608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88B-F599-4836-85E9-1DD61158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B40-9D65-45A4-8F53-0477C643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79A-28E0-4846-A4D7-112A01CE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8DD-6D6F-4E20-871D-AD788AD1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69E-A6FE-4771-A509-CAC05FED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98C-F7DD-4295-B6C8-7B24A1F4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FA5-2A43-4054-801D-70B48C35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958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Poli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2294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E0E9-3DCD-4337-ABB2-7737DD98E8E1}" type="slidenum"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4B7D-DB88-4D3B-A9B9-FAFEFFE6AB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onceitos e Técnic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Polimorfismo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cc"/>
                </a:solidFill>
                <a:latin typeface="Comic Sans MS"/>
              </a:rPr>
              <a:t>Prof.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de Tipo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ve ser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eita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ariamente antes da execução das operaçõ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geral, o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quanto ante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lhor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ros de tipos são identificados mais ced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sempre isso é possível ou desejável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gumas LPs possuem brechas no seu sistema de tipos que impedem a realização de algum tipo de verifica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gistro variante em PASCAL e MODULA-2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D69-A77A-4093-B4D7-7BD8F74855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 Múltipl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Ps com herança múltipl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solvem problema de subtipagem múltipl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precisam de métodos envoltóri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flito de Nom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 Repetid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C++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Alun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not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imprim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19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8E8-AECA-415B-9603-8221C4A41E0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flito de Nom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Professor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salari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imprim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ProfessorAluno: public Professor, public Aluno { 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fessorAluno indecis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indeciso.imprim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327-9904-45BF-9645-F475FF8A756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flito de Nom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scrição resolv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ProfessorAluno: public Professor, public Alun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imprim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ProfessorAluno::imprime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uno::imprim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fessorAluno indecis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ciso.imprim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DEC-C4E1-4061-A4F7-9B173117268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Repeti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438280" y="1828800"/>
            <a:ext cx="4422600" cy="4232160"/>
            <a:chOff x="2438280" y="1828800"/>
            <a:chExt cx="4422600" cy="4232160"/>
          </a:xfrm>
        </p:grpSpPr>
        <p:sp>
          <p:nvSpPr>
            <p:cNvPr id="354" name=""/>
            <p:cNvSpPr/>
            <p:nvPr/>
          </p:nvSpPr>
          <p:spPr>
            <a:xfrm>
              <a:off x="3722400" y="1828800"/>
              <a:ext cx="171144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Academ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579120" y="2259720"/>
              <a:ext cx="71352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5148720" y="2259720"/>
              <a:ext cx="85500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2438280" y="2765880"/>
              <a:ext cx="1711440" cy="886320"/>
              <a:chOff x="2438280" y="2765880"/>
              <a:chExt cx="1711440" cy="886320"/>
            </a:xfrm>
          </p:grpSpPr>
          <p:sp>
            <p:nvSpPr>
              <p:cNvPr id="358" name=""/>
              <p:cNvSpPr/>
              <p:nvPr/>
            </p:nvSpPr>
            <p:spPr>
              <a:xfrm>
                <a:off x="2438280" y="2765880"/>
                <a:ext cx="1711440" cy="88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33cc"/>
                    </a:solidFill>
                    <a:latin typeface="Times New Roman"/>
                  </a:rPr>
                  <a:t>Profess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80840" y="3145680"/>
                <a:ext cx="1425960" cy="37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33cc"/>
                    </a:solidFill>
                    <a:latin typeface="Times New Roman"/>
                  </a:rPr>
                  <a:t>Academic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149080" y="2765880"/>
              <a:ext cx="1711800" cy="887400"/>
              <a:chOff x="5149080" y="2765880"/>
              <a:chExt cx="1711800" cy="887400"/>
            </a:xfrm>
          </p:grpSpPr>
          <p:sp>
            <p:nvSpPr>
              <p:cNvPr id="361" name=""/>
              <p:cNvSpPr/>
              <p:nvPr/>
            </p:nvSpPr>
            <p:spPr>
              <a:xfrm>
                <a:off x="5149080" y="2765880"/>
                <a:ext cx="1711800" cy="88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33cc"/>
                    </a:solidFill>
                    <a:latin typeface="Times New Roman"/>
                  </a:rPr>
                  <a:t>Alu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91640" y="3146040"/>
                <a:ext cx="1426320" cy="38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33cc"/>
                    </a:solidFill>
                    <a:latin typeface="Times New Roman"/>
                  </a:rPr>
                  <a:t>Academic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2865960" y="4286880"/>
              <a:ext cx="3994920" cy="17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ProfessorAlu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08520" y="4794120"/>
              <a:ext cx="1711800" cy="101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Alu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06520" y="4794120"/>
              <a:ext cx="1711440" cy="101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Profes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51800" y="5300280"/>
              <a:ext cx="1425600" cy="3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Academ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49080" y="5300280"/>
              <a:ext cx="1390680" cy="3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Academ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006520" y="3653640"/>
              <a:ext cx="997920" cy="63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3294720" y="3653640"/>
              <a:ext cx="997920" cy="63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60B-5FFD-4932-ACA2-F1C20E382B8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Repeti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4674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uplicação desnecessária de atribut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flito de Nom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virtual em C++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Academic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m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dade ( ) { return i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matricula ( ) { return m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078-B067-4611-A72E-A564AD0913C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Repeti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Professor: virtual public Academic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salario ( ) { return s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Aluno: virtual public Academic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coe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coeficiente ( ) { return coef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ProfessorAluno: public Professor, public Aluno {}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C00-6B96-43A0-B6BB-2B7886350C1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últipla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permite herança múltipla de class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a o conceito de interfaces para permitir subtipagem múltipl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ace Alun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estuda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estagia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Graduando implements Alun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estuda()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estagia()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29A-AAF0-41BE-992E-CFE4A5B1AF1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últipla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ace Cirurgiao { void opera()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ace Neurologista { void consulta()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Medico { public void consulta() {}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NeuroCirurgiao extends Medico implements Cirurgiao,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urologista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opera() {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Hospital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ic void plantãoCirurgico (Cirurgiao x) { x.opera()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ic void atendimentoGeral (Medico x) { x.consulta()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ic void neuroAtendimento (Neurologista x) { x.consulta()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ic void neuroCirurgia (NeuroCirurgiao x) { x.opera()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A4F-8826-4150-8B96-4821F836E4B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últipla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 ] arg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uroCirurgiao doutor = new NeuroCirurgiao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ntãoCirurgico(doutor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ndimentoGeral(doutor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uroAtendimento(doutor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uroCirurgia(doutor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existem problemas de conflito de nomes e herança repetid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ficulta a reutilização de código pois limita a herança aos protótipos dos métod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85D-C145-4CDD-951D-CFB9A279E69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taclass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s cujas instâncias são outras class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ibutos são os métodos, instâncias e as superclasses das classes instâncias da metaclas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s métodos normalmente oferecem serviços aos programas de aplicação, tais como, retornar os conjuntos de métodos, instâncias e superclasses de uma dada classe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possui uma única metaclasse, chamada de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C6D-DFF3-4CAC-B9B7-7B9F536FF3D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Estátic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odos os parâmetros e variáveis devem possuir um tipo fixo identificável a partir da análise do texto do program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po de cada expressão pode ser identificado e cada operação pode ser verificada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 tempo de compil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 faz poucas verificaçõ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duz confiabilidad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ULA-2 faz muitas verificaçõ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duz redigibilidad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319-9597-4FCD-B131-B1E2C9AA65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taclasse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rt java.lang.reflect.*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Inf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informa()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int informa(Info i, int x) { return x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MetaInf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 (String args[]) throws Exception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info = Info.clas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hod metodos[] = info.getMethods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fo i = (Info)info.newInstanc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hod m = info.getDeclaredMethod("informa", null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invoke(i, null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BF9-AD9B-42D7-A9D6-A525E1EBA92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taclass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ível Único: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odos objetos são vistos como classes e todas as classes são vistas como objet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ois Níveis: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odos objetos são instâncias de uma classe, mas classes não são acessíveis por program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ês Níveis: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Todos objetos são instâncias de uma classe e todas as classes são instâncias de uma única metaclass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ários Níveis: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m existir várias metaclass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A11-5969-41F7-A8CB-09363527263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osição X Heranç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osi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Q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ando se quer as características de uma classe, mas não sua interfac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jeto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utiliz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para implementar a funcionalidade da nova clas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lacionamento do tipo </a:t>
            </a:r>
            <a:r>
              <a:rPr b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m-u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ém de usar as características, a classe herdeira também usa a interface da classe herdad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lacionamento do tipo 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</a:t>
            </a:r>
            <a:r>
              <a:rPr b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-u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DAC-63D0-4F5B-8B38-FF17AB198BD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uturas de Dados Genéric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limorfismo Paramétrico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++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ilador garante homogeneidade dos elemento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limorfismo por Inclusão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ct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mplifica a LP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idade de Estreitament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CC0-7134-4738-8A4B-A9D8B9B9BF8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Dinâmic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 tempo de execu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mente os valores dessas LPs têm tipo fix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 valor tem associado a ele um </a:t>
            </a:r>
            <a:r>
              <a:rPr b="0" lang="pt-BR" sz="2400" spc="-1" strike="noStrike">
                <a:solidFill>
                  <a:srgbClr val="0033cc"/>
                </a:solidFill>
                <a:latin typeface="Courier New"/>
                <a:ea typeface="Courier New"/>
              </a:rPr>
              <a:t>tag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indicando o seu tipo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ma variável ou parâmetro não possui um tipo associad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de designar valores de diferentes tipos em pontos distintos da execu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ificação dos tipos de operandos imediatamente antes da execução da opera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SP, BASIC, APL e SMALLTALK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B35-4C44-4480-A745-98E4AC0B92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de Tipos Mist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ior parte das verificações de tipos em tempo de compilação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gumas verificações em tempo de execução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ogramas em LPs orientadas a objetos podem precisar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r a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ver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ão d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tipos de objetos durante a execu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++, ADA e JAV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3E1-5DA9-4F9B-868B-1DA8EEE291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nguagens Fortemente Tipad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ceito muito em voga nos anos 80 e 90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vem possibilitar a detecção de todo e qualquer erro de tipo em seus program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ificação estática tanto quanto o possível e a verificação dinâmica quando for necessári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GOL-68 é fortemente tipad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 e JAVA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são quase fortemente tipad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D1E-2D01-4684-B5F9-A3F5B39166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Estátic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ções do Compilador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par (int n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(n % 2 == 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 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 (i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ndos de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%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vem ser inteir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s operandos de 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==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vem ser de um mesmo tip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tipo de retorno de 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ve ser inteir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parâmetro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al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 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ve se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inteir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E57-9099-4A09-9283-E54AF1F4DF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Dinâmic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etuadas antes da execução das operaçõe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efun mult-tres (n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* 3 n)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mult-tres 7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mult-tres “abacaxi”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ior flexibilidade para produzir código reutilizável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efun segundo (l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r(cdr l))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gundo  ́(1 2 3)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gundo  ́(  ́(1 2 3)  ́(4 5 6))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gundo  ́(“manga” “abacaxi” 5 6)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nor eficiência computaciona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DBB-FB9D-4BD1-9A80-0223A0EE85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ferênci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Ps estaticamente tipadas não devem necessariamente exigir a declaração explícita de tipos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 (n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(n % 2 == 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 (i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B1D-0FC2-47EA-9792-E6BB23923E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ferênci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m sistema de inferência de tipos pode ser usado para identificar os tipos de cada entidade e expressão do programa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menta redigibilidade, mas pode reduzir legibilidade e facilidade para depuração dos program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mpiladores são bem mais exigid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ASKELL e M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F5A-4B3F-404E-8F9B-C77D12226F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versão Implícit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tuações nas quais se aplica um operando de tipo diferente do esperado por uma operação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 é extremamente liberal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ULA-2 é extremamente rigoros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adota postura intermediária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ário estabelecer regras nas quais a conversão é possí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6F0-BF0C-4D83-B2BB-05DC616939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D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finem um conjunto de valores e as operações aplicáveis sobre esses valores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vem fundamentalmente para oferecer informações relevantes aos programadores e aos compiladores (ou interpretadores) sobre os dados usados pelos programas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CFD-4D48-4651-883D-2577CF4218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gras para Conversão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ícit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íficas para cada tipo de conversão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aseadas no conceito de inclusão de tip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mitida se os valores do tipo do operando também são valores do tipo esperado pela opera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aseadas em equivalência de tipos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utura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conjunto de valores do tipo do operando é o mesmo do tipo esperado pela operaçã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mpara-se as estruturas dos dois tipo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mina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quivalentes se e somente se possuem o mesmo nome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5E2-9AA1-4374-852B-EF635BEB7B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quivalência Estrutural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 T e T’ são primitivos, então T e T’ devem ser idêntic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eiro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inteir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 T e T’são produtos cartesianos e T = A x B e T’= A’ x B’,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tão A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A’ e B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B’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eiro x booleano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inteiro x boolean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 T e T’são uniões e T = A + B e T’= A’ + B’; então A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A’ e B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B’ ou A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B’ e B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A’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eiro + booleano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booelano + inteir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 T e T’são mapeamentos e T = A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B e T’ = A’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B’; então A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A’ e B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B’.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eiro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booleano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inteiro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boolean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F18-CC71-4F18-936F-261D3F93E0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utural X Nominal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def float quilometro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def float milha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ilometros converte (milhas m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1.6093 * m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lhas s = 20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ilometros q = converte(s)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amba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converte(q)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estrutural apena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 adota estrutural neste cas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minal passa a ser preferida a partir de TAD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2CC-C1DF-48F4-9DE2-1EF34210F9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stemas de Tipos Monomórfic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das constantes, variáveis e subprogramas devem ser definidos com um tipo específic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CAL e MODULA-2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mples mas com baixa reusabilidade e redigibilida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uitos algoritmos e estruturas de dados são inerentemente genéric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goritmo para ordenação independe parcialmente do tipo do elemento a ser ordenad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do elemento precisa ter operação de comparaçã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juntos e suas operações são totalmente independentes do tipo dos element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715-6947-41D3-A643-2E7D88E5AB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stemas de Tipos Monomórfic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nhuma LP é totalmente monomórfic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CAL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ad, readln, write, writel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 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of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tores, conjuntos, arquiv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CAL e MODULA-2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ado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 (com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+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 atuam sobre diversos tip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nguagens monomórficas exigem que se crie representação e operações distintas para cada tipo de element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sta de inteiros, lista de cadeia de caracteres, etc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00F-4DEA-4503-A73F-0DBD77983E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stemas de Tipos Polimórfic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vorecem a construção e uso de estruturas de dados e algoritmos que atuam sobre elementos de tipos divers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bprogramas polimórficos são aqueles cujos parâmetros (e, no caso de funções, o tipo de retorno) podem assumir valores de mais de um tip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dados polimórficos são aqueles cujas operações são aplicáveis a valores de mais de um tip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oid*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ssibilita a criação de variáveis e parâmetros cujos valores podem ser ponteiros para tipos quaisquer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-226080" algn="just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ssibilita a construção de estruturas de dados genéricas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unções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lista de parâmetros variável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ambém são polimórfica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51B-1764-4ACB-8F45-B4D0A8A655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Polimorfism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ificação de Cardelli e Wegner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240" y="1752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8600" y="2514600"/>
            <a:ext cx="8686440" cy="3580920"/>
            <a:chOff x="228600" y="2514600"/>
            <a:chExt cx="8686440" cy="3580920"/>
          </a:xfrm>
        </p:grpSpPr>
        <p:grpSp>
          <p:nvGrpSpPr>
            <p:cNvPr id="138" name=""/>
            <p:cNvGrpSpPr/>
            <p:nvPr/>
          </p:nvGrpSpPr>
          <p:grpSpPr>
            <a:xfrm>
              <a:off x="236160" y="2520720"/>
              <a:ext cx="8669160" cy="3567960"/>
              <a:chOff x="236160" y="2520720"/>
              <a:chExt cx="8669160" cy="356796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36160" y="2520720"/>
                <a:ext cx="2495880" cy="3567960"/>
                <a:chOff x="236160" y="2520720"/>
                <a:chExt cx="2495880" cy="35679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51000" y="2520720"/>
                  <a:ext cx="2265840" cy="35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Polimorfism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6160" y="2520720"/>
                  <a:ext cx="2495880" cy="356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732400" y="2520720"/>
                <a:ext cx="3067560" cy="1783800"/>
                <a:chOff x="2732400" y="2520720"/>
                <a:chExt cx="3067560" cy="17838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847240" y="2520720"/>
                  <a:ext cx="2837520" cy="178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Ad-ho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732400" y="2520720"/>
                  <a:ext cx="3067560" cy="178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5800680" y="2520720"/>
                <a:ext cx="3104640" cy="891720"/>
                <a:chOff x="5800680" y="2520720"/>
                <a:chExt cx="3104640" cy="891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5914800" y="2520720"/>
                  <a:ext cx="2875680" cy="89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Coerçã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800680" y="2520720"/>
                  <a:ext cx="3104640" cy="89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800680" y="3412800"/>
                <a:ext cx="3104640" cy="891720"/>
                <a:chOff x="5800680" y="3412800"/>
                <a:chExt cx="3104640" cy="8917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914800" y="3412800"/>
                  <a:ext cx="2875680" cy="89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Sobrecarg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00680" y="3412800"/>
                  <a:ext cx="3104640" cy="89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732400" y="4304880"/>
                <a:ext cx="3067560" cy="1783800"/>
                <a:chOff x="2732400" y="4304880"/>
                <a:chExt cx="3067560" cy="17838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847240" y="4304880"/>
                  <a:ext cx="2837520" cy="178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Universal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32400" y="4304880"/>
                  <a:ext cx="3067560" cy="178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800680" y="4304880"/>
                <a:ext cx="3104640" cy="891720"/>
                <a:chOff x="5800680" y="4304880"/>
                <a:chExt cx="3104640" cy="8917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914800" y="4304880"/>
                  <a:ext cx="2875680" cy="89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Paramétric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800680" y="4304880"/>
                  <a:ext cx="3104640" cy="89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800680" y="5196960"/>
                <a:ext cx="3104640" cy="891720"/>
                <a:chOff x="5800680" y="5196960"/>
                <a:chExt cx="3104640" cy="8917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914800" y="5196960"/>
                  <a:ext cx="2875680" cy="89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Inclusã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800680" y="5196960"/>
                  <a:ext cx="3104640" cy="89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228600" y="2514600"/>
              <a:ext cx="8686440" cy="358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AD0-215E-4586-BD3D-76942BBFF6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Polimorfism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-hoc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aplica apenas a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bprograma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entemente proporciona reuso do código de implementação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o subprogram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, mas na realidade não o faz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criad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bprograma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specífic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 para operar sobre cada tipo admissível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mente proporciona reuso do código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chamada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os subprogram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240" y="1752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A52-07F5-41FD-9997-4486406692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Polimorfism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niversa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aplica a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bprograma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estruturas de dad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utura de dados pode ser criada incorporando elementos de tipos divers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smo código pode ser executado e atuar sobre elementos de diferentes tip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oporciona reuso de código tanto na chamada quanto na implement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siderado o verdadeiro polimorfism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3240" y="1752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880-6B43-4B81-BF50-FFC923860F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er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nversão implícita de tip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 (float i) {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ng num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(num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parenta lidar com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oat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long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 fato,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lida apenas com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oat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ilador se encarrega de embutir código para transformar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o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m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oat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 possui tabela de conversões permitid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CCE-79BF-4CBE-BCFE-2F1CF12842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nguagens de Máquina</a:t>
            </a:r>
            <a:endParaRPr b="0" lang="en-US" sz="4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tipadas porque nessas linguagens existe um único tipo representado pela palavra da memória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r signific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representar tudo (caracteres, números, ponteiros, estruturas de dados, instruções e programas) como cadeias de bits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A45-F176-45C6-8842-DC00DB135E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er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pli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de menor conjunto de valores para tipo de maior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junt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ção segura pois valor do tipo menor necessariamente tem correspondente no tipo maior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eitament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de maior conjunto de valores para tipo de menor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junt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ção insegura pois pode haver perda de informa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m sempre é ampliação ou estreitament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ara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nsigne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m C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DD5-63F1-40DA-A9BF-AD8E3F2FD1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er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a entender que determinada operação ou subprograma pode ser realizada com operandos de tipos diferente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não é isso o que ocorr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w 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y = 5.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x + y;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 x = somafloat (x, y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x + w;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 x = somafloat (x, intToFloat (w) 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C98-1269-4889-AAC4-F4FB545758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er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corre com grande frequência em atribuições e expressões em C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c = ‘a’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= c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 = i + 1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= x / 7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0DE-5CA5-486E-A3C0-AF16152B15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er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istem opiniões controversas a seu respeit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or redigibilidade por não demandar chamada de funções de convers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nor confiabilidade pois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m impedir a detecção de certos tipos de erros por parte do compilador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, b = 2, c 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d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 = a * b;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 d = (float) (a * b) 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b * d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 a = b * c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536-BDE3-4441-A35D-AA1D5057B1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er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 e MODULA-2 não admitem coerçõ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 adota uma postura bastante permissiv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busca um meio termo só admitindo a realização de coerções para tipos mais amplos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yte a, b = 10, c =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d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 = b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 = (byte) d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(byte) (b + c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1CA-606B-4B62-AED4-FCD166842E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g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Quand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identificador ou operador é usado para designar duas ou mais operações distint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eitável quando o uso do operador ou identificador não é ambígu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operação apropriada pode ser identificada usando-se as informações do contexto de aplicaçã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174-9B17-4EC4-9D81-0402CCD3DF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g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dor – de C pode designa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gações inteiras</a:t>
            </a:r>
            <a:r>
              <a:rPr b="0" lang="en-AU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AU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</a:t>
            </a:r>
            <a:r>
              <a:rPr b="0" i="1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</a:t>
            </a:r>
            <a:r>
              <a:rPr b="0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 </a:t>
            </a:r>
            <a:r>
              <a:rPr b="0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u</a:t>
            </a:r>
            <a:r>
              <a:rPr b="0" i="1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short</a:t>
            </a:r>
            <a:r>
              <a:rPr b="0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hort </a:t>
            </a:r>
            <a:r>
              <a:rPr b="0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u</a:t>
            </a:r>
            <a:r>
              <a:rPr b="0" i="1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long</a:t>
            </a:r>
            <a:r>
              <a:rPr b="0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ong</a:t>
            </a:r>
            <a:r>
              <a:rPr b="0" lang="en-AU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gações reai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oat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oat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ou 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ouble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oubl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btrações inteira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x 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btrações reai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oat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x 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oat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oat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njunto de operações pode ser muito maior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281-783F-48D6-BC3B-3CCF79A70A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g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gere que determinada operação ou subprograma pode ser realizada com operandos de tipos diferentes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mas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é isso que ocorr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 = 2, b 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x = 1.5, y = 3.4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a + b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   a = somaint (a, b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x + y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   x = somafloat (x, y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FD1-0FE0-4C1F-A584-C1FFA9F243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g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ULA-2 e C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butem sobrecarga em seus operador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ogramadores não podem implementar novas sobrecargas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 operador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existe qualquer sobrecarga de subprogram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CAL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xistem subprogramas sobrecarregados na biblioteca padr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a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 </a:t>
            </a:r>
            <a:r>
              <a:rPr b="0" i="1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writ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dores não podem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r novas sobrecargas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 subprogram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914-354F-4CCE-A8BE-4D212DE9B5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g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bute sobrecarga em operadores e em subprogramas de suas biblioteca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ó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subprogramas podem ser sobrecarregados pelo programador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 e C++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otam a postura mais ampla e ortogona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aliz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 permit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que programadores realizem sobrecarga de subprogramas e operadores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admitem a criação de novos operador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axe e precedência não pode ser alterad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A2A-C1AD-40A8-8A68-7BEF051B28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nguagens de Máquina</a:t>
            </a:r>
            <a:endParaRPr b="0" lang="en-US" sz="4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ário uma interpretação externa para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dentificar de maneira clara o que está sendo representado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rogram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mo em linguagens não tipadas, o conceito de tipos de dados surge naturalmente com a atividade de programaçã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úmeros, caracteres e instruções precisam ser tratados de maneira distinta pelo programado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0AF-E954-4585-8020-7A8F63E373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ga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umValor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v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Valor() { v = 0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Valor(int j) { v = j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t umValor operator+(const umValor&amp; u)const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umValor(v + u.v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Valor&amp; operator+=(const umValor&amp; u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+= u.v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*thi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2E7-22D8-4253-8663-A76E831CA94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ga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17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t umValor&amp; operator++() { // prefixad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++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*thi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t umValor operator++(int) { // posfixad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Valor antes(v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++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ante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9B5-71E8-474E-8543-24F2CFB9524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ga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 = 1, b = 2, c = 3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 += a +b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Valor r(1), s(2), t;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+= r + s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++s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t++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Ú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l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criação de objetos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iferentes context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ntaxe esquisit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ara sobrecarga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++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 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––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m todos operadores podem ser sobrecarregad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::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(resolução de escopo), 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.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(seleção de membro), 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zeof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(tamanho do objeto/tipo)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podem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FFD-D1D2-4A41-885A-6169DD8CF87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g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dependente de Context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sta de parâmetros diferenciada em número ou tipo dos parâmetr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po de retorno não pode ser usado para diferenci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e C++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pendente de Context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ário apena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uma assinatura diferenciad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po de retorno pode ser usado para diferenci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xige mais esforço dos compilador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de provocar erros de ambigüidade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937-B80E-4E5C-97C1-3B0A2F3A95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ga Independente de Context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58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void) {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float) {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int, int) {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float, float) {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int f(void) {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(2.3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(4, 5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(2.2f, 7.3f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f(3, 5.1f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f(1l, 2l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2362320"/>
            <a:ext cx="3987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pode diferenciar apenas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r tipo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int f(void)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 gerar ambigüidade quando combinada com coer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f(3, 5.1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f(1l, 2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357-AB8D-493D-B943-77ACA09B645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ga Dependente de Context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/ designa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visão real (float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x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oat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oat)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visão inteira (i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te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r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x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te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r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te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r)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bigüidade mesmo sem coer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ga de /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i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te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r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x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te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er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oat)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 “/” (m,n : integer)  retur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at 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at (m) /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at (n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“/”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ger; x 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a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: = 7.0/2.0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lcula 7.0/2.0 = 3.5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: = 7/2;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lcula 7/2 = 3.5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: = 7/2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alcula 7/2 = 3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: = (7/2) / (5/2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 -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alcula (7/2)/(5/2) = 3/2 = 1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: = (7/2) / (5/2)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rro: ambiguidade (pode ser 1.4 ou 1.5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FFB-9B27-4F61-A6CB-9804119E9AE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g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m todos consideram uma característica desejável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possibilidade dos programadores sobrecarregarem os operador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ogramas podem ficar mais fáceis de serem lidos e redigidos com a sobrecarg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menta a complexidade da LP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de ser mal utilizado, tendo efeito contrário a legibilida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não inclui a sobrecarga de operadores por considerá-la capaz de gerar confusões e aumentar a complexidade da LP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78D-DFD3-4064-8899-FBCFF8CEF39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amétric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ametrização das estruturas de dados e subprogramas com relação ao tipo do elemento sobre o qual operam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strações recebem um parâmetro implícito adicional especificando o tipo sobre o qual elas age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bprogramas específicos para cada tipo do element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dentidade (int x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bprogramas genéric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identidade (T x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131-0D67-4C91-AEB6-34DF1CC0AAB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litip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bprogramas genérico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ssuem parâmetro tip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 é parâmetro tipo em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identidade (T x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retornado por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ntidade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rá o mesmo usado na chamada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ntidade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2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x receberá um float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de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ntidad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 sua assinatura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T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po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o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T é chamado de politipo porque pode derivar uma família de muitos tipo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existe impedimento em se usar mais de um parâmetro tipo em um politip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 x T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T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indica que parâmetros podem ser de tipos distintos e que o tipo retornado será o tipo do segund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9B3-B975-49B8-95CB-DCA333AE647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amétrico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</a:t>
            </a:r>
            <a:r>
              <a:rPr b="0" i="1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mplat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mplate &lt;class T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identidade (T x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tDat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d, m, 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2209680"/>
            <a:ext cx="3886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Data d1, d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identidade (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= identidade (2.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2 = identidade (d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y = identidade (d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9C4-B00C-4127-9844-2F503F98772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nguagens de Máquin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possibilidade de evitar violações na organização dos dados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há impedimento para o programador efetuar a atribuição de uma instrução a algo que representava um númer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bos são cadeias de bits, o único tipo realmente reconhecido por essas linguagen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867-8FD3-439B-B7AA-AD5E459B84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amétrico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uitas funções são parcialmente genérica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mplate &lt;class T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maior (T x, T y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x &gt; y ? x : 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tDat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d, m, 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ro de compilação porque o operador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</a:t>
            </a:r>
            <a:r>
              <a:rPr b="0" i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está definido para a classe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Dat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ário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car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a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o operador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ara a classe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Dat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60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438280"/>
            <a:ext cx="4419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 (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Data d1, d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"%d", maior (3, 5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"%f", maior (3.1, 2.5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d1 = maior (d1, d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421-A5E1-4FD4-A048-4CC7D227FE8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amétrico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 possível parametrizar classe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mplate &lt;class T, int tam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tPilh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elem[tam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top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(void) { topo = -1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vazia (void) { return topo == -1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empilha (T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desempilha (void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obtemTopo (void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58D-6C3C-42E3-91C7-B8D43B72F2B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amétrico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mplate &lt;class T, int tam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tPilha&lt;T, tam&gt;::empilha (T el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topo &lt; tam-1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[++topo] = el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mplate &lt;class T, int tam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tPilha&lt;T, tam&gt;::desempilha (void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!vazia()) topo--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mplate &lt;class T, int tam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tPilha&lt;T, tam&gt;::obtemTopo (void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!this-&gt;vazia()) return elem[topo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47D-6C42-4761-B346-E3E7348BFDE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amétrico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2743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tDat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d, m, 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1828800"/>
            <a:ext cx="4648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main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Data d1, d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&lt;int, 3&gt;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&lt;tData, 2&gt;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.empilha (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.empilha (d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.empilha 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.empilha (d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!x.vazia() || !y.vazia(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.desempilh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.desempilh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818-DF31-48B9-8F60-C9AF44F251E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amétrico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plementação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template em C++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ó possibilita a reutilização de código font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é possível compilar o código usuário separadamente do código de implementa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compilador C++ necessita saber quais tipos serão associados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o templat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az varredura do código usuário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plica todo o código de implementação para cada tipo utilizad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ilador necessita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r se o tipo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ad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é compatível com as operações definidas nas implementações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 saber o tamanho a ser alocad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966-3332-4D12-AC05-AE04B7B8DBD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amétric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cotes Genéric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possui atualment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serva da palavra generic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F61-EE90-4FFF-B765-E3BA3578E12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clus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racterístico de linguagens orientadas a objeto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hierarquia de tipos para criação de subprogramas e estruturas de dados polimórfic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déia Fundamenta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ementos dos subtipos são também elementos do supertip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strações formadas a partir do supertipo podem também envolver elementos dos seus subtip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080-17A5-43A9-8E26-AD3D8D83892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clus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 subtipo de T implic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ormado por um sub-conjunto dos valores de T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do valor de S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também um valor de T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operações associadas ao tipo T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ã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aplicáve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ao subtipo 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 herda todas as operações do tipo T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ceito de tipo implementado através de classes em linguagens orientadas a objeto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060-42F1-4991-8B70-CF59445E06E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bclasses herdam os atributos e métodos de uma classe e, portanto, implementam subtipos do tipo definido por essa class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ança associa à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b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ma representação inicial para os objetos dessa classe (os atributos herdados)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m conjunto inicial de métodos aplicáveis aos objetos dessa classe (os métodos herdados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bclasse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 conter atributos e métodos adicionais, especializando o estado e o comportamento dos objetos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a subclass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364-9A9E-4D77-9429-7911CA33442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648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Pesso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String nom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int idad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Pessoa (String n, int i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me = 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ade =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aumentarIdade (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ade++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614-6C69-413F-9BA3-31828F3F673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nguagens de Alto Nível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ão tipadas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da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fine um sistema de tipo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 um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conjunto próprio de tipos de dad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stemas de tipos facilitam o processo de organização dos dado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erecendo facilidades para a definição e o uso dos dados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ornecem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aranti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tratamento apropriad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076-BF97-4330-9C2C-CA5CA540F8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Empregado extends Pesso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float salari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Empregado (String n, int i, float 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er(n, i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lario = 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mudarSalario (float s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lario = 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B48-8F80-41FE-84B8-CCCBEC175DF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Empres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ssoa p = new Pessoa (“Denise”, 34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aumentarIdad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regado e1 = new Empregado (“Rogerio”, 28, 1000.0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1.mudarSalario(2000.0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1.aumentarIdad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8FE-3ECE-49E4-9545-89C12008451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ntagens da Heranç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menta a reusabilidade do código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necessário redefinir os atributos e métodos da classe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sso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na classe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regad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ança é polimorfismo universal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método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mentarIdade()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, usado para mudar a idade de uma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sso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, e também aplicado para mudar a idade de um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regad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067-CFDD-4B8F-A173-6F5BAD371B4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dor de Acesso para Classes Herdeiras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gumas situações requerem que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s herdeira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nham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acesso livre aos atributos da classe herdad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alternativa d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aze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sses atributos públicos ou criar métodos públicos de acesso pode não ser satisfatória porque torna esse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tributos e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cessívei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ara métodos de qualquer outra class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ed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: novo especificador de acesso para classes herdeira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05C-3A21-45C3-B8C8-414A83AC3A0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dor de Acesso para Classes Herdeiras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Pesso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ed int idad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Empregado extends Pesso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Empregado (int i) { idade = i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boolean aposentavel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idade &gt;= 65) return tru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fals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E75-CFB2-41D5-93EB-9BC07AC705D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dor de Acesso para Classes Herdeiras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1828800"/>
            <a:ext cx="853452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Empres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regado e = new Empregado (3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e.aposentavel()) System.out.println(“Chega de trabalho!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e.idade = 7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105-0564-4E3E-8B0E-20D7BC9EEB0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icialização de Atributos </a:t>
            </a:r>
            <a:br>
              <a:rPr sz="4000"/>
            </a:b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 Heranç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ário inicializar atributos da superclasse antes dos da clas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JAV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60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stad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0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(String 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0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s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0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0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0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Pesso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0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p = new Estado("Ativo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0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ssoa 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0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Pessoa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0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0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12F-384C-4631-BCD7-5E955FA6B1A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icialização de Atributos </a:t>
            </a:r>
            <a:br>
              <a:rPr sz="4000"/>
            </a:b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 Heranç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Idoso extends Pesso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i = new Estado("Sabio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oso 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Idoso 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Avo extends Idos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a1 = new Estado ("Alegre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Avo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3 = new Estado ("Orgulhoso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a2 = new Estado ("Amigo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C22-AA52-4564-8B0E-CCD54240816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icialização de Atributos </a:t>
            </a:r>
            <a:br>
              <a:rPr sz="4000"/>
            </a:b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 Heranç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im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"Fim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a3 = new Estado ("Satisfeito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Inicializaca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 a = new Avo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fim(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1FA-A464-492A-ADC9-1E2EEAC1330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scri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todo herdado não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adequado para realizar a mesma operação nos objetos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a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subclas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X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ed int x = 3, y = 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int soma (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x + 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XYZ extends X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z = 17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int soma (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x + y + z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ECF-DCBB-4822-BDF6-99BBA609A07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nguagens de Alto Nível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nguagens que incluem o tipo booleano facilitam o programador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iar variáveis desse tip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é necessário definir a representação de um valor boolean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ssas variávei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 operações boolenas já estão definid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antir que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sas variáveis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serão usadas em operações inapropriad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r exemplo,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ição com um valor inteir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1F2-25D6-471C-AAD7-5E265F20E5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brescri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3733920"/>
            <a:ext cx="817884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tensão de método na sobrescriçã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XYZ extends X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z = 17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int soma (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super.soma() + z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1600200"/>
            <a:ext cx="5562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Sobrescrit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 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YZ xyz = new XYZ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xyz.soma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306-1928-4EE5-95C1-7BCDF051E31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dentificação Dinâmic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788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orma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 identificar o tipo do objeto em tempo de execuçã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útil em situações nas quais o programador desconhece o tipo verdadeiro de um objet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mite elaboração de trechos de código nos quais métodos invocados por um mesmo referenciador de objetos se comportam de maneira diferenciad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4EB-C953-41B0-AFC3-74B4C43C0F0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pliação ou Upcast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788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stânci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jetos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 um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class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mbr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das as instâncias da classe e de suas subclass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 permitido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tribuir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qualquer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mbro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a uma referência à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class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plia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mo usado para descrever o movimento de objetos na sua linha de ancestrais no sentido da subclasse para as superclass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727-AFD0-4DCE-A566-38CDD84EDC4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pliação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1788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Empres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paga (Pessoa pes)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contrata (Empregado emp)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ssoa p = new Pessoa ("Lucas", 3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regado e = new Empregado ("Luis", 23, 1500.0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 = 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e = 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resa c = new Empresa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paga(e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c.contrata(p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29A-A21F-4F91-9448-B0061481CF3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pliação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788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ó através de ponteiros ou referênci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ssoa p, *q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regado e, *r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 = r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r = q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p = e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e = 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itação é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sequência d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mecanismo de cópia de objetos utilizado pela operação de atribuição e para passagem de parâmetros por valor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9DC-C20C-41BD-9592-77D0E528926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arração Tardi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788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ão dinâmica do método a ser executad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pende do objeto que invoca o métod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Pesso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ing nom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dad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Pessoa (String n, int i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me = 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ade =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aumentaIdade () { idade++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imprime(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(nome + " , " + idade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12B-8310-48BA-9CCD-7C3B6E601CF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arração Tardi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788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mpregado extends Pesso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salari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regado (String n, int i, float 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er(n, i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lario = 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imprime(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er.imprim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(" , " + salario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8EB-3D23-4E6E-B00D-0381177EF01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arração Tardi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788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Empres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(String[] arg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ssoa p = new Empregado (“Rogerio”, 28, 1000.0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aumentaIdad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imprim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965160" y="4572000"/>
            <a:ext cx="817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nos eficiente que amarração estática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CE7-A8C4-4B3C-A59B-8AD2F12BC59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arração Tardi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09480" y="1981080"/>
            <a:ext cx="7620120" cy="3876840"/>
            <a:chOff x="609480" y="1981080"/>
            <a:chExt cx="7620120" cy="3876840"/>
          </a:xfrm>
        </p:grpSpPr>
        <p:sp>
          <p:nvSpPr>
            <p:cNvPr id="273" name=""/>
            <p:cNvSpPr/>
            <p:nvPr/>
          </p:nvSpPr>
          <p:spPr>
            <a:xfrm>
              <a:off x="1087920" y="4014360"/>
              <a:ext cx="10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87920" y="3774960"/>
              <a:ext cx="10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9480" y="3535560"/>
              <a:ext cx="4698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cc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83160" y="3000240"/>
              <a:ext cx="1715040" cy="38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cc"/>
                  </a:solidFill>
                  <a:latin typeface="Times New Roman"/>
                </a:rPr>
                <a:t>PESSO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83160" y="3381120"/>
              <a:ext cx="1715040" cy="38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cc"/>
                  </a:solidFill>
                  <a:latin typeface="Times New Roman"/>
                </a:rPr>
                <a:t>psu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83160" y="3762000"/>
              <a:ext cx="1715040" cy="38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cc"/>
                  </a:solidFill>
                  <a:latin typeface="Times New Roman"/>
                </a:rPr>
                <a:t>aumentar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83160" y="4143240"/>
              <a:ext cx="1715040" cy="38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cc"/>
                  </a:solidFill>
                  <a:latin typeface="Times New Roman"/>
                </a:rPr>
                <a:t>impr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96080" y="4714920"/>
              <a:ext cx="1715040" cy="38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cc"/>
                  </a:solidFill>
                  <a:latin typeface="Times New Roman"/>
                </a:rPr>
                <a:t>EMPRE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96080" y="5095800"/>
              <a:ext cx="1715040" cy="38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cc"/>
                  </a:solidFill>
                  <a:latin typeface="Times New Roman"/>
                </a:rPr>
                <a:t>psu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96080" y="5477040"/>
              <a:ext cx="1715040" cy="38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cc"/>
                  </a:solidFill>
                  <a:latin typeface="Times New Roman"/>
                </a:rPr>
                <a:t>impr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920" y="2238120"/>
              <a:ext cx="1715040" cy="38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cc"/>
                  </a:solidFill>
                  <a:latin typeface="Times New Roman"/>
                </a:rPr>
                <a:t>pcla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61920" y="2619000"/>
              <a:ext cx="1715040" cy="38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cc"/>
                  </a:solidFill>
                  <a:latin typeface="Times New Roman"/>
                </a:rPr>
                <a:t>nome:“Rogerio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61920" y="3000240"/>
              <a:ext cx="1715040" cy="38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cc"/>
                  </a:solidFill>
                  <a:latin typeface="Times New Roman"/>
                </a:rPr>
                <a:t>idade: 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597640" y="2999880"/>
              <a:ext cx="785520" cy="2329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870680" y="2578680"/>
              <a:ext cx="239040" cy="103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61920" y="3381120"/>
              <a:ext cx="1715040" cy="38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cc"/>
                  </a:solidFill>
                  <a:latin typeface="Times New Roman"/>
                </a:rPr>
                <a:t>salario: 1000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529280" y="2237760"/>
              <a:ext cx="1232280" cy="165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110080" y="1981080"/>
              <a:ext cx="119520" cy="5976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61600" y="2459160"/>
              <a:ext cx="717840" cy="227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087920" y="3296160"/>
              <a:ext cx="0" cy="71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164680" y="3176640"/>
              <a:ext cx="0" cy="83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710-6A5D-4A4F-A5B4-3F6221E420A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arração Tardia x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arração Estática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788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odas chamadas utilizam amarração tardia em JAV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C++ 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dor da classe pode decidir se deseja o uso de amarração tardia ou não para cada método da class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isa não comprometer a eficiência de execução desnecessariament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a palavra virtua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Pesso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ler()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rtual void imprimir()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239-1B07-463F-ACA7-297C243C824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stemas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ve para descrever de modo mais adequado os dado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menta a legibilidade e a redigibilidade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os program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ita que programas executem operações incoerentes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mar um inteiro e um caracter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AA9-363E-4428-B48A-9097F3C903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arração Tardi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788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ssibilita a criação de código usuário com polimorfismo universal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Militar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operacao()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Exercito extends Militar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operacao(){System.out.println(“Marchar”);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Marinha extends Militar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operacao(){System.out.println(“Navegar”);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Aeronautica extends Militar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operacao(){System.out.println(“Voar”);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7B7-4B03-4E14-916C-57BA3B79EAC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arração Tardia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788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Treinament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treinar(Militar[] m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nt i = 0; i &lt; m.length; i++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[i].operacao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 (String[] arg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litar[] m = new Militar[]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w Exercito(), new Marinha()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w Aeronautica(),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w Militar(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einar(m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E0C-F9AA-4660-86E5-4D08B10C4C3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s Abstrat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ssuem membros, mas não possuem instância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bros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ão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s instâncias de suas subclasses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cretas (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abstratas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oibida a criaçã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 instâncias dessas class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ve ser necessariamente estendid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Ú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is quando uma classe, ancestral comum para um conjunto de classes, se torna tão geral a ponto de não ser possível ou razoável ter instâncias dessa class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9AA-5C6C-4FAE-9B0E-1AAAC202509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s Abstrat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JAV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especificado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 class Militar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operacao()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vocaria erro de compilação no exemplo apresentado anteriorment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a construção de Militar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0B7-E977-42FA-811E-F68730BC12F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s Abstrat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todos declarados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na class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, mas não implementad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implementação desses métodos é deixada para as subclasse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s abstratas normalmente possuem um ou mais métodos abstrato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e uma classe possui um método abstrato, ela deve necessariamente ser uma classe abstrat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Especificam protocolo entre a classe e suas subclass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vem ser implementados pelas subclasses concret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384-6734-40EC-A4BA-E55CFA868D4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s e Métodos Abstrat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Em JAV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 class Militar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ing patent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litar(String p) { patente = p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ing toString() { return patente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 void operacao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DA4-4DE5-4158-AA44-8648F574833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s e Métodos Abstrat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Em C++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Militar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rtual void operacao()=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imprime { cout &lt;&lt; “Militar”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523-6767-4D81-80F0-5B114396961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ção por Classe Abstrat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 class Form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 void mover(int dx, int dy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 void desenhar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Circulo extends Form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x, y, rai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rculo (int x, int y, int r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.x =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.y = 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io = 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875-DCE5-463A-95F3-A8D54272273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ção por Classe Abstrat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mover(int dx, int dy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+= d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+= d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desenhar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 (“Circulo: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 (“   Origem: (“ + x + “, “ + y +“)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 (“   Raio: “ + raio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0D5-C07C-45D6-BD53-426CBD2152E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sses Abstratas Pur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odos os métodos são abstrato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adas para disciplinar a construção de class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define o conceito de interface para a sua implement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ão possuem atributos de instânci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étodos são todos públicos e abstrat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ace Form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mover(int dx, int dy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desenhar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57D-2DA9-4563-9907-12F638C5343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de Tipo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vidade de garantir que operandos de um certo operador são de tipos compatívei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a priori de tipos é normalmente recomendad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ita a realização de operações sem sentid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Ps podem possibilitar ou não a realização de uma ampla verificação de tip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 adota uma postura frac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 e JAVA procuram realizar uma verificação extremamente ampla de tip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AE6-1C6A-4536-88D7-214876D00D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eitamento ou Downcas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mo usado para descrever a conversão de tipos de objetos no sentido da superclasse para as subclass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é completamente segur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ara o sistema de tipos porque um membro da superclasse não é necessariamente do mesmo tipo da subclasse para a qual se faz a convers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gumas LPs não permitem o estreitament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tras exigem que ele seja feito através de uma operação de conversão explícit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AEF-AD4E-4D3D-BE10-9D99E46C1AB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eitamento ou Downcast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mente permite a realização de estreitamento através de conversão explícit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so a conversão seja feita entre classes não pertencentes a uma mesma linha de descendência na hierarquia, ocorrerá erro de compila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so a conversão seja na mesma linha de descendência, mas o objeto designado pela superclasse não seja membro da classe para o qual se faz o estreitamento, ocorrerá uma exceção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tempo de execu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operador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anceof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mite testar dinamicamente se o objeto designado pela superclasse realmente é da classe para a qual se deseja fazer a conversã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 </a:t>
            </a:r>
            <a:br>
              <a:rPr sz="2400"/>
            </a:b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0D5-E811-44CA-9ED9-AB5D8F1B402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eitamento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UmaClasse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UmaSubclasse extends UmaClasse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OutraSubclasse extends UmaClasse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Estreitament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atic void main (String[] arg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aClasse uc = new UmaSubclass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aSubclasse us = (UmaSubclasse) uc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traSubclasse o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os = (OutraSubclasse) u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os = (OutraSubclasse) uc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uc instanceof OutraSubclasse) os = (OutraSubclasse) uc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468-AA01-4CFE-A71F-2B8AC0B2573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eitamento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onversão explícita tradiciona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eita em tempo de compilação sem qualquer verific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st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onversão explícita estátic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eita em tempo de compil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Verifica se conversão ocorre em uma linha de descendênci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c_cast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7E9-0AD5-4128-AB08-35C0C4C4F37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eitamento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onversão explícita dinâmic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eita em tempo de execu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Verifica se conversão é para o tipo corret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ynamic_cast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este dinâmico de tipo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eito em tempo de execu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Verifica qual o tipo referenciado por ponteir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id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4A4-CE16-4D45-BD56-3B50A079AB1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eitamento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typeinfo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UmaClasse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: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rtual void temVirtual ()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UmaSubclasse: public UmaClasse {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OutraSubclasse: public UmaClasse {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OutraClasse {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 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primeira parte do exempl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aClasse* pc = new UmaSubclass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traSubclasse* pos = dynamic_cast &lt;OutraSubclasse*&gt; (pc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aSubclasse* ps = dynamic_cast &lt;UmaSubclasse*&gt; (pc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9F76-8145-4310-A0ED-13AF78FB03D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eitamento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segunda parte do exempl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aSubclasse u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c = static_cast &lt;UmaClasse*&gt; (&amp;us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c = &amp;u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traClasse* poc = (OutraClasse*) pc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OutraClasse* poc = static_cast &lt;OutraClasse*&gt; (pc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terceira parte do exempl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typeid(pc) == typeid(ps)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 = static_cast&lt;UmaSubclasse*&gt;(pc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typeid(pc) == typeid(pos)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s = static_cast&lt;OutraSubclasse*&gt;(pc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4C5-BE9A-4637-85B0-A7F8F44026C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 Múltipl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66560" y="2517840"/>
            <a:ext cx="7839000" cy="2815920"/>
            <a:chOff x="466560" y="2517840"/>
            <a:chExt cx="7839000" cy="2815920"/>
          </a:xfrm>
        </p:grpSpPr>
        <p:sp>
          <p:nvSpPr>
            <p:cNvPr id="332" name=""/>
            <p:cNvSpPr/>
            <p:nvPr/>
          </p:nvSpPr>
          <p:spPr>
            <a:xfrm>
              <a:off x="982080" y="2517840"/>
              <a:ext cx="161784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Times New Roman"/>
                </a:rPr>
                <a:t>Pess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82080" y="3947760"/>
              <a:ext cx="161784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Times New Roman"/>
                </a:rPr>
                <a:t>Empreg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791000" y="3052440"/>
              <a:ext cx="0" cy="8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80920" y="2528640"/>
              <a:ext cx="2135880" cy="4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Times New Roman"/>
                </a:rPr>
                <a:t>Prof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56600" y="3931200"/>
              <a:ext cx="2666160" cy="56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Times New Roman"/>
                </a:rPr>
                <a:t>ProfessorAlu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69680" y="2528640"/>
              <a:ext cx="2135880" cy="4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Times New Roman"/>
                </a:rPr>
                <a:t>Alu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008040" y="2988720"/>
              <a:ext cx="1132560" cy="9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4713480" y="2988720"/>
              <a:ext cx="1132560" cy="9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6560" y="4772880"/>
              <a:ext cx="2666160" cy="5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Times New Roman"/>
                </a:rPr>
                <a:t>Herança Si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56600" y="4772880"/>
              <a:ext cx="2666160" cy="5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Times New Roman"/>
                </a:rPr>
                <a:t>Herança Múltip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898-775F-4CB6-A601-41FC5569543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 Múltipl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4674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Ps com herança simple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osi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métodos envoltóri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ede subtipagem múltipl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Professor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ing n = “Marcos”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matr = 5302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ring nome() { return n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int matricula() { return matr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Aluno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ing n = “Marcos”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matr = 127890023;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922-B8F7-472F-9AF5-47D2DC551E8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erança Múltipl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4674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coef = 8.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String nome() { return n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int matricula() { return matr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float coeficiente() { return coef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ProfessorAluno extends Professor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uno aluno = new Aluno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float coeficiente(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aluno.coeficiente(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triculaAluno(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aluno.matricula(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2F5-F82F-462F-9401-D5E6F1F141A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23:32:25Z</dcterms:created>
  <dc:creator>adriana</dc:creator>
  <dc:description/>
  <dc:language>en-US</dc:language>
  <cp:lastModifiedBy>Flávio Miguel Varejão</cp:lastModifiedBy>
  <dcterms:modified xsi:type="dcterms:W3CDTF">2004-09-10T09:37:07Z</dcterms:modified>
  <cp:revision>558</cp:revision>
  <dc:subject/>
  <dc:title>Curso de Qualidade 2004 - SBC</dc:title>
</cp:coreProperties>
</file>