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59C-1018-44BD-ABFC-0E8EA374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083-F829-4F46-8E25-E8AECC01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68B-95EE-422D-B55E-400531AF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528-A926-490E-8685-C52D0618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A38B-0B87-4B7F-A233-37E17E1E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E842-11D4-4DFB-B6B9-2D09DA3A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55AB-FC73-48D4-AA25-9971818F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B606-8AF2-4934-BAD2-55208BB4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E549-3FAF-45EE-81B7-C5F2411C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07E5-5227-41E8-833C-605F3C0B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925B-D2D9-4B19-8A52-6B4CF741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45C-EBC8-48A8-A7FC-D3CEE057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DC74-DEF1-4280-9D37-DB334F8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4FC5-9ACF-4047-BB68-65476BD6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CAE0-CED7-488F-AD6B-5F383FB5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F648-A0D1-4E57-BE79-D2DB1A1D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5EE5-D5B4-4B96-B6E5-C83065BD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5B8-82B0-47F6-BD79-5E791785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890-158A-4251-AB41-85D6AC7B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19D-CDB9-40D3-85AF-B1B8E9D7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446-FBF7-4C85-97B5-DDB18A67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B1B-A52E-4228-BA77-67B8B34A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91B-1258-4C7F-ABCF-4EBF4D07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EC5-88C8-4BDF-AD62-44259C46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95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Introd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294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F6AA-0175-4FDE-88ED-71EDB934B780}" type="slidenum">
              <a:rPr b="0" lang="en-US" sz="1400" spc="-1" strike="noStrike">
                <a:solidFill>
                  <a:srgbClr val="00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CC73-5562-4441-9B35-949833B896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Linguagens de Programação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onceitos e Técnica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Introdução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cc"/>
                </a:solidFill>
                <a:latin typeface="Comic Sans MS"/>
              </a:rPr>
              <a:t>Prof.</a:t>
            </a:r>
            <a:r>
              <a:rPr b="0" lang="pt-B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riedades Desejáveis em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ficiênci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erificação Dinâmica de Tipos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acilidade de Aprendizad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cesso de Características é Prejudicial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 = c + 1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+=1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++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+c;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odificabilidad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 float pi = 3.14;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89D-63DF-4A7C-AF2C-6EB0D6C09B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riedades Desejáveis em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usabi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da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troca (int *x, int *y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z = *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x = *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y = z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rtabilidade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igor no Projet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ode Contrastar com Eficiênci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082-370B-4F5E-B840-B70CD65FFB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ção de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éxico x Sintaxe x Semântic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b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ntax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ressão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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or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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or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dor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xpressão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 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or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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úmero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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nal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úmero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 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úmero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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sinal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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sinal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.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sinal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 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sinal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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ígito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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ígito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emsinal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 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ígito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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0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1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2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3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4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5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6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7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8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9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 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nal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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+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 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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perador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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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+</a:t>
            </a:r>
            <a:r>
              <a:rPr b="0" i="1" lang="pt-BR" sz="2000" spc="-1" strike="noStrike">
                <a:solidFill>
                  <a:srgbClr val="0033cc"/>
                </a:solidFill>
                <a:latin typeface="Symbol"/>
                <a:ea typeface="Symbol"/>
              </a:rPr>
              <a:t></a:t>
            </a: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A52-EE96-467D-A5EA-5DEE2577E1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ção de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mântic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foque Operacional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Necessidade de Padronizaçã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SO, IEEE, ANSI, NIST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A17-85D2-480A-BE7A-CBBCBBC388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ção de LP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76520" y="2286000"/>
            <a:ext cx="5432400" cy="3084480"/>
            <a:chOff x="1676520" y="2286000"/>
            <a:chExt cx="5432400" cy="3084480"/>
          </a:xfrm>
        </p:grpSpPr>
        <p:graphicFrame>
          <p:nvGraphicFramePr>
            <p:cNvPr id="112" name=""/>
            <p:cNvGraphicFramePr/>
            <p:nvPr/>
          </p:nvGraphicFramePr>
          <p:xfrm>
            <a:off x="2170080" y="2560680"/>
            <a:ext cx="587520" cy="186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70080" y="2560680"/>
                      <a:ext cx="587520" cy="186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1987560" y="2286000"/>
              <a:ext cx="91440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Compil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9000" y="2286000"/>
              <a:ext cx="133524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Interpretação P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62640" y="2286000"/>
              <a:ext cx="63972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Híbr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09800" y="2743200"/>
              <a:ext cx="45720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Fo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56080" y="2743200"/>
              <a:ext cx="45720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Fo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2000" y="2743200"/>
              <a:ext cx="45720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Fo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9160" y="2743200"/>
              <a:ext cx="27468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L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03240" y="2743200"/>
              <a:ext cx="27648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L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05440" y="2743200"/>
              <a:ext cx="276120" cy="18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L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4525920"/>
              <a:ext cx="76356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Execu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5370480" y="2560680"/>
            <a:ext cx="641520" cy="250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70480" y="2560680"/>
                      <a:ext cx="641520" cy="250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1712880" y="3657600"/>
              <a:ext cx="366840" cy="18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L.M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67000" y="3475080"/>
              <a:ext cx="36684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L.M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3280" y="4389480"/>
              <a:ext cx="36828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L.M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35120" y="3110040"/>
              <a:ext cx="91440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Compil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37320" y="3200400"/>
              <a:ext cx="91440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Compil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27680" y="4206960"/>
              <a:ext cx="100656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Interpret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02360" y="3567240"/>
              <a:ext cx="1006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Códi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Intermediá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3" name=""/>
            <p:cNvGraphicFramePr/>
            <p:nvPr/>
          </p:nvGraphicFramePr>
          <p:xfrm>
            <a:off x="3724200" y="2560680"/>
            <a:ext cx="641520" cy="159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24200" y="2560680"/>
                      <a:ext cx="641520" cy="15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>
              <a:off x="4273560" y="3292560"/>
              <a:ext cx="100656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Interpret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19440" y="4183200"/>
              <a:ext cx="76536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Execu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5560" y="5097600"/>
              <a:ext cx="76356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Execu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4183200"/>
              <a:ext cx="571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D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8120" y="3840120"/>
              <a:ext cx="571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D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62440" y="4754520"/>
              <a:ext cx="573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D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464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05120" y="4411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90840" y="4297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390840" y="40683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106960" y="49827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6960" y="5211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75A-B74C-46C0-A7C7-EC340FFBA8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ção de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mpila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ficiênci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s com Portabilidade e Depuraçã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erpretação Pur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lexibilidade, Portabilidade e Facilidade para Prototipação e Depuração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blemas com Eficiência e Maior Consumo de Memóri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aramente Usada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Híbrid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Une Vantagens dos Outros Métodos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VM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568-9D12-4B7B-B3DC-502FD32843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adigmas de LP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62120" y="2438280"/>
            <a:ext cx="7505640" cy="2514600"/>
            <a:chOff x="762120" y="2438280"/>
            <a:chExt cx="7505640" cy="2514600"/>
          </a:xfrm>
        </p:grpSpPr>
        <p:sp>
          <p:nvSpPr>
            <p:cNvPr id="151" name=""/>
            <p:cNvSpPr/>
            <p:nvPr/>
          </p:nvSpPr>
          <p:spPr>
            <a:xfrm>
              <a:off x="4381560" y="2438280"/>
              <a:ext cx="1371600" cy="495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Paradigm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3390840"/>
              <a:ext cx="1828800" cy="343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Imper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38680" y="3390840"/>
              <a:ext cx="1752840" cy="343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Declar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2120" y="4191120"/>
              <a:ext cx="1447560" cy="457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Estrutur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4191120"/>
              <a:ext cx="1219320" cy="761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Orientado a Obje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6200" y="4191120"/>
              <a:ext cx="1486080" cy="457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Concorr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86400" y="4191120"/>
              <a:ext cx="1219320" cy="457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Func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4191120"/>
              <a:ext cx="1181160" cy="457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33cc"/>
                  </a:solidFill>
                  <a:latin typeface="Times New Roman"/>
                </a:rPr>
                <a:t>Ló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95760" y="3162240"/>
              <a:ext cx="2857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67360" y="2933640"/>
              <a:ext cx="144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95760" y="3162240"/>
              <a:ext cx="144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3080" y="3162240"/>
              <a:ext cx="18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3962520"/>
              <a:ext cx="3581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3962520"/>
              <a:ext cx="144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95760" y="3733920"/>
              <a:ext cx="144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3733920"/>
              <a:ext cx="18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71600" y="3962520"/>
              <a:ext cx="144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4080" y="3962520"/>
              <a:ext cx="18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2880" y="3962520"/>
              <a:ext cx="18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3962520"/>
              <a:ext cx="18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3962520"/>
              <a:ext cx="144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D75-3F96-48C8-AC47-F561EEF23D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adigmas de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erativ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cesso de Mudanças de Esta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riável, Valor e Atribuiçã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élulas de Memóri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truturad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finamentos Sucessiv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locos Aninhados de Coman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sestímulo ao uso de desvio incondiciona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A25-48BF-4956-A9DA-DECB94D836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adigmas de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ientado a Objeto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stração de Da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corrent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cessos Executam Simultaneamente e Concorrem por Recurs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071-77CE-4934-83D4-7B158E4270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radigmas de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clarativ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ções sobre a Tarefa a Ser Realizad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bstrai-se de Como o Computador é Implementado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uncional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 Composto por Funçõ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ógic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edica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dução Automátic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ED9-687D-4C3E-8447-E49D9950C9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azões para Estudar LPs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63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 capacidade de desenvolver soluções computacionais para problem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 habilidade ao usar uma LP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apacidade para escolher LPs apropriada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 habilidade para aprender novas LP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or habilidade para projetar novas LPs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C69-DFCD-46AA-90C6-9381F8F604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volução de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ficuldade de Programação em Linguagens de Máquin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oco de Primeiras LPs era Eficiência de Processamento e Consumo de Memória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aixa Produtividade de Programação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ção Estruturad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Abstratos de Dad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ientação a Objeto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9AA-03FE-48FF-B51E-8C187C8CF5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igem de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FORTRAN (1957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plicações numérica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ISP</a:t>
            </a: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1959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ção funcional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LGOL</a:t>
            </a: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1960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ção estruturad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BOL</a:t>
            </a: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1960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plicações comerciai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360-B10D-44F9-ABC4-FFBBA23A83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igem de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BASIC (1964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sino para leig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SCAL (1971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nsino de programação estruturad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implic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 (1972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ção de UNIX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LOG</a:t>
            </a: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1972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ção lógic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E6E-2C53-45F8-A740-38808F363A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igem de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SMALLTALK (1972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ção orientada a objetos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DA (1983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gramação concorrent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++</a:t>
            </a: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1985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isseminação 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programação orientada a objeto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JAVA</a:t>
            </a:r>
            <a:r>
              <a:rPr b="1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1995)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is simples e confiável que C++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nternet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3BC-54CB-4D9B-8780-E63B3722B2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pel de LPs no PD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 objetivo de LPs é tornar mais efetivo o processo de desenvolvimento de software (PDS) 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DS visa geração e manutenção de software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 modo 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dutiv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e garantia de padrões de qualidad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442-8602-4B71-8AB1-48EB9ACDEA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pel de LPs no PD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incipais Propriedades Desejadas em um Softwar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fiabilidad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nutenibilidad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ficiência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E8E-CBC5-4A52-9DF9-F597592EF0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apel de LPs no PD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tapas do PD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specificação de Requisitos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jeto do Softwar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Implementaçã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Validaçã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nutenção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336-CEF3-4E5F-9CD9-840BDE0B0A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riedades Desejáveis em LP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Legibilidad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Marcadores de Blocos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x&gt;1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(x==2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=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se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=4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svios Incondicionai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oto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uplicação de Significado de Vocábulos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(em JAVA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p = (*p)*q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89A-7D8E-47A9-AA7F-48A51E5DDD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riedades Desejáveis em LPs</a:t>
            </a:r>
            <a:r>
              <a:rPr b="0" lang="pt-BR" sz="4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Efeitos Colaterais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x = 1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retornaCinco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= x + 3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turn 5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main(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y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= retornaCinco (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= y + x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AE7-A589-434E-B656-ADBA8E5310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riedades Desejáveis em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Redigibilidad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ipos de Dados Limitados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(FORTRAN)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Ausência de Tratamento de Exceções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flito Ocasional com Legibilidad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id f(char *q, char *p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 (;*q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p; q++,p++);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749-5672-41C7-8F2B-B0584838B0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Propriedades Desejáveis em LPs</a:t>
            </a:r>
            <a:endParaRPr b="0" lang="en-US" sz="4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Confiabilidade</a:t>
            </a:r>
            <a:r>
              <a:rPr b="0" lang="pt-BR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Declaração de Tipos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olean u = tru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 v = 0; 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(u &amp;&amp; v &lt; 9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u + 2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 (v == 6) u = false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Tratamento de Exceções</a:t>
            </a:r>
            <a:r>
              <a:rPr b="0" lang="pt-BR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06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06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a[i]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06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 catch (IndexOutofBoundsException) {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06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.out.println(“Erro de Indexação”);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D03-813F-4086-89F5-2639060164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23:32:25Z</dcterms:created>
  <dc:creator>adriana</dc:creator>
  <dc:description/>
  <dc:language>en-US</dc:language>
  <cp:lastModifiedBy>Flávio Miguel Varejão</cp:lastModifiedBy>
  <dcterms:modified xsi:type="dcterms:W3CDTF">2004-08-10T09:30:02Z</dcterms:modified>
  <cp:revision>176</cp:revision>
  <dc:subject/>
  <dc:title>Curso de Qualidade 2004 - SBC</dc:title>
</cp:coreProperties>
</file>