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CA6-F0A6-483A-BBD1-E6BD999B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AE9-65FB-4F7A-BB11-AC121A0C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09E-6AC2-4688-95C1-DD81C2E9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4FD-92E6-45A1-B80C-B7BE0EF3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1355-0EB1-4518-8499-BFAD19FA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AE8C-F387-4B9F-8918-7DA6F62F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9B79-F487-47EE-9AE8-C18A9B23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6534-D2F4-4800-BFE6-B9C354A6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71FE-259E-47CD-BB76-E6F83A99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F1AB-0467-4FCA-B658-B7A8AF93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D40C-4A77-4DE7-945C-81A83F57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8FC-28D8-4DFA-9598-38CC9748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5215-C288-49E9-AD78-B60F68CD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AA0F-0C47-40D2-87F8-4E4DE34A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264E-6E3F-4D0B-B670-5014F07F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3727-9681-44E6-B4A9-E31F5601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71DD-26B6-434D-8C70-63FD69BD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9B4-B158-426F-BDF8-81252573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75E-2C4A-455B-833E-449C8696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C49-D664-4C9A-92EB-535A670D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B36-49F4-476B-890E-FF4C800B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FB0-B3A4-4BB7-9E2A-20FAEE52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A07-C771-4ABE-9703-365F53FC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DE2-812B-4002-A8D8-C90AE3AB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95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Expressões e Com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294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9B6E-8526-4E56-AC4D-1CDC29C6FC34}" type="slidenum"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C7EE-433E-48B1-9EE4-662FC4D71D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onceitos e Técnic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Expressões e Comandos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</a:rPr>
              <a:t>Prof.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Express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hamadas de Funçõ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do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=&gt;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me da fun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ndos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=&gt;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arâmetr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sultado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=&gt;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torn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a funçã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hamada Condicional de Função em ML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 taxa =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f difPgVenc &gt; 0 then desconto else multa) (difPgVenc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C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uble (*p)(double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 = difPgVenc &lt; 0 ? desconto: mult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xa = (*p) (difPgVenc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165-0C48-4AA8-AA06-F4D285301C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Express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dores das LPs denotam funçõ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9480" y="2666880"/>
            <a:ext cx="7696080" cy="2689200"/>
            <a:chOff x="609480" y="2666880"/>
            <a:chExt cx="7696080" cy="2689200"/>
          </a:xfrm>
        </p:grpSpPr>
        <p:grpSp>
          <p:nvGrpSpPr>
            <p:cNvPr id="107" name=""/>
            <p:cNvGrpSpPr/>
            <p:nvPr/>
          </p:nvGrpSpPr>
          <p:grpSpPr>
            <a:xfrm>
              <a:off x="616680" y="2671560"/>
              <a:ext cx="7680240" cy="2679840"/>
              <a:chOff x="616680" y="2671560"/>
              <a:chExt cx="7680240" cy="267984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16680" y="2671560"/>
                <a:ext cx="3814200" cy="669960"/>
                <a:chOff x="616680" y="2671560"/>
                <a:chExt cx="3814200" cy="6699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87960" y="2671560"/>
                  <a:ext cx="36716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Expressã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6680" y="2671560"/>
                  <a:ext cx="38142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431240" y="2671560"/>
                <a:ext cx="3865680" cy="669960"/>
                <a:chOff x="4431240" y="2671560"/>
                <a:chExt cx="3865680" cy="6699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502880" y="2671560"/>
                  <a:ext cx="37220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Representação Prefix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431240" y="2671560"/>
                  <a:ext cx="386568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16680" y="3341520"/>
                <a:ext cx="3814200" cy="669960"/>
                <a:chOff x="616680" y="3341520"/>
                <a:chExt cx="3814200" cy="6699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87960" y="3341520"/>
                  <a:ext cx="36716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a * 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16680" y="3341520"/>
                  <a:ext cx="38142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431240" y="3341520"/>
                <a:ext cx="3865680" cy="669960"/>
                <a:chOff x="4431240" y="3341520"/>
                <a:chExt cx="3865680" cy="6699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502880" y="3341520"/>
                  <a:ext cx="37220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* (a , b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431240" y="3341520"/>
                  <a:ext cx="386568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616680" y="4011480"/>
                <a:ext cx="3814200" cy="669960"/>
                <a:chOff x="616680" y="4011480"/>
                <a:chExt cx="3814200" cy="669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87960" y="4011480"/>
                  <a:ext cx="36716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c / 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16680" y="4011480"/>
                  <a:ext cx="38142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431240" y="4011480"/>
                <a:ext cx="3865680" cy="669960"/>
                <a:chOff x="4431240" y="4011480"/>
                <a:chExt cx="3865680" cy="6699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502880" y="4011480"/>
                  <a:ext cx="37220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/ (c , d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431240" y="4011480"/>
                  <a:ext cx="386568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16680" y="4681440"/>
                <a:ext cx="3814200" cy="669960"/>
                <a:chOff x="616680" y="4681440"/>
                <a:chExt cx="3814200" cy="6699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87960" y="4681440"/>
                  <a:ext cx="36716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a * b + c / d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16680" y="4681440"/>
                  <a:ext cx="38142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31240" y="4681440"/>
                <a:ext cx="3865680" cy="669960"/>
                <a:chOff x="4431240" y="4681440"/>
                <a:chExt cx="3865680" cy="6699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02880" y="4681440"/>
                  <a:ext cx="37220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+ (* (a , b) , / (c , d)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31240" y="4681440"/>
                  <a:ext cx="386568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609480" y="2666880"/>
              <a:ext cx="7696080" cy="268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680-3DD9-479E-9510-71CBBB9D99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Express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gumas 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sinaturas de Operadore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2514600"/>
            <a:ext cx="7848360" cy="2590920"/>
            <a:chOff x="609480" y="2514600"/>
            <a:chExt cx="7848360" cy="2590920"/>
          </a:xfrm>
        </p:grpSpPr>
        <p:grpSp>
          <p:nvGrpSpPr>
            <p:cNvPr id="136" name=""/>
            <p:cNvGrpSpPr/>
            <p:nvPr/>
          </p:nvGrpSpPr>
          <p:grpSpPr>
            <a:xfrm>
              <a:off x="618120" y="2517840"/>
              <a:ext cx="7829640" cy="2583720"/>
              <a:chOff x="618120" y="2517840"/>
              <a:chExt cx="7829640" cy="258372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618120" y="2517840"/>
                <a:ext cx="2663640" cy="482040"/>
                <a:chOff x="618120" y="2517840"/>
                <a:chExt cx="2663640" cy="48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700200" y="2517840"/>
                  <a:ext cx="2498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Operad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18120" y="2517840"/>
                  <a:ext cx="266364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282120" y="2517840"/>
                <a:ext cx="5165640" cy="482040"/>
                <a:chOff x="3282120" y="2517840"/>
                <a:chExt cx="5165640" cy="48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364200" y="2517840"/>
                  <a:ext cx="5000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Assinatura da Funçã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82120" y="2517840"/>
                  <a:ext cx="516564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18120" y="2999880"/>
                <a:ext cx="2663640" cy="482040"/>
                <a:chOff x="618120" y="2999880"/>
                <a:chExt cx="2663640" cy="4820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00200" y="2999880"/>
                  <a:ext cx="2498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AU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!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18120" y="2999880"/>
                  <a:ext cx="266364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282120" y="2999880"/>
                <a:ext cx="5165640" cy="482040"/>
                <a:chOff x="3282120" y="2999880"/>
                <a:chExt cx="5165640" cy="482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64200" y="2999880"/>
                  <a:ext cx="5000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[boolean </a:t>
                  </a:r>
                  <a:r>
                    <a:rPr b="0" lang="en-US" sz="2400" spc="-1" strike="noStrike">
                      <a:solidFill>
                        <a:srgbClr val="0033cc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AU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 boolean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82120" y="2999880"/>
                  <a:ext cx="516564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18120" y="3481920"/>
                <a:ext cx="2663640" cy="482040"/>
                <a:chOff x="618120" y="3481920"/>
                <a:chExt cx="2663640" cy="482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00200" y="3481920"/>
                  <a:ext cx="2498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AU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&amp;&amp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18120" y="3481920"/>
                  <a:ext cx="266364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282120" y="3481920"/>
                <a:ext cx="5165640" cy="482040"/>
                <a:chOff x="3282120" y="3481920"/>
                <a:chExt cx="5165640" cy="4820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364200" y="3481920"/>
                  <a:ext cx="5000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[boolean x boolean </a:t>
                  </a:r>
                  <a:r>
                    <a:rPr b="0" lang="en-US" sz="2400" spc="-1" strike="noStrike">
                      <a:solidFill>
                        <a:srgbClr val="0033cc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AU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 boolean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282120" y="3481920"/>
                  <a:ext cx="5165640" cy="4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18120" y="3963960"/>
                <a:ext cx="2663640" cy="1137600"/>
                <a:chOff x="618120" y="3963960"/>
                <a:chExt cx="2663640" cy="11376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00200" y="3963960"/>
                  <a:ext cx="2498760" cy="11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18120" y="3963960"/>
                  <a:ext cx="2663640" cy="113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82120" y="3963960"/>
                <a:ext cx="5165640" cy="1137600"/>
                <a:chOff x="3282120" y="3963960"/>
                <a:chExt cx="5165640" cy="11376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364200" y="3963960"/>
                  <a:ext cx="5000760" cy="11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[int x int </a:t>
                  </a:r>
                  <a:r>
                    <a:rPr b="0" lang="en-AU" sz="2400" spc="-1" strike="noStrike">
                      <a:solidFill>
                        <a:srgbClr val="0033cc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AU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 int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[float x float </a:t>
                  </a:r>
                  <a:r>
                    <a:rPr b="0" lang="en-AU" sz="2400" spc="-1" strike="noStrike">
                      <a:solidFill>
                        <a:srgbClr val="0033cc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AU" sz="24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 float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82120" y="3963960"/>
                  <a:ext cx="5165640" cy="113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609480" y="2514600"/>
              <a:ext cx="7848360" cy="259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FAD-9E27-4188-94B6-203CE993B9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Express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 Efeitos Colaterai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3.2 * ++c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m gerar indeterminism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= 4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 = (y = 2 * x + 1) + 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unções possibilitam a ocorrência de efeitos colaterai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getc(f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ressões cujo único objetivo é produzir efeitos colaterai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ete p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FE0-7019-40A2-A08D-0DB52BA8C8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Express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ferenciament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adas para acessar o conteúdo ou retornar referência para variáveis ou constant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q = *q + 3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 float pi = 3.1416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raio 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perimetro = 2*pi*rai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[i] = p[i + 1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q = *q +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.ano = r.ano +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-&gt;dia = s-&gt;dia +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= &amp;m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8E1-BC25-44D9-88E3-2879FCF611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ferenciament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1828800"/>
            <a:ext cx="7848360" cy="4419720"/>
            <a:chOff x="685800" y="1828800"/>
            <a:chExt cx="7848360" cy="4419720"/>
          </a:xfrm>
        </p:grpSpPr>
        <p:grpSp>
          <p:nvGrpSpPr>
            <p:cNvPr id="168" name=""/>
            <p:cNvGrpSpPr/>
            <p:nvPr/>
          </p:nvGrpSpPr>
          <p:grpSpPr>
            <a:xfrm>
              <a:off x="693360" y="1832400"/>
              <a:ext cx="7831440" cy="4411800"/>
              <a:chOff x="693360" y="1832400"/>
              <a:chExt cx="7831440" cy="44118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693360" y="1832400"/>
                <a:ext cx="2987280" cy="536400"/>
                <a:chOff x="693360" y="1832400"/>
                <a:chExt cx="2987280" cy="5364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67520" y="1832400"/>
                  <a:ext cx="283824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Operad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93360" y="1832400"/>
                  <a:ext cx="2987280" cy="53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681000" y="1832400"/>
                <a:ext cx="4843800" cy="536400"/>
                <a:chOff x="3681000" y="1832400"/>
                <a:chExt cx="4843800" cy="5364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755880" y="1832400"/>
                  <a:ext cx="469368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Significad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681000" y="1832400"/>
                  <a:ext cx="4843800" cy="53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93360" y="2368800"/>
                <a:ext cx="2987280" cy="706680"/>
                <a:chOff x="693360" y="2368800"/>
                <a:chExt cx="2987280" cy="7066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67520" y="2368800"/>
                  <a:ext cx="283824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[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93360" y="2368800"/>
                  <a:ext cx="2987280" cy="70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681000" y="2368800"/>
                <a:ext cx="4843800" cy="706680"/>
                <a:chOff x="3681000" y="2368800"/>
                <a:chExt cx="4843800" cy="706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55880" y="2368800"/>
                  <a:ext cx="469368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Acesso a valor ou retorno de referência de elemento de vetor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81000" y="2368800"/>
                  <a:ext cx="4843800" cy="70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93360" y="3075840"/>
                <a:ext cx="2987280" cy="876960"/>
                <a:chOff x="693360" y="3075840"/>
                <a:chExt cx="2987280" cy="8769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67520" y="3075840"/>
                  <a:ext cx="2838240" cy="87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93360" y="3075840"/>
                  <a:ext cx="2987280" cy="87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681000" y="3075840"/>
                <a:ext cx="4843800" cy="876960"/>
                <a:chOff x="3681000" y="3075840"/>
                <a:chExt cx="4843800" cy="8769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755880" y="3075840"/>
                  <a:ext cx="4693680" cy="87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Acesso a valor ou retorno de referência de variável ou constante apontada por ponteir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81000" y="3075840"/>
                  <a:ext cx="4843800" cy="87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93360" y="3953160"/>
                <a:ext cx="2987280" cy="706680"/>
                <a:chOff x="693360" y="3953160"/>
                <a:chExt cx="2987280" cy="7066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767520" y="3953160"/>
                  <a:ext cx="283824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93360" y="3953160"/>
                  <a:ext cx="2987280" cy="70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681000" y="3953160"/>
                <a:ext cx="4843800" cy="706680"/>
                <a:chOff x="3681000" y="3953160"/>
                <a:chExt cx="4843800" cy="7066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755880" y="3953160"/>
                  <a:ext cx="469368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Acesso a valor ou retorno de referência de elemento de estrutur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681000" y="3953160"/>
                  <a:ext cx="4843800" cy="70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93360" y="4659840"/>
                <a:ext cx="2987280" cy="877320"/>
                <a:chOff x="693360" y="4659840"/>
                <a:chExt cx="2987280" cy="8773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767520" y="4659840"/>
                  <a:ext cx="2838240" cy="87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-&gt;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93360" y="4659840"/>
                  <a:ext cx="2987280" cy="87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681000" y="4659840"/>
                <a:ext cx="4843800" cy="877320"/>
                <a:chOff x="3681000" y="4659840"/>
                <a:chExt cx="4843800" cy="8773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755880" y="4659840"/>
                  <a:ext cx="4693680" cy="87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Acesso a valor ou retorno de referência de elemento de estrutura apontada por ponteir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81000" y="4659840"/>
                  <a:ext cx="4843800" cy="87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93360" y="5537520"/>
                <a:ext cx="2987280" cy="706680"/>
                <a:chOff x="693360" y="5537520"/>
                <a:chExt cx="2987280" cy="7066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67520" y="5537520"/>
                  <a:ext cx="283824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&amp;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93360" y="5537520"/>
                  <a:ext cx="2987280" cy="70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681000" y="5537520"/>
                <a:ext cx="4843800" cy="706680"/>
                <a:chOff x="3681000" y="5537520"/>
                <a:chExt cx="4843800" cy="7066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755880" y="5537520"/>
                  <a:ext cx="469368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Retorno de referência a qualquer tipo de variável ou constan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681000" y="5537520"/>
                  <a:ext cx="4843800" cy="70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685800" y="1828800"/>
              <a:ext cx="7848360" cy="4419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9AD-A571-41FA-BC72-AA9133E6CB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Express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tegóric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alizam operações sobre tipos de da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amanho do Tip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* p = (float *) malloc (10 * sizeof (float)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c [] = {1, 2, 3, 4, 5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 = 0; i &lt; sizeof c / sizeof *c; i++) c[i]++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versão de Tip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num = 9, den = 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= (float)num/den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D34-C5B8-4834-8F71-3F53117131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ressões Categóric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dentificação de Tip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fissao p = new Engenheiro ( 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p instanceof Medico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 (“Registre-se no CRM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p instanceof Engenheiro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 (“Registre-se no CREA”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20E-9645-448B-94F9-4B7798D3E6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valiação de Expressões Compost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ecedência de Operadores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olha inadequada pode afetar a redigibi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* if a &gt; 5 and b &lt; 10 then *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a &gt; 5) and (b &lt; 10) then a := a +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sência de precedência (SMALLTALK E APL) baixa a redigibilidad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ênteses asseguram a ordem, mas reduz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redigibilidade e imped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otimizaçõe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EC8-4CB0-44BA-A7D5-C2B32AB003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valiação de Expressões Compost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ssociatividad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 Operador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dores de Mesma Precedênci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rmalmente da esquerda para a direit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a + b - c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= a &lt; b &lt; c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m existir exceções a essa regr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**p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!!x) y 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b = c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PL não tem precedência e sempre associa da direita para a esquerd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Y ÷ W – Z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7B7-099C-4D3A-BC4A-92D51E48EC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ress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a expressão é uma frase do programa que necessita ser avaliada e produz como resultado um valor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lemento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dor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nd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sultad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97B-128B-4109-B066-752B72F3FC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valiação de Expressões Compost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ssociatividad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 Operador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iladores podem otimizar, mas isso pode causar problem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f() + g() + h();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ecedência de Operandos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determinismo em expressõ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[i] = i++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resolve adotando precedência de operandos da esquerda para direit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Garante portabilidade, mas compromete eficiênci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279-B9BB-4CF3-890D-9C977A6EFA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valiação de Expressões Compost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urto Circuit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tuação Potencial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 = (x - y) * (a + b) * (c – d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ado em Expressões Boolean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[] a = new int [n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i &lt; n &amp;&amp; a[i] != v) i++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e ADA tem operadores específicos para avaliação com e sem curto circuit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EE6-63AF-4F5C-85A5-EFD62F81E3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valiação de Expressões Compost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urto Circuito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dores booleanos de C e C++ usam curto circuit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-se usar operadores binários 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&amp;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|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ois não usam curto circuit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urto circuito com efeitos colaterais reduz redigibi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b &lt; 2*c || a[i++] &gt; c ) { a[i]++; }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1B6-CC96-4685-BBF8-8D14690657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an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78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ivo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é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atualizar variáveis ou controlar o fluxo de control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racterísticos de LPs imperativ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m ser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imitivos ou Compost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astam atribuição, seleção e desvio, porém LP fica pouco expressiv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3CA-2561-42E4-802C-AD72D2A0F7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Coman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tribuiçã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= versus :=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:= !i + 1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a = 10) a += 3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mpl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b + 3 * c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últipl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b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dicional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f a &lt; b then a else b) := 2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699-4840-407D-AE6D-A137D45682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Coman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tribuiçã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ost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+= 3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*= 3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&amp;= 3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ári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+a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++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--;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ress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( ch = getchar ( ) ) !=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OF ) { printf(“%c”, ch); 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13F-DA8B-4704-B1E7-01AF0466FA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Coman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tribuiçã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ost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+= 3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*= 3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&amp;= 3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ári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+a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++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--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EA6-BF7F-4E58-BA0C-3BF95D2BE1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Coman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qüenciai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loc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+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n &lt; 5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 = n * 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916-BFA9-42F8-9C2E-CFC9CC9DC4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Coman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1885680"/>
            <a:ext cx="7010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laterai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3, a =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+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 altura = 2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largura = 3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comprimento = 5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volume = altura * largura * compriment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7A0-7EED-41C2-A495-52BBE6C28C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Coman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dicionai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leção de Caminho Condicionad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x &lt; 0) { x = y + 2; x++; 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leção de Caminho Dupl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x &lt; 0) { x = y + 2; x++; } else { x = y; x--; 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 com Marcadores</a:t>
            </a:r>
            <a:r>
              <a:rPr b="0" lang="pt-BR" sz="1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2" marL="1005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 x == 7 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005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 y == 11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005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 = 1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005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 = 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005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 z = 17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B03-DE5B-4769-8DDB-34113F8A71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ress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m ser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mpl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ost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t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efixad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: operador antes dos operan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!b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fixad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: operador entre operan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a + b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sfixad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: operador após operando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= b++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82F-1749-400D-94A1-3F7B75D932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andos Condicionai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leção de Caminho Dupl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idade de Uso d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Marcadore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 x == 7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 y == 11 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 = 1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 = 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else z = 17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AB2-D099-4B28-BC1D-79DE3E64FA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andos Condicionai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leção de Caminho Dupl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requer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cador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de final de comand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x &gt; 0 then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y &gt; 0 the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 :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i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 :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if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ABA-6765-47C9-9E6F-A09C8DBA78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andos Condicionai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leção de Caminho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últipl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witch (nota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10: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9: printf (“Muito Bom!!!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eak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8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7: printf (“Bom!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eak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6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e 5: printf (“Passou…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eak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fault: printf (“Estudar mais!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76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8CE-7FCC-4455-95C7-DBCB3E5497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andos Condicionai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minhos Múltiplos com ifs Aninhado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rendaMes &lt; 1000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 if (rendaMes &lt; 2000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 = 0.15 * (2000 - rendaMes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 = 0.275 * (rendaMes - 2000) +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15 * (2000 – rendaMes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ULA-2, ADA e FORTRAN-90 têm elsif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FF7-8E78-4004-B67C-5EBD8DFB34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Coman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601992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terativ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úmero Indefinido de Repetiçõ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é-test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=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 y &gt; 0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= f * 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--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2209680"/>
            <a:ext cx="35816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ós-t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= f *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while (y &lt;= x)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63E-58AA-457D-ADEE-1BA138A69F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andos Iterativ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4674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 com Pré-Teste e Pós-Test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é-test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n: 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anf (“%d”, &amp;n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n &gt; 0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+=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n: 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anf (“%d”, &amp;n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1676520"/>
            <a:ext cx="4114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ós-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n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anf (“%d”, &amp;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n &gt; 0) s+=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n &gt; 0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39B-BE67-47BD-B154-B06D2C4C7C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andos Iterativ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úmero Definido de Repetiçõ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MODULA-2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: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i := 10 * j TO 10 * (j + 1) BY j D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:= s +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ores 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Variável d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Controle Conhecidos Antes do Primeiro Ciclo 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ix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alização do Teste Antes da Execução do Corpo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82D-35A1-41C4-8470-32ADD37E23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úmero Definido de Repetiçõe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riação no Escopo da Variável de Control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e JAVA restringem ao corpo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ORTRAN, PASCAL e C tratam como variável ordinári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++ permite que escopo comece no comand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E77-DA44-4662-ACA9-4005B99C18E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úmero Definido de Repetiçõe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4674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ando for de C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f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 = 0; i &lt; n; i++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a[i] % 2 == 0) dif += a[i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a[i] % 3 == 0) dif -= a[i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 = 10 * j, s = 0; i &lt;= 10 * (j + 1); s += i++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 = 0, s = 0; i &lt;= n &amp;&amp; s &lt; 101 &amp;&amp; a[i] &gt; 0 ; 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+= a[i++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;;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7D3-29CF-4E96-8B80-5AE8537ECE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úmero Definido de Repetiçõe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se Restringir a Tipos Primitivos Discreto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@dias = ("Dom", "Seg", "Ter", "Qua","Qui", "Sex", "Sab"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each $dia (@dias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 $di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ia das LPs não Oferece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e C++ Oferecem Iteradores Associados a Coleçõe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2EB-CB06-476B-9FDB-0E7A5CFD8A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dor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ida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ários, binários, ternários, etc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eários: aridade variá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úmero de parâmetros variável em funções C e C++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idade elevad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duz legibilidade e redigibilidade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igem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é-existent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rmalmente unários e binário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dos pelo Programador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ormalmente funções com qualquer aridad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osição de operadores – ML e APL   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26C-99D2-4AF8-B6F4-801E1B9C25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Comand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hamada de Procediment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ivo é Atualizar Variávei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svios Incondicionais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omente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andos de Entrada e Saída Única Podem Ser Restritivos em Algumas Situaçõ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trada Única e Saídas Múltiplas é Positiv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tradas Múltiplas é Negativ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svios Irrestrito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Escape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88F-A5AE-4116-A130-3C0898BFE2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svio Irrestrit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hecido como Comando g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t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 Ser Nocivo a Boa Program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gumas LPs o Eliminaram (MODULA-2)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 Importante em Algumas Situaçõ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ambém é Usado para Propagação de Erros em LPs sem Tratamento de Exceçõ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A32-2EDA-4A84-8058-CBA7C4A9740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svio Irrestrit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É necessário em alguns caso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 got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hou = 0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 = 0; i &lt; n &amp;&amp; !achou; i++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j = 0; j &lt; n &amp;&amp; !achou; j++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 a[i] == b[j] ) achou 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achou) printf (“achou!!!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 printf (“não achou!!!”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1676520"/>
            <a:ext cx="4876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 = 0; i &lt;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j = 0; j &lt;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 a[i] == b[j]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oto sai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i &lt; n) printf (“achou!!!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 printf (“não achou!!!”)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29C-3E69-427F-9C7F-7913A660440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ap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svios Incondicionais Estruturado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Podem Criar ou Entrar em Repetiçõe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reak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(;;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n: 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anf (“%d”, &amp;n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n &lt;= 0) break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+=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2209680"/>
            <a:ext cx="4114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(i &lt; 1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n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anf (“%d”, &amp;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n &lt; 0) 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+=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BCF-0456-4EF1-BDC8-4BEAA39EE54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ap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ssociação com Iterações Rotulada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de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ú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l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e JAVA oferecem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ida: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i = 0; i &lt; n; i++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(j = 0; j &lt; n; j++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 a[i] &lt; b[j] ) continue said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 a[i] == b[j] ) break said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i &lt; n) printf (“achou!!!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 printf (“não achou!!!”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A4F-066F-4348-A45D-036C3097B48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ap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m Interromper a Execução de Subprogramas e Program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trata (int erro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erro == 0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nada a tratar!!!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(erro &lt; 0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 (“erro grave – nada a fazer!!!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it (1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erro tratado!!!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831-F1E1-40A1-B0C2-ED27C338578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ap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 Não Tem Usado got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bora seja p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avr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ervad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binação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tem sido suficient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ape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apes rotulado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tamento de Exceçõe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7A2-112E-47A3-B453-AE3125D9ACB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sidera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ica 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pobrecid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Q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ando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ão Oferece Tipos de Expressões ou Comandos Listad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ressões e Comandos Adicionais Podem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crescentar Nad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trada e Saída em COBOL e FORTRAN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sus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Chamadas de Procediment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istem Interseções entre Expressões e Comando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s Orientadas a Expressão (ALGOL-68 e ML)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 é Orientada a Expressão se Considerar Fluxo de Controle Retornando void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991-802D-4D09-AACF-67755B6CEC6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Express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terai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7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14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‘c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x43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greg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c[ ] = {1, 2, 3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data d = {1, 7, 1999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* x = {‘a’,‘b’,’c’, ‘\0’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b[6] = {0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* y = “abc”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gregação Estática e Dinâmic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int i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[] = {3 + 5, 2, 16/4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b[] = {3*i, 4*i, 5*i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c[] = {i + 2, 3 + 4, 2*i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53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E47-032A-4115-BBF9-B26565F85D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ressões de Agreg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AD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 data is record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a : integer range 1..3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s : integer range 1..1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o : integer range 1900..210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recor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versario: dat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ta_admissao: data:= (29, 9, 1989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versario :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8, 1, 2001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ta_admissao  := (dia =&gt; 5, ano =&gt; 1980, mes =&gt; 2)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32A-9342-498F-AA14-D73426979E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Express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ritmétic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num = 9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= num/6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num/6.0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– unários e binári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lacionai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sadas para comparar os valores de seus operand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oolean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alizam as operações de negação, conjunção e disjunção da álgebra de Boole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762-F43F-442D-8130-89F05DC0F8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Express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inári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j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c = 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%d\n”, ~0)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* imprime –1 *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%d\n”, j &amp; c)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* imprime   2 *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%d\n”, j | c)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* imprime 10 *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%d\n”, j ^ c)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* imprime   8 *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%d\n”, j &lt;&lt; c)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* imprime 40 *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%d\n”, j &gt;&gt; c)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* imprime   2 */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501-6FB3-460F-8923-660691A6C1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Express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dicionai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M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 c = if a &gt; b  then a - 3 else b + 5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 k = case i of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=&gt; if j &gt; 5 then j - 8 else j + 5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| 2 =&gt; 2*j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| 3 =&gt; 3*j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| _ =&gt; j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m JAV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x = x &gt; y ? x : 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  = z % 2 == 0 ? true : false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gumas LPs (tal como ADA)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oferecem expressões condicionais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– forçam o uso de comandos condicionai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x &gt; y then max := x; else max := y; end if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711-FF79-445E-9AF1-F386227A9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23:32:25Z</dcterms:created>
  <dc:creator>adriana</dc:creator>
  <dc:description/>
  <dc:language>en-US</dc:language>
  <cp:lastModifiedBy>Flávio Miguel Varejão</cp:lastModifiedBy>
  <dcterms:modified xsi:type="dcterms:W3CDTF">2004-09-20T09:55:22Z</dcterms:modified>
  <cp:revision>327</cp:revision>
  <dc:subject/>
  <dc:title>Curso de Qualidade 2004 - SBC</dc:title>
</cp:coreProperties>
</file>