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E98-FCC0-4B07-8884-76D3E278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791-BEA2-43B7-8AF2-3AF6F700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F0A-D6D2-467E-B949-ABD99CB3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11F-774C-4915-B577-F7E26C87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5343-F206-4679-95CF-60FBFBAB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2A37-E049-4D44-955B-3D9A676C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E241-67E7-4D83-9026-A965903F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86BF-AFBE-45A7-BC9B-6C688433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DB5B-080B-48FA-9877-DEEBE910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4BD7-5750-4429-8E7C-06C2F3CB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A3CA-2297-44A8-B689-B9994A3E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840-2B49-4D20-9A61-0403F397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5581-CF48-47A7-AA74-61AAA732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E1CE-C417-457B-817A-E71BC697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9DEA-5993-49D5-AE57-C7B8D7B1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47AE-3626-4F2F-893C-CFC68AFD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BBE8-9749-4B7B-A4D1-A432AA67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BAA-E679-4116-ACCF-15EBF59C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FF10-36A9-45D2-A055-40AD2909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172-175D-4AB4-A226-397221F6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176-C311-4077-B617-AE65B539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FBA7-24AD-4AAB-BCC7-1DC18202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E73-AE84-48AC-BC5D-7B7ACC89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3CB-1C01-47FB-8FBA-11891DEE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0958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Modular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2294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D813-803E-4791-8A92-BD90CC9E5887}" type="slidenum"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12EA-8D65-40DC-AFFD-FDE9B3C909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onceitos e Técnic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Modularização</a:t>
            </a: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cc"/>
                </a:solidFill>
                <a:latin typeface="Comic Sans MS"/>
              </a:rPr>
              <a:t>Prof.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bstrações de Process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bprogramas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rmitem segmentar o programa em vários blocos logicamente relacionado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rvem para reusar trechos de código que operam sobre dados diferenciado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dularizações efetuadas com base no tamanho do código possuem baixa qualida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pósito único e claro facilita legibilidade, depuração, manutenção e reu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lizaçã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4D9-8B61-416D-AF40-ECED1214FC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rspectiva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o Usuário 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 do Implementador do Subprogram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uári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teressa o que o subprograma faz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o usar é important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o faz é pouco importante ou não é important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lementador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ortante é como o subprograma realiza a funcionalidad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9B8-8463-4D6B-99F3-550A489F9E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rspectiva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o Usuário 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 do Implementador Sobre Fun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fatorial(int n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n&lt;2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else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n * fatorial (n – 1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uári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unção fatorial é mapeamento de n para n!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lementador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 de algoritmo recursivo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F5C-7D34-4E47-844F-B0F39E8D22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rspectiva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o Usuário 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 do Implementador Sobre Procediment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ordena (int numeros[50]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j, k, aux 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k = 0; k &lt; 50; k++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j = 0; j &lt; 50; j++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numeros[j] &lt; numeros[j+1]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ux = numeros[j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umeros[j] = numeros[j+1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umeros[j+1] = au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2514600"/>
            <a:ext cx="3352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rdenaçã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tor de intei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lemen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étodo da bolha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FEE-D425-4874-B878-60B59B8272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âmetr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altura, largura, compriment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volume () { return altura * largura * comprimento; 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a1 = 1, l1 = 2, c1 = 3, a2 = 4, l2 = 5, c2 = 6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v1, v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tura = a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rgura = l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rimento = c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1 = volum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tura = a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rgura = l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rimento = c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2 = volum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“v1: %d\nv2: %d\n”, v1, v2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05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598-D2A7-438D-A188-798C824B19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âmetr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usência reduz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digibilidad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cessário incluir operações para atribuir os valores desejados às variáveis globai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egibilidad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 chamada de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lum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existe qualquer menção à necessidade de uso dos valores das variáveis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tura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rgura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rimento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nfiabilidad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exig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que sejam atribuídos valores a todas as variáveis globais utilizadas em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lum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15B-1877-45D3-8821-C9FD109906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âmetr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solvem esses problemas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volume (int altura, int largura, int comprimento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altura * largura * compriment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a1 = 1, l1 = 2, c1 = 3, a2 = 4, c2 = 5, l2 = 6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v1, v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1 = volume(a1, l1, c1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2 = volume(a2, l2, c2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“v1: %d\nv2: %d\n”, v1, v2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426-11BE-430B-8A55-BF017541EA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âmetros Reais, Formais e Argument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âmetro formal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ntificadores listados no cabeçalho do subprograma e usados no seu corp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âmetro real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ores, identificadores ou expressões utilizados na chamada do subprogram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rgument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or passado do parâmetro real para o parâmetro formal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98EA-EA2B-477F-B8B8-C168B6627E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âmetros Reais, Formais e Argument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area (float r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3.1416 * r * 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diametro, resultad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ametro = 2.8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ultado = area (diametro/2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rrespondência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tre parâmetros reais e formai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31480" indent="-226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sicional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31480" indent="-22608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r p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avras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ave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97A-677C-4B37-8BCD-AD3717C672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rrespondência Por Palavras Chave E</a:t>
            </a:r>
            <a:r>
              <a:rPr b="0" lang="pt-BR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tre 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râmetros 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</a:t>
            </a:r>
            <a:r>
              <a:rPr b="0" lang="pt-BR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ais e 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</a:t>
            </a:r>
            <a:r>
              <a:rPr b="0" lang="pt-BR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rmais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782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palavrasChave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: integer := 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: integer :=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: integer := 5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: intege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ction multiplica(x, y, z: integer) return integer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x * y * z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multiplic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 := multiplica(z=&gt;b, x=&gt;c, y=&gt;a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palavrasChave;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FB0-9321-47BE-89FB-6914E058B1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gramação em 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oco 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nolític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viabiliza grandes sistemas de programaçã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m único programador pois não há divisão do program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dução a erros por causa da visibilidade de variáveis e fluxo de controle irrestrit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ficulta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 r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u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lização de códig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ficiência de programação passa a ser gargalo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9637-7DDD-4663-B5AA-73732A23E8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lores Default de Parâmetr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C++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soma (int a[], int inicio = 0, int fim = 7, int incr = 1)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soma 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nt i = inicio; i &lt; fim; i+=incr) soma+=a[i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som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[] pontuacao = { 9, 4, 8, 9, 5, 6, 2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ptotal, pQuaSab, pTerQui, pSegQuaSe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otal = soma(pontuacao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QuaSab = soma(pontuacao, 3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erQui = soma(pontuacao, 2, 5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SegQuaSex = soma(pontuacao, 1, 6, 2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D257-8FED-4590-8574-7E0FCB40B6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ista de Parâmetros Variável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C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include &lt;stdarg.h&gt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ou (int n, …)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_list vl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_start (vl, n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 = 0; i &lt; n; i++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va_arg (vl, int)) return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_end (vl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D74-6A5F-4DA0-AC28-D7D610DB65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ista de Parâmetros Variável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“%d\n”, ou (1, 3 &lt; 2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“%d\n”, ou (2, 3 &gt; 2, 7 &gt; 5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“%d\n”, ou (3, 1 != 1, 2 != 2, 3 != 3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“%d\n”, ou (3, 1 != 1, 2 != 2, 3 == 3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ferece maior flexibilidade à LP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duz a confiabilidade pois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é possível verificar os tipos dos parâmetros em tempo de compilaçã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CB5-7F90-41BA-9B34-5A3E83F8F2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ssagem de Parâmetr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ocesso no qual os parâmetros formais assumem seus respectivos valores durante a execução de um subprogram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z parte do processo de passagem de parâmetros a eventual atualização de valores dos parâmetros reais durante a execução do subprogram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rês Aspectos Important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reção da passagem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canismo de implementaç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mento no qual a passagem é realizad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0FAE-9110-4BC3-A5E3-CA46663E25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reção da Passagem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33520" y="1676520"/>
            <a:ext cx="8229240" cy="4657320"/>
            <a:chOff x="533520" y="1676520"/>
            <a:chExt cx="8229240" cy="4657320"/>
          </a:xfrm>
        </p:grpSpPr>
        <p:grpSp>
          <p:nvGrpSpPr>
            <p:cNvPr id="133" name=""/>
            <p:cNvGrpSpPr/>
            <p:nvPr/>
          </p:nvGrpSpPr>
          <p:grpSpPr>
            <a:xfrm>
              <a:off x="540000" y="1681560"/>
              <a:ext cx="8214840" cy="4646160"/>
              <a:chOff x="540000" y="1681560"/>
              <a:chExt cx="8214840" cy="46461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540000" y="1681560"/>
                <a:ext cx="2387520" cy="1211400"/>
                <a:chOff x="540000" y="1681560"/>
                <a:chExt cx="2387520" cy="12114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03360" y="1681560"/>
                  <a:ext cx="2260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Direção da Passage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40000" y="1681560"/>
                  <a:ext cx="2387520" cy="121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927880" y="1681560"/>
                <a:ext cx="2581920" cy="1211400"/>
                <a:chOff x="2927880" y="1681560"/>
                <a:chExt cx="2581920" cy="12114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991600" y="1681560"/>
                  <a:ext cx="245376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Forma do Parâmetro Real (R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927880" y="1681560"/>
                  <a:ext cx="2581920" cy="121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510520" y="1681560"/>
                <a:ext cx="2139120" cy="1211400"/>
                <a:chOff x="5510520" y="1681560"/>
                <a:chExt cx="2139120" cy="1211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573880" y="1681560"/>
                  <a:ext cx="20120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Atrib. do Parâm. Formal (F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510520" y="1681560"/>
                  <a:ext cx="2139120" cy="121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7650000" y="1681560"/>
                <a:ext cx="1104840" cy="1211400"/>
                <a:chOff x="7650000" y="1681560"/>
                <a:chExt cx="1104840" cy="12114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713720" y="1681560"/>
                  <a:ext cx="97740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Fluxo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650000" y="1681560"/>
                  <a:ext cx="1104840" cy="121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540000" y="2893320"/>
                <a:ext cx="2387520" cy="975960"/>
                <a:chOff x="540000" y="2893320"/>
                <a:chExt cx="2387520" cy="9759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603360" y="2893320"/>
                  <a:ext cx="2260440" cy="9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Entrada Variáv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40000" y="2893320"/>
                  <a:ext cx="2387520" cy="97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927880" y="2893320"/>
                <a:ext cx="2581920" cy="975960"/>
                <a:chOff x="2927880" y="2893320"/>
                <a:chExt cx="2581920" cy="9759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991600" y="2893320"/>
                  <a:ext cx="2453760" cy="9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Variável, Constante ou Expressã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927880" y="2893320"/>
                  <a:ext cx="2581920" cy="97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510520" y="2893320"/>
                <a:ext cx="2139120" cy="975960"/>
                <a:chOff x="5510520" y="2893320"/>
                <a:chExt cx="2139120" cy="9759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573880" y="2893320"/>
                  <a:ext cx="2012040" cy="9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Si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510520" y="2893320"/>
                  <a:ext cx="2139120" cy="97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650000" y="2893320"/>
                <a:ext cx="1104840" cy="975960"/>
                <a:chOff x="7650000" y="2893320"/>
                <a:chExt cx="1104840" cy="9759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713720" y="2893320"/>
                  <a:ext cx="977400" cy="9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R → 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50000" y="2893320"/>
                  <a:ext cx="1104840" cy="97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40000" y="3870000"/>
                <a:ext cx="2387520" cy="975600"/>
                <a:chOff x="540000" y="3870000"/>
                <a:chExt cx="2387520" cy="9756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03360" y="3870000"/>
                  <a:ext cx="2260440" cy="9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Entrada Constant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0000" y="3870000"/>
                  <a:ext cx="2387520" cy="97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927880" y="3870000"/>
                <a:ext cx="2581920" cy="975600"/>
                <a:chOff x="2927880" y="3870000"/>
                <a:chExt cx="2581920" cy="9756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991600" y="3870000"/>
                  <a:ext cx="2453760" cy="9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Variável Constante ou Expressã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927880" y="3870000"/>
                  <a:ext cx="2581920" cy="97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510520" y="3870000"/>
                <a:ext cx="2139120" cy="975600"/>
                <a:chOff x="5510520" y="3870000"/>
                <a:chExt cx="2139120" cy="9756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573880" y="3870000"/>
                  <a:ext cx="2012040" cy="9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Nã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510520" y="3870000"/>
                  <a:ext cx="2139120" cy="97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7650000" y="3870000"/>
                <a:ext cx="1104840" cy="975600"/>
                <a:chOff x="7650000" y="3870000"/>
                <a:chExt cx="1104840" cy="9756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713720" y="3870000"/>
                  <a:ext cx="977400" cy="9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R →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650000" y="3870000"/>
                  <a:ext cx="1104840" cy="97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540000" y="4846320"/>
                <a:ext cx="2387520" cy="740520"/>
                <a:chOff x="540000" y="4846320"/>
                <a:chExt cx="2387520" cy="7405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03360" y="4846320"/>
                  <a:ext cx="2260440" cy="7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Saí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40000" y="4846320"/>
                  <a:ext cx="2387520" cy="7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927880" y="4846320"/>
                <a:ext cx="2581920" cy="740520"/>
                <a:chOff x="2927880" y="4846320"/>
                <a:chExt cx="2581920" cy="7405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91600" y="4846320"/>
                  <a:ext cx="2453760" cy="7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Variáv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927880" y="4846320"/>
                  <a:ext cx="2581920" cy="7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5510520" y="4846320"/>
                <a:ext cx="2139120" cy="740520"/>
                <a:chOff x="5510520" y="4846320"/>
                <a:chExt cx="2139120" cy="7405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573880" y="4846320"/>
                  <a:ext cx="2012040" cy="7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Si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510520" y="4846320"/>
                  <a:ext cx="2139120" cy="7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7650000" y="4846320"/>
                <a:ext cx="1104840" cy="740520"/>
                <a:chOff x="7650000" y="4846320"/>
                <a:chExt cx="1104840" cy="7405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7713720" y="4846320"/>
                  <a:ext cx="977400" cy="7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R ← 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650000" y="4846320"/>
                  <a:ext cx="1104840" cy="7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40000" y="5587200"/>
                <a:ext cx="2387520" cy="740520"/>
                <a:chOff x="540000" y="5587200"/>
                <a:chExt cx="2387520" cy="7405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03360" y="5587200"/>
                  <a:ext cx="2260440" cy="7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Entrada e Saí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40000" y="5587200"/>
                  <a:ext cx="2387520" cy="7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27880" y="5587200"/>
                <a:ext cx="2581920" cy="740520"/>
                <a:chOff x="2927880" y="5587200"/>
                <a:chExt cx="2581920" cy="7405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91600" y="5587200"/>
                  <a:ext cx="2453760" cy="7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Variáv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927880" y="5587200"/>
                  <a:ext cx="2581920" cy="7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510520" y="5587200"/>
                <a:ext cx="2139120" cy="740520"/>
                <a:chOff x="5510520" y="5587200"/>
                <a:chExt cx="2139120" cy="7405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573880" y="5587200"/>
                  <a:ext cx="2012040" cy="7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Si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510520" y="5587200"/>
                  <a:ext cx="2139120" cy="7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7650000" y="5587200"/>
                <a:ext cx="1104840" cy="740520"/>
                <a:chOff x="7650000" y="5587200"/>
                <a:chExt cx="1104840" cy="7405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7713720" y="5587200"/>
                  <a:ext cx="977400" cy="7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R ↔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650000" y="5587200"/>
                  <a:ext cx="1104840" cy="7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533520" y="1676520"/>
              <a:ext cx="8229240" cy="4657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415-5DBB-43B3-9DE7-1F4DF72645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reção da Passagem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 usa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ssagem unidirecional de entrada variáve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naoTroca (int x, int y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au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ux = 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y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= au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troca (int* x, int* y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au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ux = *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x = *y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y = au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1981080"/>
            <a:ext cx="3124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a = 10, b = 2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oTroca (a, 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oca (&amp;a, &amp;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D82-06D4-4BBC-8B1E-A57EB01310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reção da Passagem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+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ambém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a unidirecional de entrada constante e bidirecional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triplica (const int x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x = 2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3*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troca (int&amp; x, int&amp; y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au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ux = 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y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= au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2438280"/>
            <a:ext cx="3124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a = 10, b = 2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 = triplica (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oca (a, 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troca (a, a + 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15ED-84BC-45ED-AF74-FB64AA3172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reção da Passagem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us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ssagem unidirecional de entrada para tipos primitivo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nidirecional de entrada ou bidirecional para tipos não primitivo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preencheVet (final int[] a, int i, final int j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i &lt;= j) a[i] = i++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j = 15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a = new int [j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BEBE-30AF-42AF-B67A-BA9A1CDD5A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reção da Passagem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DA usa unidirecional de entrada constante, unidirecional de saída e bidirecional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ction triplica (x: in integer; out erro: integer) return intege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incrementa (x: in out integer; out erro: integer)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uidado com colisões nas passagens unidirecional de saída e bidirecional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a (i, i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7EB4-37BB-4969-8EA3-FCECCE25D0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canismos de Passagem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62120" y="2362320"/>
            <a:ext cx="3352320" cy="2980800"/>
            <a:chOff x="762120" y="2362320"/>
            <a:chExt cx="3352320" cy="2980800"/>
          </a:xfrm>
        </p:grpSpPr>
        <p:sp>
          <p:nvSpPr>
            <p:cNvPr id="207" name=""/>
            <p:cNvSpPr/>
            <p:nvPr/>
          </p:nvSpPr>
          <p:spPr>
            <a:xfrm>
              <a:off x="1680480" y="3034800"/>
              <a:ext cx="2418840" cy="146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95960" y="3753360"/>
              <a:ext cx="240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680480" y="2362320"/>
              <a:ext cx="0" cy="67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4099680" y="2392560"/>
              <a:ext cx="0" cy="64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66280" y="2606760"/>
              <a:ext cx="0" cy="11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13280" y="3783960"/>
              <a:ext cx="0" cy="73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2120" y="3822120"/>
              <a:ext cx="50508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84160" y="2797920"/>
              <a:ext cx="50508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11080" y="4036320"/>
              <a:ext cx="50508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5960" y="3669480"/>
              <a:ext cx="50508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11080" y="3287160"/>
              <a:ext cx="50508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6200" y="2935800"/>
              <a:ext cx="50544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6200" y="2507400"/>
              <a:ext cx="50544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80480" y="4143240"/>
              <a:ext cx="241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95960" y="3409560"/>
              <a:ext cx="241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95960" y="2614320"/>
              <a:ext cx="24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01040" y="2614320"/>
              <a:ext cx="0" cy="18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21600" y="4097160"/>
              <a:ext cx="67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59120" y="3760920"/>
              <a:ext cx="67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52200" y="3363480"/>
              <a:ext cx="67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90080" y="3057840"/>
              <a:ext cx="67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67680" y="2660400"/>
              <a:ext cx="67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39840" y="4655520"/>
              <a:ext cx="1377720" cy="6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Cóp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572000" y="2437920"/>
            <a:ext cx="3733920" cy="2855880"/>
            <a:chOff x="4572000" y="2437920"/>
            <a:chExt cx="3733920" cy="2855880"/>
          </a:xfrm>
        </p:grpSpPr>
        <p:sp>
          <p:nvSpPr>
            <p:cNvPr id="231" name=""/>
            <p:cNvSpPr/>
            <p:nvPr/>
          </p:nvSpPr>
          <p:spPr>
            <a:xfrm>
              <a:off x="5450400" y="3082320"/>
              <a:ext cx="2313360" cy="140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65160" y="3771000"/>
              <a:ext cx="229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450400" y="2437920"/>
              <a:ext cx="0" cy="64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764120" y="2467440"/>
              <a:ext cx="0" cy="61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45560" y="2672640"/>
              <a:ext cx="0" cy="11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99040" y="3800160"/>
              <a:ext cx="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72000" y="3836880"/>
              <a:ext cx="483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89000" y="2855520"/>
              <a:ext cx="483120" cy="6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9560" y="4042080"/>
              <a:ext cx="483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65160" y="3690360"/>
              <a:ext cx="483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79560" y="3324240"/>
              <a:ext cx="483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94320" y="2987640"/>
              <a:ext cx="483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94320" y="2577240"/>
              <a:ext cx="483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50400" y="4144320"/>
              <a:ext cx="231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65160" y="3441240"/>
              <a:ext cx="231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65160" y="2679840"/>
              <a:ext cx="231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8640" y="2679840"/>
              <a:ext cx="0" cy="18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46160" y="4100400"/>
              <a:ext cx="64404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77920" y="3778200"/>
              <a:ext cx="64404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90440" y="2723760"/>
              <a:ext cx="64404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68360" y="3536640"/>
              <a:ext cx="1317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85960" y="3536640"/>
              <a:ext cx="0" cy="439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646760" y="3975840"/>
              <a:ext cx="438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68360" y="3316680"/>
              <a:ext cx="1537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05920" y="3316680"/>
              <a:ext cx="0" cy="1098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647120" y="4415400"/>
              <a:ext cx="658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70000" y="4635000"/>
              <a:ext cx="197676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Referê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3DF-1F0F-4CE8-BEB5-3E10E1EC34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cesso de Resolução de </a:t>
            </a:r>
            <a:br>
              <a:rPr sz="4000"/>
            </a:b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blemas Complexos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e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vidir para Conquistar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solução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 v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ários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oblema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os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mplex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umenta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s 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ssibilidades de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u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lizaçã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écnicas de Modularização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bjetivam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ividir para Conquistar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ornam mais fácil o entendimento do program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gmentam o program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capsulam os dados – agrupa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ados e processos logicamente relacionad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B67-F294-4E29-B259-5757AA5345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canismos de Passagem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ópi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iabiliza a passagem unidirecional de entrada variá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acilita a recuperação do estado do programa em interrupções inesperadas</a:t>
            </a:r>
            <a:r>
              <a:rPr b="0" lang="pt-BR" sz="1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ferênci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porciona semântica simples e uniforme na passagem de todos os tipo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is eficiente por não envolver cópia de dado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 ser ineficiente em implementação distribuíd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rmite a ocorrência de sinonímia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incr (int&amp; k, int&amp; l) {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 = k + 1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 = l + 1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1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ficil entender o que ocorre em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 (a[i], a[j])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quando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== j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C9E-862A-41A9-A488-D292ABF565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canismos de Passagem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 oferece apenas passagem por cópi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++ e PASCAL oferecem mecanismos de cópia e referênci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DA usa cópia para primitivos e referência para alguns tipos 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utros tipos são definidos pelo compilador e podem ser cópia ou referênci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0E9A-0CBD-454B-996A-F538FF2281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canismos de Passagem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adot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ssagem por cópia para tipos primitiv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á cópia de referência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ra tipos não primitiv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guns consideram passagem por cópia e outros por referência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ferente da passagem por referência de C++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 (T t1, T t2) {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(T&amp; t1, T&amp; t2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1 = t2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1 = t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069-E033-46B8-B50B-4232E8AB307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canismos de Passagem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ssagem unidirecional de entrada por cópia é conhecida como passagem por valor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ssagem unidirecional de entrada constante por referência equivale a por valor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m como vantagem de não demandar cópias de grandes volumes de dad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12D8-DD31-4BBB-96BC-2BC0FA04CE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mento da Passagem</a:t>
            </a:r>
            <a:r>
              <a:rPr b="1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ormal (</a:t>
            </a:r>
            <a:r>
              <a:rPr b="0" lang="pt-BR" sz="2800" spc="-1" strike="noStrike">
                <a:solidFill>
                  <a:srgbClr val="0033cc"/>
                </a:solidFill>
                <a:latin typeface="Courier New"/>
                <a:ea typeface="Courier New"/>
              </a:rPr>
              <a:t>eager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liação na chamada do subprogram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r nome (</a:t>
            </a:r>
            <a:r>
              <a:rPr b="0" lang="pt-BR" sz="2800" spc="-1" strike="noStrike">
                <a:solidFill>
                  <a:srgbClr val="0033cc"/>
                </a:solidFill>
                <a:latin typeface="Courier New"/>
                <a:ea typeface="Courier New"/>
              </a:rPr>
              <a:t>by nam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liação quando parâmetro formal é usad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eguiçosa (</a:t>
            </a:r>
            <a:r>
              <a:rPr b="0" lang="pt-BR" sz="2800" spc="-1" strike="noStrike">
                <a:solidFill>
                  <a:srgbClr val="0033cc"/>
                </a:solidFill>
                <a:latin typeface="Courier New"/>
                <a:ea typeface="Courier New"/>
              </a:rPr>
              <a:t>lazy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liação quando parâmetro formal é usado pela primeira vez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ioria das LPs (tais como, C, PASCAL, JAVA e ADA) adota modo normal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6F0-BB3A-4DAC-86E5-71AC2F07036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mento da Passagem</a:t>
            </a:r>
            <a:r>
              <a:rPr b="1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5105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caso (int x, int w, int y, int z)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x &lt; 0) return w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x &gt; 0) return y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z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o(p(), q(), r(), s()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83B-22A9-4A9C-A739-1594BA7FCF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mento da Passagem</a:t>
            </a:r>
            <a:r>
              <a:rPr b="1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26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liação normal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valiação desnecessária de funções em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o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 reduzir eficiência e flexibilidad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liação por nom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mente uma d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u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ria avaliad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blem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poderia ser avaliada duas veze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zisse efeitos colaterais (como em um iterador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liação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guiços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Ú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ica execução de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 somente uma de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ou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A95-0914-463C-9425-FFAB2B172E4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rificação de Tip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usênci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e verificação estática de tipos dos parâmetro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tarda a identificação de erros para a execução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z programas menos robusto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ioria das LPs ALGOL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Courier New"/>
              </a:rPr>
              <a:t>-lik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(PASCAL, ADA e JAVA) fazem verificação estátic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rsão original de C não requer verificação estática de tip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NSI C fornece duas maneiras de especificar os parâmetros de uma funç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É papel do programador ANSI C definir se deve ou não haver verificação estátic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D03-8A25-4E0D-9F48-14972E5D3BC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rificação de Tipos em C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include &lt;math.h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def struct coordenadas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x, y, z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oord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origem (c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 c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c.x == 0 &amp;&amp; c.y == 0 &amp;&amp; c.z =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distancia (coord c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sqrt(c.x*c.x + c.y*c.y +c.z*c.z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9F5-931A-4ABD-ACE8-B4D69965076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rificação de Tipos em C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 c = { 1, 2, 3 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“%d\n”, origem(2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“%d\n”, origem(1, 2, 3, 4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“%d\n”, origem(c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printf(“%f\n”, distancia(2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printf(“%f\n”, distancia (1, 2, 3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“%f\n”, distancia (c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iste diferença entr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()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– Aceita qualquer lista de parâmetr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(void)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– Lista de parâmetros vazi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749-1080-475D-BC10-9495FCE0619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stemas de Grande Porte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racterísticas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rande número de entidades de computação e linhas de códig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quipe de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ogramador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ódigo distribuído em vários arquivos font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veniente não recompilar partes não alteradas do program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8D70-64F3-4720-8D5F-FD09030C9C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Da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orma de modularização usada para implementar abstrações de dad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grupam dados correlacionados em uma entidade computaciona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uários enxergam o grupo de dados como um tod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se precisa saber como entidade é implementada ou armazenad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Anônim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dos exclusivamente durante a criação de variáveis e parâmetro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elem[100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top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pilhaNumeros;</a:t>
            </a:r>
            <a:r>
              <a:rPr b="0" lang="pt-BR" sz="1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855-55C1-454B-9F81-E855B664508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Da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Simple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grupa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ados relacionados em uma única entidade nomead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umenta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reusabilidade, redigibilidade, legibilidade e confiabilidad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define max 100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def struct pilha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elem[max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top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tPilh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Pilha global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BD8-2B15-47B2-A1B5-946BB4F0B98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Simpl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preenche (tPilha *p, int n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p-&gt;topo=0; p-&gt;topo &lt; n &amp;&amp; p-&gt;topo &lt; max; p-&gt;topo++)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-&gt;elem[p-&gt;topo] 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-&gt;topo––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 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Pilha a, b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enche(&amp;a, 17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enche(&amp;b, 29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enche(&amp;global, 23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BD8-ABB7-427C-9041-6A8A6F69BF6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Simpl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erações são definidas pela LP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possibilita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ocultamento de informa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sso p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judica legibilidade, confiabilidade e modificabilidade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 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Pilha 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enche(&amp;a, 1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elem[++a.topo] = 1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topo= 32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istura código da implementação com o de uso do tip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gramador pode alterar errônea e inadvertidamente a estrutura interna do tipo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teração na estrutura interna implica em alteração do código fonte usuário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CC6-8E4D-4B4B-A51A-3C9B7670B95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Abstratos de Dados (TADs)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juntos de valores com comportamento uniforme definido por operações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LPs, TADs possuem representação e operações especificadas pelo programador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 usuário do TAD utiliza sua representação e operações como uma caixa pret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sencial haver ocultamento da informação para tornar invisível a implementaçã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terface são os componentes públicos do TAD (tipicamente, operações)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701-1E3C-4587-AA5B-172832190C9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Abstratos de Da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capsulam e protegem os dad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solvem os problemas existentes com tipos simple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Quatro tipos diferentes de operações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strutor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sultor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tualizador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strutor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2EE9-0674-49A7-9EC8-63D1A476737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Abstratos de Da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57200" y="1077120"/>
            <a:ext cx="8191440" cy="4863240"/>
            <a:chOff x="457200" y="1077120"/>
            <a:chExt cx="8191440" cy="4863240"/>
          </a:xfrm>
        </p:grpSpPr>
        <p:sp>
          <p:nvSpPr>
            <p:cNvPr id="292" name=""/>
            <p:cNvSpPr/>
            <p:nvPr/>
          </p:nvSpPr>
          <p:spPr>
            <a:xfrm>
              <a:off x="457200" y="1752480"/>
              <a:ext cx="8191440" cy="418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03640" y="2023200"/>
              <a:ext cx="3787200" cy="3512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55080" y="2564280"/>
              <a:ext cx="2039760" cy="175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2131560" y="2699640"/>
              <a:ext cx="2331000" cy="2026800"/>
              <a:chOff x="2131560" y="2699640"/>
              <a:chExt cx="2331000" cy="2026800"/>
            </a:xfrm>
          </p:grpSpPr>
          <p:sp>
            <p:nvSpPr>
              <p:cNvPr id="296" name=""/>
              <p:cNvSpPr/>
              <p:nvPr/>
            </p:nvSpPr>
            <p:spPr>
              <a:xfrm>
                <a:off x="2277000" y="2834640"/>
                <a:ext cx="2040120" cy="1756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713680" y="3238920"/>
                <a:ext cx="1458000" cy="10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33cc"/>
                    </a:solidFill>
                    <a:latin typeface="Times New Roman"/>
                  </a:rPr>
                  <a:t>Dad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3005280" y="2699640"/>
                <a:ext cx="720" cy="40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42320" y="2699640"/>
                <a:ext cx="720" cy="40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3151080" y="4320360"/>
                <a:ext cx="720" cy="40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42320" y="4320360"/>
                <a:ext cx="720" cy="40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70600" y="3510000"/>
                <a:ext cx="2919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4170240" y="3915360"/>
                <a:ext cx="2923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1560" y="3510000"/>
                <a:ext cx="2919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2131560" y="3915360"/>
                <a:ext cx="2923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422800" y="2157480"/>
              <a:ext cx="189432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Operaçõ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(consultora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61840" y="3373920"/>
              <a:ext cx="189432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Operaçõ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(construtora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95200" y="4791960"/>
              <a:ext cx="233100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Operaçõ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(atualizadora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7200" y="3376800"/>
              <a:ext cx="1638000" cy="11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Operaçõ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(destrutora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481000" y="3104640"/>
              <a:ext cx="874800" cy="27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966240" y="1076400"/>
              <a:ext cx="6408720" cy="432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130840" y="1752120"/>
              <a:ext cx="4370400" cy="405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422800" y="5806080"/>
              <a:ext cx="1894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1548720" y="2634120"/>
              <a:ext cx="1748880" cy="317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1549080" y="4052160"/>
              <a:ext cx="108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64160" y="2597400"/>
              <a:ext cx="189432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Códig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Usuá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85120" y="2428560"/>
              <a:ext cx="90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T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A19-02A5-460C-97F8-43648C889A8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mulação de TADs em C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ssinaturas das Operações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ria: void → tPilh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zia: tPilha → int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pilha: tPilha x int → tPilh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sempilha: tPilha → tPilh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btemTopo: tPilha → int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33F-5A61-4F35-8FC9-E7ED1D6CA53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mulação de TADs em C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670536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define max 100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def struct pilha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elem[max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top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tPilh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Pilha cria 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Pilha p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.topo = –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p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vazia (tPilha p) {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p.topo == –1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A67-E629-4B71-B85A-24F9C599F60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mulação de TADs em C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Pilha empilha (tPilha p, int el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p.topo &lt; max–1 &amp;&amp; el &gt;= 0)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.elem[++p.topo] = el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p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Pilha desempilha (tPilha p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!vazia(p)) p.topo––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p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obtemTopo (tPilha p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!vazia(p)) return p.elem[p.topo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–1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E08-52AA-4229-AA63-DA76B21EAD9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stemas de Grande Porte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ódul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nidade que pode ser compilada separadament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pósito únic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terface apropriada com outros módul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utilizáveis e Modificávei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 conter um ou mais tipos, variáveis, constantes, funções, procediment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ve identificar claramente seu objetivo e como o ating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A31-51D1-4778-8204-B13C47886C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mulação de TADs em C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58672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Pilha global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preenche (tPilha *p, int n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 = 0; i &lt; n; i++) *p = empilha (*p, 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 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Pilha a, b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lobal = cria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= cria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 = cria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enche(&amp;a, 17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enche(&amp;b, 29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enche(&amp;global, 23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= empilha(a, 11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78B-DBED-46EE-A0C9-DCE5578C943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mulação de TADs em C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a.elem[++a.topo] = 1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a.topo= 32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global = 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isciplinado da Simula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ior legibilidad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mpare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ench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ior redigibilidad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ário não implementa operaçõe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ior modificabilidad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terações no TAD não provocam alterações no usuário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E6F-439F-4FD0-B49E-0709B59CCD1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mulação de TADs em C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promove encapsulamento das operações e dados em uma única unidade sintátic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Indisciplinado da Simulaçã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gramador pode não chamar a operação de inicializaç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gramador pode usar outras operações para acessar o TAD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sso acaba com todas as vantagens do uso de TAD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41A0-0B8C-48D7-B11B-3AE54E91503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e Interface e Implementação nos TAD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m ADA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ckage pilha_naturais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 tPilha is limited privat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cria (p: out tPilha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ction vazia (p: in tPilha) return boolean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empilha (p: in out tPilha; el: in integer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desempilha (p: in out tPilha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ction obtemTopo (p: in tPilha) return intege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x: constant integer := 10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 tPilha is record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m: array (1 .. max) of intege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po: integer;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-- topo: integer :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record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pilha_naturais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771-3F62-463E-8D41-65B50FB2841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e Interface e Implementação nos TAD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m ADA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ckage body pilha_naturais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cria (p: out tPilha)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.topo :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cri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ction vazia (p: in tPilha) return boolean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(p.topo = 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vazi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empilha (p: in out tPilha; el: in integer)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p.topo &lt; max and then el &gt;= 0 the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.topo := p.topo +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.elem(p.topo) := el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if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028F-EB39-4793-8F01-4282BB6CCD1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e Interface e Implementação nos TAD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m ADA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empilh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desempilha (p: in out tPilha)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not vazia(p) the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.topo = p.topo –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if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desempilh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ction obtemTopo (p: in tPilha) return integer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not vazia(p) the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p.elem(p.topo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–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obtemTop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pilha_naturais;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BC7-F37A-49C5-8CC0-6E58149AD7A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e Interface e Implementação nos TAD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m ADA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pilha_naturais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main 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lha: tPilh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umero: integer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ia (pilha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lha (pilha, 1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lha (pilha, 2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not vazia(pilha) loop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umero := obtemTopo(pilha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empilha(pilha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loop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main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D1F-5052-40EE-A43C-FC19A1FA33C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e Interface e Implementação nos TAD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m ADA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claração de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Pilh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como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mited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garante não aplicação de atribuição e comparação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arant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egibilidad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digibilidad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nfiabilidad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dificabilidad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blema da falta de inicialização continu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1FC-A5B2-4F75-8F53-DD8F0010A92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ADs Como Classes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erações construtoras e destrutoras especiai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tPilha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ic const int max = 10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elem[max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top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: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Pilha 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po = –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vazia 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topo == –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799-CCBD-43AD-9B27-D675E6CA894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ADs Como Classes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66294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empilha (int el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desempilha (void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obtemTopo (void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tPilha::empilha (int el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topo &lt; max–1 &amp;&amp; el &gt;= 0)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m[++topo] = el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tPilha::desempilha (void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!vazia()) topo––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AC3-8664-4196-AFBD-6D7A6B7715C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bstra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undamental para a Modularização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leção do que deve ser representado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ssibilita o trabalho em níveis de implementação e uso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isseminado na Computação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004-396D-458C-BFCC-8370FE1459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ADs Como Classes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7816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 tPilha::obtemTopo (void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!this-&gt;vazia()) return elem[topo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–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 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Pilha p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n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.empilha (1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.empilha (2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! p.vazia ()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= p.obtemTopo 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.desempilha 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4A8-8F5E-4AEE-9499-F6D43A2675D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ADs Como Classes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trutura de dados privada e operações da interface pública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o operador de resolução de escop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ntaxe diferenciada com parâmetro implícito na definição e chamad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m haver vários construtores sempre chamados antes de qualquer outra operação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Pilha* i = new tPilha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1A8-38F2-4FED-974B-A21C48129EE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ADs Como Classes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strutores default e por cópia e a operação de atribuiçã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Pilha p1, p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Pilha p3 = p1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construtor de copi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3 = p2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operador de atribuica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strutor de cópia é importante em C++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 implícito na passagem por cópia e retorno de funçã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unção destrutora única em C++ (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~tPilh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)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C8F7-E66B-494C-B863-7778E86C549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ADs Como Class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mbros de class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lavra reservada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ic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ecedendo método ou atribut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tributo de clas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artilhado por todos objetos da clas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étodo de clas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 ser chamado independentemente da existência de um objeto da clas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 ser chamado pela própria classe ou pelos objetos da clas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057-4B22-459D-8225-01CC5D99E2C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ADs Como Class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JAVA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a’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cessi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e definição de construtor de cópia e operador de atribuiçã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precisa de função destrutor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alguns casos pode ser necessária uma função de finalização chamada explicitamente após o fim do uso do objet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D10-7D81-4CE3-AA96-882062DB27E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cot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ó subprogramas e tipos não são suficientes para sistemas de grande port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ódigo com baixa granularidad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ssibilidade de conflito entre fontes de códig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ontes de código são coleções de entidades reu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liz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áveis de computaçã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bliotec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licações utilitári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Courier New"/>
              </a:rPr>
              <a:t>F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Courier New"/>
              </a:rPr>
              <a:t>ramework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licações completa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4AA-BE7D-4FE9-AB54-40676637EC2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cot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cotes agrupam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tidades de computação (exportáveis ou não)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ados para organizar as fontes de informação e para resolver os conflitos de nome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DA possui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ckag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ckage body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cotes em C++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junto de definições embutidas em uma entidade nomead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759-07D2-41E0-92E7-D574354450E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cotes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mespace umaBibliotec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x = 1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() {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tC {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ova definição adiciona mais entidades 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aBibliotec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mespace umaBiblioteca {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nao eh redefinicao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g() {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int x = 13;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EFE-D891-4026-AFBE-78B6192FD70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cotes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cotes podem usar nomes já definidos em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utr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mespace outraBibliotec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x = 1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h(){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erador de resolução de escopo resolve conflit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aBiblioteca::y = 2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aBiblioteca::f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aBiblioteca::x = 5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traBiblioteca::x = 5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traBiblioteca::h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524-674C-4916-9549-7D618157237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cotes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É possível renomear o pacot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mespace bib1 = umaBibliotec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mespace bib2 = outraBibliotec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ib1::y = 2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ib1::x = 5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ib2::x = 5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ib2::h(){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845-5C6F-44EC-A97F-F2A694FBB9A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bstra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emplos de uso na computa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andos do S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ssembler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P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grama de Reserv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do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P é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bstração sobre o hardwar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P oferece mecanismos para o programador criar suas abstraçõe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 segundo modo fundamenta a Modularizaç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550-AE79-4924-B2F9-4A4194B23C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cotes em C++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É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possível evitar o uso repetitivo do operador de resolução de escop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ing namespace umaBibliotec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ing namespace outraBibliotec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= 2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(){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x = 5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aBiblioteca::x = 5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traBiblioteca::x = 5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iblioteca padrão de C++ usa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mespace std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8BC-53A2-4E06-B6AB-5F027244323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cotes em JAV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njunto de classes relacionada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ckage umPacot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umaClasse {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outraClasse {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as classes do pacot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Pacote.umaClasse m = new umPacote.umaClass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ort umPacote.*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aClasse m = new umaClasse(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ort umPacote.umaClasse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BE77-A5EF-4BDC-9D67-833F4AFBD2C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cotes em JAV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lação de pacotes com a organização de arquivos em diretóri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ovo especificador de acesso relacionado com pacotes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ckage umPacot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class umaClasse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 int y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int z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A62-9511-4210-AB87-91A0BB8C725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cotes em JAVA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outraClasse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aClasse a = new umaClasse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a.y = 1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z = 15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x = 2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vita o uso de operações públicas quando só construtor do pacote precisa ter acess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39A-3760-48FB-B803-33231468A07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dularização, Arquivos e Compilação Separada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o de arquivo único causa problema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dação e modificação se tornam mais difícei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utilização apenas com processo de copiar e colar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visão do código em arquivos separados com entidades relacionada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iblioteca de arquivos .c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rquivos funcionam como índice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utilização através de inclus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cessidade de recompilação de todo o código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45A-B26F-467A-8CCC-FEF3569C7DA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dularização, Arquivos e Compilação Separada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ilação Separada de Arquivo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igação para gerar executáve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rda da verificação de tip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a c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amada de funçõe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as o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erações sobre variáveis externa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ternativa é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ern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e C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é suficientemente genérica pois não contempla tipo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047-8FA9-49D9-B7BB-E4CEF0D2E8C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dularização, Arquivos e Compilação Separada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terface e implementaçã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terface define o que é exportável (arquivo .h)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lementação define o específico (arquivo .c)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rquivos de implementação contêm a parte pesada da compilaç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vo meio de ocultamento de informaç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uito usado para construir TAD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terface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: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claração do tipo e das operaçõe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lementação: definição dos tipos e das operações, além de entidades auxiliares</a:t>
            </a:r>
            <a:r>
              <a:rPr b="0" lang="pt-BR" sz="1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194-D91E-4653-8E07-E5FDCCABFF2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dularização, Arquivos e Compilação Separada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AD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, ADA e C++ requerem a definição do tipo na interfac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 é mais grave pois estrutura interna do TAD é públic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DA e C++ possibilitam o ocultamento da estrutura interna, mesmo na interfac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cessidade de recompilar o código usuário após alteração da estrutura interna do TAD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419-A452-46B5-A5B0-74F2D8CCD03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dularização, Arquivos e Compilação Separada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 Opaco de MODULA-2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nteiros utilizados na interface para designar tipo na implementaçã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otótipos das operações do TAD se referem apenas ao tipo opac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pede o uso inconsistente do TAD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teração somente quando protótipos das operações são modificad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paço para um ponteiro no código usuário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 exclusivo de operações do TAD no código usuário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C9B-5DE6-4028-AEAB-72C4E458883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dularização, Arquivos e Compilação Separada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blema com Tipo Opaco de MODULA-2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rça o uso de ponteiros e alocação dinâmic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duz redigibilidade e legibilidade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rd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ficiência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 execuçã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deria ter implementação mais transparent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não requer recompilação de código usuário quando interface permanec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 de referências para objet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letor de Lix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usa arquivo único com interface e implementação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B99-9D17-4634-B9FB-BB1AA260C6A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bstração e Modulariza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oco na distinção entre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que uma parte do programa faz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oco do programador que usa a abstra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mo isso é implementado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co do programador que implementa a abstra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E94-17BF-457B-9FC7-E72373C2F4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ntagens da Modularização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elhoria da legibilidad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visão lógica do programa em unidades funcionai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paração do código de implementação do código de uso da abstração 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primoramento da redigibilidad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is fácil escrever código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vários módulos do que em um módulo únic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umento da modificabilidad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teração no módulo é localizada e não impacta código usuári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C19-917D-411B-AF69-9BD8D954D3D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ntagens da Modularização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cremento da reusabilidad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ódulo pode ser usado sempre que sua funcionalidade é requerid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umento da produtividade de programaçã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ilação separad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visão em equipe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ior confiabilidad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rificação independente e extensiva dos módulos antes do us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D4E-BC69-44D2-85AB-6034896DB3A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ntagens da Modularização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porte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 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écnicas de desenvolvimento de software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rientadas a funcionalidades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(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Courier New"/>
              </a:rPr>
              <a:t>top-down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Courier New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 de subprograma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rientadas a dados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(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Courier New"/>
              </a:rPr>
              <a:t>bottom-up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Courier New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 de tipo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lementaridade dessas técnica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148-E112-4C4F-B671-0E2C56FC1A6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Abstra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bstrações de Processo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bstrações sobre o fluxo de controle do program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uprogramas – funções da biblioteca padrão de C (</a:t>
            </a:r>
            <a:r>
              <a:rPr b="0" i="1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intf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bstrações de Dado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bstrações sobre as estruturas de dados do program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Dados – tipos da biblioteca padrão de C (</a:t>
            </a:r>
            <a:r>
              <a:rPr b="0" i="1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IL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) 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A72-A6DE-4736-9633-4A2B736219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23:32:25Z</dcterms:created>
  <dc:creator>adriana</dc:creator>
  <dc:description/>
  <dc:language>en-US</dc:language>
  <cp:lastModifiedBy>Flávio Miguel Varejão</cp:lastModifiedBy>
  <dcterms:modified xsi:type="dcterms:W3CDTF">2004-09-20T10:02:59Z</dcterms:modified>
  <cp:revision>466</cp:revision>
  <dc:subject/>
  <dc:title>Curso de Qualidade 2004 - SBC</dc:title>
</cp:coreProperties>
</file>