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A11-D0A5-4DFB-9A2D-845A7F38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877-4A13-4CD5-B3FE-391C42A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55C-9DDE-4C0D-8BEC-2E7D29B3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498-7231-4C74-8612-1551ABA1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86AF-1B12-4449-9453-F60B24B4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A0D-E675-4054-960F-4C5A633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2485-E642-4148-ACD8-21FD014C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7CEA-3D25-4F51-B974-8C32E236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EBC2-7F40-4B8E-BB58-A9A29B6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C00-CA19-473C-A83C-83BDEEC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D84-CFE2-4584-ADC1-9B3B53B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195-FE62-479F-9D02-B1984EA3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2DA3-C4BE-4DBA-9BA9-46AB9B4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03F5-3463-4584-BB84-6B3E4DA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175-82AE-4340-B06A-E2C50DA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27E8-8EC6-4C18-9475-0DC7E0C2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B25D-50D1-4BED-8ACB-8F42E719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749-ECF4-41B5-91E0-C2EC2D2D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951-A284-4694-9D80-3C88427A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50F-E894-448F-8A49-E2DB8428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59D-68F6-4DEA-9192-1C0233A9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4E0-EFA2-4426-B29D-73F424D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E49-E7FD-4B92-812B-CA1FD1E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287-0547-443D-931F-6495B83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Avaliação de L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A752-6CAC-4A99-8AE4-60B1FD4A849A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061-E0DF-4C20-8971-D4DC9B39A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Avaliação de Linguagen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ritérios de Comparaçã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3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uldade para defini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úmeras possibilidad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ranular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pendência do contex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CE5-FC4A-4201-BF02-45FE0D4068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ns Critérios Ger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lic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i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acilidade de Aprendizad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t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porte ao Método de Proje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oluti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us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gração com outros softwa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us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D1F-3321-4AA6-9277-4832B3A958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ns Critérios Específ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 e Coman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Primitivos e Compost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enciamento de Memór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istência de D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Parâmetr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capsulamento e Prote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537-3EA9-4C10-8FAC-B54FFCC43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ns Critérios Específ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 de Tip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limorfism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orrênc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897-04E1-4264-8D41-DAD9DC2C4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ações entre LP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uldade para realiza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existe uma LP melhor que outr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pende do contexto de us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pende do critério avalia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ações refletem visão do aut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264-789D-4F71-8D0B-52B60EFFC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ação entre C, C++ e JAV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1676520"/>
            <a:ext cx="8533800" cy="4724280"/>
            <a:chOff x="304920" y="1676520"/>
            <a:chExt cx="8533800" cy="4724280"/>
          </a:xfrm>
        </p:grpSpPr>
        <p:grpSp>
          <p:nvGrpSpPr>
            <p:cNvPr id="98" name=""/>
            <p:cNvGrpSpPr/>
            <p:nvPr/>
          </p:nvGrpSpPr>
          <p:grpSpPr>
            <a:xfrm>
              <a:off x="311760" y="1679040"/>
              <a:ext cx="8518680" cy="4718160"/>
              <a:chOff x="311760" y="1679040"/>
              <a:chExt cx="8518680" cy="47181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311760" y="1679040"/>
                <a:ext cx="2128680" cy="379440"/>
                <a:chOff x="311760" y="1679040"/>
                <a:chExt cx="2128680" cy="379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77640" y="167904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ritérios Gera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11760" y="16790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440800" y="1679040"/>
                <a:ext cx="2128680" cy="379440"/>
                <a:chOff x="2440800" y="1679040"/>
                <a:chExt cx="2128680" cy="3794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07040" y="16790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440800" y="16790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570200" y="1679040"/>
                <a:ext cx="2128680" cy="379440"/>
                <a:chOff x="4570200" y="1679040"/>
                <a:chExt cx="2128680" cy="379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636440" y="16790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+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70200" y="16790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699240" y="1679040"/>
                <a:ext cx="2131200" cy="379440"/>
                <a:chOff x="6699240" y="1679040"/>
                <a:chExt cx="2131200" cy="3794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765480" y="167904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JAV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699240" y="167904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11760" y="2058480"/>
                <a:ext cx="2128680" cy="379440"/>
                <a:chOff x="311760" y="2058480"/>
                <a:chExt cx="2128680" cy="379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7640" y="205848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Aplicabil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1760" y="20584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440800" y="2058480"/>
                <a:ext cx="2128680" cy="379440"/>
                <a:chOff x="2440800" y="2058480"/>
                <a:chExt cx="2128680" cy="379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507040" y="20584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440800" y="20584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570200" y="2058480"/>
                <a:ext cx="2128680" cy="379440"/>
                <a:chOff x="4570200" y="2058480"/>
                <a:chExt cx="2128680" cy="3794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636440" y="20584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70200" y="20584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699240" y="2058480"/>
                <a:ext cx="2131200" cy="379440"/>
                <a:chOff x="6699240" y="2058480"/>
                <a:chExt cx="2131200" cy="379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765480" y="205848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99240" y="205848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11760" y="2438280"/>
                <a:ext cx="2128680" cy="379440"/>
                <a:chOff x="311760" y="2438280"/>
                <a:chExt cx="2128680" cy="3794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77640" y="243828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onfiabil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11760" y="24382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440800" y="2438280"/>
                <a:ext cx="2128680" cy="379440"/>
                <a:chOff x="2440800" y="2438280"/>
                <a:chExt cx="2128680" cy="379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507040" y="24382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40800" y="24382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570200" y="2438280"/>
                <a:ext cx="2128680" cy="379440"/>
                <a:chOff x="4570200" y="2438280"/>
                <a:chExt cx="2128680" cy="379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636440" y="24382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70200" y="24382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699240" y="2438280"/>
                <a:ext cx="2131200" cy="379440"/>
                <a:chOff x="6699240" y="2438280"/>
                <a:chExt cx="2131200" cy="379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765480" y="243828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699240" y="243828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11760" y="2818080"/>
                <a:ext cx="2128680" cy="488160"/>
                <a:chOff x="311760" y="2818080"/>
                <a:chExt cx="2128680" cy="488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77640" y="2818080"/>
                  <a:ext cx="199692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Aprendiz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1760" y="2818080"/>
                  <a:ext cx="212868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440800" y="2818080"/>
                <a:ext cx="2128680" cy="488160"/>
                <a:chOff x="2440800" y="2818080"/>
                <a:chExt cx="2128680" cy="488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507040" y="2818080"/>
                  <a:ext cx="199620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440800" y="2818080"/>
                  <a:ext cx="212868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570200" y="2818080"/>
                <a:ext cx="2128680" cy="488160"/>
                <a:chOff x="4570200" y="2818080"/>
                <a:chExt cx="2128680" cy="488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636440" y="2818080"/>
                  <a:ext cx="199620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0200" y="2818080"/>
                  <a:ext cx="212868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699240" y="2818080"/>
                <a:ext cx="2131200" cy="488160"/>
                <a:chOff x="6699240" y="2818080"/>
                <a:chExt cx="2131200" cy="488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765480" y="2818080"/>
                  <a:ext cx="199872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699240" y="2818080"/>
                  <a:ext cx="213120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11760" y="3306240"/>
                <a:ext cx="2128680" cy="379440"/>
                <a:chOff x="311760" y="3306240"/>
                <a:chExt cx="2128680" cy="379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77640" y="330624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ficiê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11760" y="33062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440800" y="3306240"/>
                <a:ext cx="2128680" cy="379440"/>
                <a:chOff x="2440800" y="3306240"/>
                <a:chExt cx="2128680" cy="3794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07040" y="33062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440800" y="33062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570200" y="3306240"/>
                <a:ext cx="2128680" cy="379440"/>
                <a:chOff x="4570200" y="3306240"/>
                <a:chExt cx="2128680" cy="379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636440" y="33062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70200" y="33062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699240" y="3306240"/>
                <a:ext cx="2131200" cy="379440"/>
                <a:chOff x="6699240" y="3306240"/>
                <a:chExt cx="2131200" cy="379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765480" y="330624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99240" y="330624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11760" y="3685680"/>
                <a:ext cx="2128680" cy="379440"/>
                <a:chOff x="311760" y="3685680"/>
                <a:chExt cx="2128680" cy="379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77640" y="368568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ortabil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11760" y="36856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40800" y="3685680"/>
                <a:ext cx="2128680" cy="379440"/>
                <a:chOff x="2440800" y="3685680"/>
                <a:chExt cx="2128680" cy="379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07040" y="36856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40800" y="36856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570200" y="3685680"/>
                <a:ext cx="2128680" cy="379440"/>
                <a:chOff x="4570200" y="3685680"/>
                <a:chExt cx="2128680" cy="379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636440" y="368568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70200" y="368568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699240" y="3685680"/>
                <a:ext cx="2131200" cy="379440"/>
                <a:chOff x="6699240" y="3685680"/>
                <a:chExt cx="2131200" cy="379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765480" y="368568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699240" y="368568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11760" y="4065480"/>
                <a:ext cx="2128680" cy="596160"/>
                <a:chOff x="311760" y="4065480"/>
                <a:chExt cx="2128680" cy="5961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77640" y="4065480"/>
                  <a:ext cx="19969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Método de Proje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11760" y="406548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440800" y="4065480"/>
                <a:ext cx="2128680" cy="596160"/>
                <a:chOff x="2440800" y="4065480"/>
                <a:chExt cx="2128680" cy="596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507040" y="4065480"/>
                  <a:ext cx="199620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trutur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40800" y="406548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570200" y="4065480"/>
                <a:ext cx="2128680" cy="596160"/>
                <a:chOff x="4570200" y="4065480"/>
                <a:chExt cx="2128680" cy="596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636440" y="4065480"/>
                  <a:ext cx="199620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truturado e O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70200" y="406548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699240" y="4065480"/>
                <a:ext cx="2131200" cy="596160"/>
                <a:chOff x="6699240" y="4065480"/>
                <a:chExt cx="2131200" cy="596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65480" y="4065480"/>
                  <a:ext cx="19987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O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699240" y="4065480"/>
                  <a:ext cx="213120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1760" y="4662000"/>
                <a:ext cx="2128680" cy="379440"/>
                <a:chOff x="311760" y="4662000"/>
                <a:chExt cx="2128680" cy="379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77640" y="466200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volutibil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1760" y="466200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440800" y="4662000"/>
                <a:ext cx="2128680" cy="379440"/>
                <a:chOff x="2440800" y="4662000"/>
                <a:chExt cx="2128680" cy="3794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507040" y="466200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40800" y="466200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570200" y="4662000"/>
                <a:ext cx="2128680" cy="379440"/>
                <a:chOff x="4570200" y="4662000"/>
                <a:chExt cx="2128680" cy="3794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36440" y="466200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70200" y="466200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699240" y="4662000"/>
                <a:ext cx="2131200" cy="379440"/>
                <a:chOff x="6699240" y="4662000"/>
                <a:chExt cx="2131200" cy="3794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765480" y="466200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99240" y="466200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11760" y="5041440"/>
                <a:ext cx="2128680" cy="379440"/>
                <a:chOff x="311760" y="5041440"/>
                <a:chExt cx="2128680" cy="379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77640" y="5041440"/>
                  <a:ext cx="19969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Reusabil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1760" y="50414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40800" y="5041440"/>
                <a:ext cx="2128680" cy="379440"/>
                <a:chOff x="2440800" y="5041440"/>
                <a:chExt cx="2128680" cy="379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07040" y="50414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40800" y="50414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570200" y="5041440"/>
                <a:ext cx="2128680" cy="379440"/>
                <a:chOff x="4570200" y="5041440"/>
                <a:chExt cx="2128680" cy="379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636440" y="5041440"/>
                  <a:ext cx="199620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70200" y="5041440"/>
                  <a:ext cx="212868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699240" y="5041440"/>
                <a:ext cx="2131200" cy="379440"/>
                <a:chOff x="6699240" y="5041440"/>
                <a:chExt cx="2131200" cy="3794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765480" y="5041440"/>
                  <a:ext cx="1998720" cy="3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99240" y="5041440"/>
                  <a:ext cx="2131200" cy="3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1760" y="5421240"/>
                <a:ext cx="2128680" cy="379800"/>
                <a:chOff x="311760" y="5421240"/>
                <a:chExt cx="2128680" cy="3798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7640" y="5421240"/>
                  <a:ext cx="199692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Integr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1760" y="5421240"/>
                  <a:ext cx="212868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440800" y="5421240"/>
                <a:ext cx="2128680" cy="379800"/>
                <a:chOff x="2440800" y="5421240"/>
                <a:chExt cx="2128680" cy="379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507040" y="5421240"/>
                  <a:ext cx="19962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40800" y="5421240"/>
                  <a:ext cx="212868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70200" y="5421240"/>
                <a:ext cx="2128680" cy="379800"/>
                <a:chOff x="4570200" y="5421240"/>
                <a:chExt cx="2128680" cy="3798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636440" y="5421240"/>
                  <a:ext cx="19962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70200" y="5421240"/>
                  <a:ext cx="212868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699240" y="5421240"/>
                <a:ext cx="2131200" cy="379800"/>
                <a:chOff x="6699240" y="5421240"/>
                <a:chExt cx="2131200" cy="3798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765480" y="5421240"/>
                  <a:ext cx="199872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699240" y="5421240"/>
                  <a:ext cx="213120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1760" y="5801040"/>
                <a:ext cx="2128680" cy="596160"/>
                <a:chOff x="311760" y="5801040"/>
                <a:chExt cx="2128680" cy="596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77640" y="5801040"/>
                  <a:ext cx="19969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us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1760" y="580104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440800" y="5801040"/>
                <a:ext cx="2128680" cy="596160"/>
                <a:chOff x="2440800" y="5801040"/>
                <a:chExt cx="2128680" cy="596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507040" y="5801040"/>
                  <a:ext cx="199620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Dependente da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Ferramen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40800" y="580104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570200" y="5801040"/>
                <a:ext cx="2128680" cy="596160"/>
                <a:chOff x="4570200" y="5801040"/>
                <a:chExt cx="2128680" cy="5961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636440" y="5801040"/>
                  <a:ext cx="199620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Dependente da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Ferramen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570200" y="5801040"/>
                  <a:ext cx="212868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99240" y="5801040"/>
                <a:ext cx="2131200" cy="596160"/>
                <a:chOff x="6699240" y="5801040"/>
                <a:chExt cx="2131200" cy="5961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65480" y="5801040"/>
                  <a:ext cx="19987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Dependente da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Ferramen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99240" y="5801040"/>
                  <a:ext cx="2131200" cy="59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304920" y="1676520"/>
              <a:ext cx="853380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CF7-7B36-4539-A3FF-1F93402B7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ação entre C, C++ e JAV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80880" y="1828800"/>
            <a:ext cx="8457840" cy="4419720"/>
            <a:chOff x="380880" y="1828800"/>
            <a:chExt cx="8457840" cy="4419720"/>
          </a:xfrm>
        </p:grpSpPr>
        <p:grpSp>
          <p:nvGrpSpPr>
            <p:cNvPr id="234" name=""/>
            <p:cNvGrpSpPr/>
            <p:nvPr/>
          </p:nvGrpSpPr>
          <p:grpSpPr>
            <a:xfrm>
              <a:off x="387720" y="1829880"/>
              <a:ext cx="8443440" cy="4414320"/>
              <a:chOff x="387720" y="1829880"/>
              <a:chExt cx="8443440" cy="44143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387720" y="1829880"/>
                <a:ext cx="2109960" cy="1341360"/>
                <a:chOff x="387720" y="1829880"/>
                <a:chExt cx="2109960" cy="13413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50720" y="1829880"/>
                  <a:ext cx="1981080" cy="1341360"/>
                  <a:chOff x="450720" y="1829880"/>
                  <a:chExt cx="1981080" cy="13413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50720" y="1829880"/>
                    <a:ext cx="1981080" cy="59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Comic Sans MS"/>
                        <a:ea typeface="Times New Roman"/>
                      </a:rPr>
                      <a:t>Critérios Específic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50720" y="2301120"/>
                    <a:ext cx="1981080" cy="87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387720" y="1832400"/>
                  <a:ext cx="2109960" cy="103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498040" y="1832400"/>
                <a:ext cx="2109960" cy="1031040"/>
                <a:chOff x="2498040" y="1832400"/>
                <a:chExt cx="2109960" cy="1031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563560" y="1832400"/>
                  <a:ext cx="197892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498040" y="1832400"/>
                  <a:ext cx="2109960" cy="10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08360" y="1832400"/>
                <a:ext cx="2109960" cy="1031040"/>
                <a:chOff x="4608360" y="1832400"/>
                <a:chExt cx="2109960" cy="1031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673880" y="1832400"/>
                  <a:ext cx="197892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+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08360" y="1832400"/>
                  <a:ext cx="2109960" cy="10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718680" y="1832400"/>
                <a:ext cx="2112480" cy="1031040"/>
                <a:chOff x="6718680" y="1832400"/>
                <a:chExt cx="2112480" cy="10310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784200" y="1832400"/>
                  <a:ext cx="1981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JAV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718680" y="1832400"/>
                  <a:ext cx="2112480" cy="10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87720" y="2863440"/>
                <a:ext cx="2109960" cy="503640"/>
                <a:chOff x="387720" y="2863440"/>
                <a:chExt cx="2109960" cy="5036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52880" y="2863440"/>
                  <a:ext cx="197928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co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87720" y="2863440"/>
                  <a:ext cx="2109960" cy="50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498040" y="2863440"/>
                <a:ext cx="2109960" cy="503640"/>
                <a:chOff x="2498040" y="2863440"/>
                <a:chExt cx="2109960" cy="503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63560" y="2863440"/>
                  <a:ext cx="19789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98040" y="2863440"/>
                  <a:ext cx="2109960" cy="50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608360" y="2863440"/>
                <a:ext cx="2109960" cy="503640"/>
                <a:chOff x="4608360" y="2863440"/>
                <a:chExt cx="2109960" cy="503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673880" y="2863440"/>
                  <a:ext cx="19789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608360" y="2863440"/>
                  <a:ext cx="2109960" cy="50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718680" y="2863440"/>
                <a:ext cx="2112480" cy="503640"/>
                <a:chOff x="6718680" y="2863440"/>
                <a:chExt cx="2112480" cy="5036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784200" y="2863440"/>
                  <a:ext cx="198144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18680" y="2863440"/>
                  <a:ext cx="2112480" cy="50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87720" y="3367080"/>
                <a:ext cx="2109960" cy="647280"/>
                <a:chOff x="387720" y="3367080"/>
                <a:chExt cx="2109960" cy="647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52880" y="3367080"/>
                  <a:ext cx="197928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xpressões e Coman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87720" y="336708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498040" y="3367080"/>
                <a:ext cx="2109960" cy="647280"/>
                <a:chOff x="2498040" y="3367080"/>
                <a:chExt cx="2109960" cy="647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563560" y="3367080"/>
                  <a:ext cx="19789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498040" y="336708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608360" y="3367080"/>
                <a:ext cx="2109960" cy="647280"/>
                <a:chOff x="4608360" y="3367080"/>
                <a:chExt cx="2109960" cy="647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673880" y="3367080"/>
                  <a:ext cx="19789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08360" y="336708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718680" y="3367080"/>
                <a:ext cx="2112480" cy="647280"/>
                <a:chOff x="6718680" y="3367080"/>
                <a:chExt cx="2112480" cy="647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784200" y="3367080"/>
                  <a:ext cx="19814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18680" y="3367080"/>
                  <a:ext cx="211248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87720" y="4014720"/>
                <a:ext cx="2109960" cy="647640"/>
                <a:chOff x="387720" y="4014720"/>
                <a:chExt cx="2109960" cy="647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52880" y="4014720"/>
                  <a:ext cx="197928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Tipos Primitivos e Compos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7720" y="4014720"/>
                  <a:ext cx="210996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498040" y="4014720"/>
                <a:ext cx="2109960" cy="647640"/>
                <a:chOff x="2498040" y="4014720"/>
                <a:chExt cx="2109960" cy="647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563560" y="4014720"/>
                  <a:ext cx="197892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98040" y="4014720"/>
                  <a:ext cx="210996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608360" y="4014720"/>
                <a:ext cx="2109960" cy="647640"/>
                <a:chOff x="4608360" y="4014720"/>
                <a:chExt cx="2109960" cy="6476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673880" y="4014720"/>
                  <a:ext cx="197892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08360" y="4014720"/>
                  <a:ext cx="210996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18680" y="4014720"/>
                <a:ext cx="2112480" cy="647640"/>
                <a:chOff x="6718680" y="4014720"/>
                <a:chExt cx="2112480" cy="647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84200" y="4014720"/>
                  <a:ext cx="198144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18680" y="4014720"/>
                  <a:ext cx="211248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87720" y="4662360"/>
                <a:ext cx="2109960" cy="647280"/>
                <a:chOff x="387720" y="4662360"/>
                <a:chExt cx="2109960" cy="647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52880" y="4662360"/>
                  <a:ext cx="197928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Gerenciamento de Memó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87720" y="466236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498040" y="4662360"/>
                <a:ext cx="2109960" cy="647280"/>
                <a:chOff x="2498040" y="4662360"/>
                <a:chExt cx="2109960" cy="647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563560" y="4662360"/>
                  <a:ext cx="19789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rogram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98040" y="466236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608360" y="4662360"/>
                <a:ext cx="2109960" cy="647280"/>
                <a:chOff x="4608360" y="4662360"/>
                <a:chExt cx="2109960" cy="647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673880" y="4662360"/>
                  <a:ext cx="197892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rogram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08360" y="4662360"/>
                  <a:ext cx="210996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18680" y="4662360"/>
                <a:ext cx="2112480" cy="647280"/>
                <a:chOff x="6718680" y="4662360"/>
                <a:chExt cx="2112480" cy="647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84200" y="4662360"/>
                  <a:ext cx="198144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stem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18680" y="4662360"/>
                  <a:ext cx="211248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87720" y="5309640"/>
                <a:ext cx="2109960" cy="934560"/>
                <a:chOff x="387720" y="5309640"/>
                <a:chExt cx="2109960" cy="934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52880" y="5309640"/>
                  <a:ext cx="1979280" cy="9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ersistência de D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87720" y="5309640"/>
                  <a:ext cx="210996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498040" y="5309640"/>
                <a:ext cx="2109960" cy="934560"/>
                <a:chOff x="2498040" y="5309640"/>
                <a:chExt cx="2109960" cy="9345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563560" y="5309640"/>
                  <a:ext cx="1978920" cy="9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Biblioteca de Funçõ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498040" y="5309640"/>
                  <a:ext cx="210996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608360" y="5309640"/>
                <a:ext cx="2109960" cy="934560"/>
                <a:chOff x="4608360" y="5309640"/>
                <a:chExt cx="2109960" cy="9345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673880" y="5309640"/>
                  <a:ext cx="1978920" cy="9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Biblioteca de Classes e Funçõ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608360" y="5309640"/>
                  <a:ext cx="210996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18680" y="5309640"/>
                <a:ext cx="2112480" cy="934560"/>
                <a:chOff x="6718680" y="5309640"/>
                <a:chExt cx="2112480" cy="9345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84200" y="5309640"/>
                  <a:ext cx="1981440" cy="9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JDBC, Biblioteca de Classes e Serializ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18680" y="5309640"/>
                  <a:ext cx="2112480" cy="93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380880" y="1828800"/>
              <a:ext cx="8457840" cy="441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536-F295-48FF-82AD-1F314C628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ação entre C, C++ e JAV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1752480"/>
            <a:ext cx="8610120" cy="4496040"/>
            <a:chOff x="228600" y="1752480"/>
            <a:chExt cx="8610120" cy="4496040"/>
          </a:xfrm>
        </p:grpSpPr>
        <p:grpSp>
          <p:nvGrpSpPr>
            <p:cNvPr id="312" name=""/>
            <p:cNvGrpSpPr/>
            <p:nvPr/>
          </p:nvGrpSpPr>
          <p:grpSpPr>
            <a:xfrm>
              <a:off x="235440" y="1755720"/>
              <a:ext cx="8595360" cy="4488840"/>
              <a:chOff x="235440" y="1755720"/>
              <a:chExt cx="8595360" cy="44888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35440" y="1755720"/>
                <a:ext cx="2147760" cy="1105560"/>
                <a:chOff x="235440" y="1755720"/>
                <a:chExt cx="2147760" cy="1105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1680" y="1755720"/>
                  <a:ext cx="2014920" cy="110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ssagem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de Parâmetr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35440" y="1755720"/>
                  <a:ext cx="2147760" cy="110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383560" y="1755720"/>
                <a:ext cx="2147760" cy="1105560"/>
                <a:chOff x="2383560" y="1755720"/>
                <a:chExt cx="2147760" cy="1105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450520" y="1755720"/>
                  <a:ext cx="2014200" cy="110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Lista variável e por val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383560" y="1755720"/>
                  <a:ext cx="2147760" cy="110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531680" y="1755720"/>
                <a:ext cx="2147760" cy="1105560"/>
                <a:chOff x="4531680" y="1755720"/>
                <a:chExt cx="2147760" cy="1105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598640" y="1755720"/>
                  <a:ext cx="2014200" cy="110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Lista variável, </a:t>
                  </a: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Courier New"/>
                    </a:rPr>
                    <a:t>default</a:t>
                  </a: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, por valor e por referê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31680" y="1755720"/>
                  <a:ext cx="2147760" cy="110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6680160" y="1755720"/>
                <a:ext cx="2150640" cy="1105560"/>
                <a:chOff x="6680160" y="1755720"/>
                <a:chExt cx="2150640" cy="11055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747120" y="1755720"/>
                  <a:ext cx="2017080" cy="110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or valor e por cópia de referência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80160" y="1755720"/>
                  <a:ext cx="2150640" cy="110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35440" y="2861280"/>
                <a:ext cx="2147760" cy="585360"/>
                <a:chOff x="235440" y="2861280"/>
                <a:chExt cx="2147760" cy="5853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01680" y="2861280"/>
                  <a:ext cx="201492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ncapsulamento e Prote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35440" y="286128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383560" y="2861280"/>
                <a:ext cx="2147760" cy="585360"/>
                <a:chOff x="2383560" y="2861280"/>
                <a:chExt cx="2147760" cy="5853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450520" y="2861280"/>
                  <a:ext cx="2014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383560" y="286128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31680" y="2861280"/>
                <a:ext cx="2147760" cy="585360"/>
                <a:chOff x="4531680" y="2861280"/>
                <a:chExt cx="2147760" cy="5853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598640" y="2861280"/>
                  <a:ext cx="2014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31680" y="286128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680160" y="2861280"/>
                <a:ext cx="2150640" cy="585360"/>
                <a:chOff x="6680160" y="2861280"/>
                <a:chExt cx="2150640" cy="5853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747120" y="2861280"/>
                  <a:ext cx="2017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680160" y="2861280"/>
                  <a:ext cx="215064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235440" y="3446640"/>
                <a:ext cx="2147760" cy="455400"/>
                <a:chOff x="235440" y="3446640"/>
                <a:chExt cx="2147760" cy="455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1680" y="3446640"/>
                  <a:ext cx="20149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st. de Ti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35440" y="344664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383560" y="3446640"/>
                <a:ext cx="2147760" cy="455400"/>
                <a:chOff x="2383560" y="3446640"/>
                <a:chExt cx="2147760" cy="455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450520" y="344664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83560" y="344664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531680" y="3446640"/>
                <a:ext cx="2147760" cy="455400"/>
                <a:chOff x="4531680" y="3446640"/>
                <a:chExt cx="2147760" cy="455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598640" y="344664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31680" y="344664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680160" y="3446640"/>
                <a:ext cx="2150640" cy="455400"/>
                <a:chOff x="6680160" y="3446640"/>
                <a:chExt cx="2150640" cy="4554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747120" y="3446640"/>
                  <a:ext cx="20170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80160" y="3446640"/>
                  <a:ext cx="2150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5440" y="3902400"/>
                <a:ext cx="2147760" cy="585360"/>
                <a:chOff x="235440" y="3902400"/>
                <a:chExt cx="2147760" cy="585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01680" y="3902400"/>
                  <a:ext cx="201492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Verificação d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Tip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5440" y="390240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383560" y="3902400"/>
                <a:ext cx="2147760" cy="585360"/>
                <a:chOff x="2383560" y="3902400"/>
                <a:chExt cx="2147760" cy="585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450520" y="3902400"/>
                  <a:ext cx="2014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tá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83560" y="390240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531680" y="3902400"/>
                <a:ext cx="2147760" cy="585360"/>
                <a:chOff x="4531680" y="3902400"/>
                <a:chExt cx="2147760" cy="5853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598640" y="3902400"/>
                  <a:ext cx="201420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tática Dinâ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31680" y="3902400"/>
                  <a:ext cx="214776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80160" y="3902400"/>
                <a:ext cx="2150640" cy="585360"/>
                <a:chOff x="6680160" y="3902400"/>
                <a:chExt cx="2150640" cy="5853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747120" y="3902400"/>
                  <a:ext cx="20170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stática Dinâ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0160" y="3902400"/>
                  <a:ext cx="2150640" cy="58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35440" y="4487760"/>
                <a:ext cx="2147760" cy="845640"/>
                <a:chOff x="235440" y="4487760"/>
                <a:chExt cx="2147760" cy="8456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1680" y="4487760"/>
                  <a:ext cx="2014920" cy="84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olimorf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35440" y="4487760"/>
                  <a:ext cx="2147760" cy="84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383560" y="4487760"/>
                <a:ext cx="2147760" cy="845640"/>
                <a:chOff x="2383560" y="4487760"/>
                <a:chExt cx="2147760" cy="8456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450520" y="4487760"/>
                  <a:ext cx="2014200" cy="84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oerção e Sobrecarg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83560" y="4487760"/>
                  <a:ext cx="2147760" cy="84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531680" y="4487760"/>
                <a:ext cx="2147760" cy="845640"/>
                <a:chOff x="4531680" y="4487760"/>
                <a:chExt cx="2147760" cy="8456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598640" y="4487760"/>
                  <a:ext cx="2014200" cy="84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To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31680" y="4487760"/>
                  <a:ext cx="2147760" cy="84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80160" y="4487760"/>
                <a:ext cx="2150640" cy="845640"/>
                <a:chOff x="6680160" y="4487760"/>
                <a:chExt cx="2150640" cy="8456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747120" y="4487760"/>
                  <a:ext cx="2017080" cy="84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oerção, Sobrecarga e Inclus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80160" y="4487760"/>
                  <a:ext cx="2150640" cy="84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35440" y="5333760"/>
                <a:ext cx="2147760" cy="455400"/>
                <a:chOff x="235440" y="5333760"/>
                <a:chExt cx="2147760" cy="4554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01680" y="5333760"/>
                  <a:ext cx="20149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xceçõ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35440" y="53337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383560" y="5333760"/>
                <a:ext cx="2147760" cy="455400"/>
                <a:chOff x="2383560" y="5333760"/>
                <a:chExt cx="2147760" cy="4554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450520" y="533376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83560" y="53337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531680" y="5333760"/>
                <a:ext cx="2147760" cy="455400"/>
                <a:chOff x="4531680" y="5333760"/>
                <a:chExt cx="2147760" cy="4554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598640" y="533376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Par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531680" y="53337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680160" y="5333760"/>
                <a:ext cx="2150640" cy="455400"/>
                <a:chOff x="6680160" y="5333760"/>
                <a:chExt cx="2150640" cy="4554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747120" y="5333760"/>
                  <a:ext cx="20170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80160" y="5333760"/>
                  <a:ext cx="2150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235440" y="5789160"/>
                <a:ext cx="2147760" cy="455400"/>
                <a:chOff x="235440" y="5789160"/>
                <a:chExt cx="2147760" cy="4554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01680" y="5789160"/>
                  <a:ext cx="20149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Concorrê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35440" y="57891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383560" y="5789160"/>
                <a:ext cx="2147760" cy="455400"/>
                <a:chOff x="2383560" y="5789160"/>
                <a:chExt cx="2147760" cy="4554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450520" y="578916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83560" y="57891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531680" y="5789160"/>
                <a:ext cx="2147760" cy="455400"/>
                <a:chOff x="4531680" y="5789160"/>
                <a:chExt cx="2147760" cy="4554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598640" y="5789160"/>
                  <a:ext cx="2014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N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531680" y="5789160"/>
                  <a:ext cx="214776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680160" y="5789160"/>
                <a:ext cx="2150640" cy="455400"/>
                <a:chOff x="6680160" y="5789160"/>
                <a:chExt cx="2150640" cy="4554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747120" y="5789160"/>
                  <a:ext cx="20170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i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80160" y="5789160"/>
                  <a:ext cx="2150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228600" y="1752480"/>
              <a:ext cx="8610120" cy="449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B76-C0E9-4CDB-A4F0-CD8671172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19T11:57:53Z</dcterms:modified>
  <cp:revision>185</cp:revision>
  <dc:subject/>
  <dc:title>Curso de Qualidade 2004 - SBC</dc:title>
</cp:coreProperties>
</file>