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705-B1D3-466A-A5B4-D36338F2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32F-3242-4EB2-81ED-1446AB0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B76-00D2-4171-89FF-9788865C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EB0-A94E-41C2-948D-F1208D64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92B1-758D-45DB-93B2-CD2CA2C6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06CC-CCF4-4080-8B79-241959D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3AD9-1279-40AC-9DD5-E3B33803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8EC-A04D-4182-9AF9-266413EE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2E3C-2CC7-49B2-B733-B6EFDCC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D59E-2BB5-4A13-B4BE-FC53E88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E385-5B1B-4B74-B084-7A74E24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EE5-93AE-45A6-BE1A-F9AE9C1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020-BB44-4066-B008-6F58D2E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B31E-28BC-4393-B407-5F8ED68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1991-B83A-4B62-B8D4-D96FA2A6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9717-0AB0-459A-B03C-17622B88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DD2-D87F-445E-BD69-309F3DBA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F6C-CC79-4FC2-9585-7C85C8D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EFD-3428-4AE7-B9A2-0747296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22C-C688-4FB2-9ED1-C18679A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120-0C1B-4CB5-8708-39CB1585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D59-8B17-499F-9F0F-90C39AA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D6C-8B4B-49B7-B71B-370B924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C86-84DC-4D0F-81DA-F614AAA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Valores e Tipo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A26-EC90-4891-8FA8-E9905E1547F5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885-26AC-4162-8860-2B6511A031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Valores e Tipos de Dado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Enumerad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PASCAL, ADA, C e C++ permitem que o programador defina novos tipos primitivos através da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enumer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identificadore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os valores do novo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um mes_letivo {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, abr, mai, jun, ago, set, out, no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um mes_letivo m1, m2;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uem correspondência direta com intervalos de tipos inteiros e podem ser usados para indexar vetores e para contadores de repeti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 legibilidade e confiabilidade do códig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não inclui o tipo enumerado de C e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921-53CB-452F-9768-B9F273FBA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Intervalo de Intei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Arial"/>
                <a:ea typeface="Arial"/>
              </a:rPr>
              <a:t>Em PASCAL e ADA, também é possível definir tipos intervalo de inteir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meses = 1 .. 1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Arial"/>
                <a:ea typeface="Arial"/>
              </a:rPr>
              <a:t>Tipos intervalos herdam as operações dos inteiro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4AC-F8E0-468F-9711-B68FE24869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Compos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54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Tipos compostos são aqueles que podem ser criados a partir de tipos mais simpl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registros, vetores, listas, arquiv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Entendidos em termos dos conceit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produto cartesiano, uniões, mapeamentos, conjuntos potência e tipos recursiv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dina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 valores distintos que fazem parte do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273-D40F-41CD-8C6C-2AA1C81E2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 Cartesian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Combinação de valores de tipo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iferentes em tupl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3048120"/>
            <a:ext cx="7620120" cy="2133360"/>
            <a:chOff x="838080" y="3048120"/>
            <a:chExt cx="7620120" cy="2133360"/>
          </a:xfrm>
        </p:grpSpPr>
        <p:sp>
          <p:nvSpPr>
            <p:cNvPr id="210" name=""/>
            <p:cNvSpPr/>
            <p:nvPr/>
          </p:nvSpPr>
          <p:spPr>
            <a:xfrm>
              <a:off x="838080" y="3048120"/>
              <a:ext cx="7620120" cy="21333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6840" y="3657600"/>
              <a:ext cx="1589400" cy="568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         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59000" y="3653280"/>
              <a:ext cx="1589400" cy="5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     d    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1160" y="3353400"/>
              <a:ext cx="2914200" cy="1255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b,c)      (b,d)      (b,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a,c)      (a,d)      (a,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7520" y="4226040"/>
              <a:ext cx="4744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5560" y="4226040"/>
              <a:ext cx="4744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2320" y="4607640"/>
              <a:ext cx="861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 x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07C-B71D-4FB0-B93E-B5C2329251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 Cartesian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São produtos cartesiano os registros de PASCAL, MODULA 2, ADA e COBOL e as estruturas de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nom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primeiro [2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meio [1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sobrenome [2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empregad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nome nfun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alar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mp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F46-A4F1-493E-81BA-3B419EF19D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o Cartesian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selet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.nfunc.meio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icialização em 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{ int d, m, a; }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d = { 7, 9, 1999 }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LPs orientadas a objetos, produtos cartesianos são definidos a partir do conceito de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só tem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rdina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#(S1 x S2 x ... x Sn) = #S1x #S2x ...x #S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93C-28F4-439E-B159-2910D311B2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iste na união de valores de tipos distintos para formar um novo tipo de d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95280" y="3048120"/>
            <a:ext cx="6553080" cy="2133000"/>
            <a:chOff x="1295280" y="3048120"/>
            <a:chExt cx="6553080" cy="2133000"/>
          </a:xfrm>
        </p:grpSpPr>
        <p:sp>
          <p:nvSpPr>
            <p:cNvPr id="224" name=""/>
            <p:cNvSpPr/>
            <p:nvPr/>
          </p:nvSpPr>
          <p:spPr>
            <a:xfrm>
              <a:off x="1295280" y="3048120"/>
              <a:ext cx="6548400" cy="212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7400" y="3755520"/>
              <a:ext cx="1378440" cy="707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     b    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3400" y="3755520"/>
              <a:ext cx="1378440" cy="688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     c    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6960" y="3668400"/>
              <a:ext cx="1659240" cy="707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    b    c    d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2120" y="4182120"/>
              <a:ext cx="42336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93080" y="4250520"/>
              <a:ext cx="4233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6400" y="4385880"/>
              <a:ext cx="83196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 +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7AF-ADC3-49FD-BA0F-6EA1000088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ões Liv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haver interseção entre o conjunto de valores dos tipos que formam a uni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á possibilidade de violação no sistema de tip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on medid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entimetros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metr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i="1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3581280"/>
            <a:ext cx="457200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on medida medi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altu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dicao.centimetros=1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ura = medicao.metr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\n altura : %f metros\n", f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09E-3192-4EA8-848A-25F21FCFC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ões Disjunt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há interseção entre o conjunto de valores dos tipos que formam a uniã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gistros variantes de PASCAL, MODULA 2 e ADA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union de ALGOL 68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Representacao = (decimal, fracionari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ero = RECORD CASE Tag: Representacao OF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imal: (val: REAL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cionaria: (numerador, denominador: INTEG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dinalidad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#(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+ 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+ ... + 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= #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+ #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..  + #S</a:t>
            </a:r>
            <a:r>
              <a:rPr b="0" lang="en-US" sz="2000" spc="-1" strike="noStrike" baseline="-30000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27F-5D3B-4CD3-90D0-97C5450439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peamen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s de dados cujo conjunto de valores corresponde a todos os possíveis mapeamentos de um tipo de dados S em outro T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dinalidade: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#(S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) = (#T)</a:t>
            </a:r>
            <a:r>
              <a:rPr b="0" lang="pt-BR" sz="24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#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81080" y="3124080"/>
            <a:ext cx="5227920" cy="1962000"/>
            <a:chOff x="1981080" y="3124080"/>
            <a:chExt cx="5227920" cy="1962000"/>
          </a:xfrm>
        </p:grpSpPr>
        <p:sp>
          <p:nvSpPr>
            <p:cNvPr id="239" name=""/>
            <p:cNvSpPr/>
            <p:nvPr/>
          </p:nvSpPr>
          <p:spPr>
            <a:xfrm>
              <a:off x="1981080" y="3124080"/>
              <a:ext cx="5227920" cy="19591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6680" y="3459600"/>
              <a:ext cx="326520" cy="108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4760" y="3350880"/>
              <a:ext cx="326520" cy="130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21560" y="3459600"/>
              <a:ext cx="326520" cy="108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47000" y="3353760"/>
              <a:ext cx="326520" cy="130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36280" y="3131280"/>
              <a:ext cx="0" cy="19548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61480" y="3548520"/>
              <a:ext cx="108900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75160" y="4392360"/>
              <a:ext cx="1057320" cy="10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7760" y="3648600"/>
              <a:ext cx="1102680" cy="79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35040" y="4419720"/>
              <a:ext cx="1125360" cy="8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93440" y="4496760"/>
              <a:ext cx="38988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27880" y="4596480"/>
              <a:ext cx="3902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8680" y="4510440"/>
              <a:ext cx="3898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64800" y="4614840"/>
              <a:ext cx="3902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C10-21F7-4859-AB08-FAC54B420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u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     2.5     'a'     “Paulo”     0x1F     026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{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ru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'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“azul”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} não corresponde a um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{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ru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ls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} corresponde a um tip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24E-FE85-4AD1-B1B6-837B18EC9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peamentos Fini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6765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njunto domínio é fin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 e matr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ay  S  OF  T;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S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: array [1.50] of char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: ([1,50]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char)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índice deve ser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 u="sng">
                <a:solidFill>
                  <a:srgbClr val="0033cc"/>
                </a:solidFill>
                <a:uFillTx/>
                <a:latin typeface="Comic Sans MS"/>
                <a:ea typeface="Times New Roman"/>
              </a:rPr>
              <a:t>finito e 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Índices em C e JAV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[7]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[13] = 19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3733920"/>
            <a:ext cx="6400800" cy="612360"/>
            <a:chOff x="990720" y="3733920"/>
            <a:chExt cx="6400800" cy="612360"/>
          </a:xfrm>
        </p:grpSpPr>
        <p:sp>
          <p:nvSpPr>
            <p:cNvPr id="257" name=""/>
            <p:cNvSpPr/>
            <p:nvPr/>
          </p:nvSpPr>
          <p:spPr>
            <a:xfrm>
              <a:off x="995400" y="3748680"/>
              <a:ext cx="6266160" cy="2836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    z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    r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s                                      …                              f     h     w 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720" y="3997800"/>
              <a:ext cx="64008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1    2    3     4     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…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47   48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284840" y="3733920"/>
              <a:ext cx="0" cy="29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594080" y="3743280"/>
              <a:ext cx="0" cy="2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13400" y="3733920"/>
              <a:ext cx="0" cy="29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232720" y="374328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562120" y="3733920"/>
              <a:ext cx="0" cy="29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957360" y="374328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643080" y="374328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333840" y="375300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999400" y="375300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5B9-657B-4216-A1E4-C054872E40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tegorias de Vetore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8600" y="1828800"/>
            <a:ext cx="8762760" cy="4267080"/>
            <a:chOff x="228600" y="1828800"/>
            <a:chExt cx="8762760" cy="4267080"/>
          </a:xfrm>
        </p:grpSpPr>
        <p:grpSp>
          <p:nvGrpSpPr>
            <p:cNvPr id="270" name=""/>
            <p:cNvGrpSpPr/>
            <p:nvPr/>
          </p:nvGrpSpPr>
          <p:grpSpPr>
            <a:xfrm>
              <a:off x="235440" y="1832760"/>
              <a:ext cx="8747640" cy="4258080"/>
              <a:chOff x="235440" y="1832760"/>
              <a:chExt cx="8747640" cy="42580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35440" y="1832760"/>
                <a:ext cx="1437120" cy="960120"/>
                <a:chOff x="235440" y="1832760"/>
                <a:chExt cx="1437120" cy="960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01680" y="1832760"/>
                  <a:ext cx="130356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ategoria de Ve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5440" y="1832760"/>
                  <a:ext cx="143712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672920" y="1832760"/>
                <a:ext cx="1324440" cy="960120"/>
                <a:chOff x="1672920" y="1832760"/>
                <a:chExt cx="1324440" cy="960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739160" y="1832760"/>
                  <a:ext cx="119124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Tamanh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672920" y="1832760"/>
                  <a:ext cx="132444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997720" y="1832760"/>
                <a:ext cx="1486800" cy="960120"/>
                <a:chOff x="2997720" y="1832760"/>
                <a:chExt cx="1486800" cy="96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064680" y="1832760"/>
                  <a:ext cx="135324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Tempo de Defini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997720" y="1832760"/>
                  <a:ext cx="148680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485240" y="1832760"/>
                <a:ext cx="1351080" cy="960120"/>
                <a:chOff x="4485240" y="1832760"/>
                <a:chExt cx="1351080" cy="96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552200" y="1832760"/>
                  <a:ext cx="121752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loc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85240" y="1832760"/>
                  <a:ext cx="135108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836680" y="1832760"/>
                <a:ext cx="1351080" cy="960120"/>
                <a:chOff x="5836680" y="1832760"/>
                <a:chExt cx="1351080" cy="96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903640" y="1832760"/>
                  <a:ext cx="121752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Local de Aloc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36680" y="1832760"/>
                  <a:ext cx="135108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88120" y="1832760"/>
                <a:ext cx="1794960" cy="960120"/>
                <a:chOff x="7188120" y="1832760"/>
                <a:chExt cx="1794960" cy="96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5080" y="1832760"/>
                  <a:ext cx="166140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empl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88120" y="1832760"/>
                  <a:ext cx="179496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35440" y="2792880"/>
                <a:ext cx="1437120" cy="779040"/>
                <a:chOff x="235440" y="2792880"/>
                <a:chExt cx="1437120" cy="779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01680" y="2792880"/>
                  <a:ext cx="13035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stát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5440" y="2792880"/>
                  <a:ext cx="143712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1672920" y="2792880"/>
                <a:ext cx="1324440" cy="779040"/>
                <a:chOff x="1672920" y="2792880"/>
                <a:chExt cx="1324440" cy="779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739160" y="2792880"/>
                  <a:ext cx="119124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ix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672920" y="2792880"/>
                  <a:ext cx="132444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997720" y="2792880"/>
                <a:ext cx="1486800" cy="779040"/>
                <a:chOff x="2997720" y="2792880"/>
                <a:chExt cx="1486800" cy="779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4680" y="2792880"/>
                  <a:ext cx="135324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ompil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997720" y="2792880"/>
                  <a:ext cx="148680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85240" y="2792880"/>
                <a:ext cx="1351080" cy="779040"/>
                <a:chOff x="4485240" y="2792880"/>
                <a:chExt cx="1351080" cy="779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52200" y="2792880"/>
                  <a:ext cx="121752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stá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85240" y="2792880"/>
                  <a:ext cx="13510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836680" y="2792880"/>
                <a:ext cx="1351080" cy="779040"/>
                <a:chOff x="5836680" y="2792880"/>
                <a:chExt cx="1351080" cy="779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903640" y="2792880"/>
                  <a:ext cx="121752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B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836680" y="2792880"/>
                  <a:ext cx="13510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188120" y="2792880"/>
                <a:ext cx="1794960" cy="779040"/>
                <a:chOff x="7188120" y="2792880"/>
                <a:chExt cx="1794960" cy="7790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255080" y="2792880"/>
                  <a:ext cx="16614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ORTRAN 7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188120" y="2792880"/>
                  <a:ext cx="1794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35440" y="3571920"/>
                <a:ext cx="1437120" cy="779400"/>
                <a:chOff x="235440" y="3571920"/>
                <a:chExt cx="1437120" cy="779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01680" y="3571920"/>
                  <a:ext cx="13035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emi-Estát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35440" y="3571920"/>
                  <a:ext cx="143712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672920" y="3571920"/>
                <a:ext cx="1324440" cy="779400"/>
                <a:chOff x="1672920" y="3571920"/>
                <a:chExt cx="1324440" cy="7794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739160" y="3571920"/>
                  <a:ext cx="119124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ix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72920" y="3571920"/>
                  <a:ext cx="132444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997720" y="3571920"/>
                <a:ext cx="1486800" cy="779400"/>
                <a:chOff x="2997720" y="3571920"/>
                <a:chExt cx="1486800" cy="779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64680" y="3571920"/>
                  <a:ext cx="135324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ompil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997720" y="3571920"/>
                  <a:ext cx="148680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485240" y="3571920"/>
                <a:ext cx="1351080" cy="779400"/>
                <a:chOff x="4485240" y="3571920"/>
                <a:chExt cx="1351080" cy="779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552200" y="3571920"/>
                  <a:ext cx="12175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Dinâ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485240" y="3571920"/>
                  <a:ext cx="13510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836680" y="3571920"/>
                <a:ext cx="1351080" cy="779400"/>
                <a:chOff x="5836680" y="3571920"/>
                <a:chExt cx="1351080" cy="779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903640" y="3571920"/>
                  <a:ext cx="12175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ilh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36680" y="3571920"/>
                  <a:ext cx="13510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188120" y="3571920"/>
                <a:ext cx="1794960" cy="779400"/>
                <a:chOff x="7188120" y="3571920"/>
                <a:chExt cx="1794960" cy="779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255080" y="3571920"/>
                  <a:ext cx="16614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ASCAL, C, MODULA 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88120" y="3571920"/>
                  <a:ext cx="179496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35440" y="4351680"/>
                <a:ext cx="1437120" cy="959760"/>
                <a:chOff x="235440" y="4351680"/>
                <a:chExt cx="1437120" cy="959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01680" y="4351680"/>
                  <a:ext cx="130356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emi-Dinâ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35440" y="4351680"/>
                  <a:ext cx="143712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672920" y="4351680"/>
                <a:ext cx="1324440" cy="959760"/>
                <a:chOff x="1672920" y="4351680"/>
                <a:chExt cx="1324440" cy="959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739160" y="4351680"/>
                  <a:ext cx="119124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ix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72920" y="4351680"/>
                  <a:ext cx="132444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997720" y="4351680"/>
                <a:ext cx="1486800" cy="959760"/>
                <a:chOff x="2997720" y="4351680"/>
                <a:chExt cx="1486800" cy="9597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064680" y="4351680"/>
                  <a:ext cx="135324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ecu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997720" y="4351680"/>
                  <a:ext cx="148680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485240" y="4351680"/>
                <a:ext cx="1351080" cy="959760"/>
                <a:chOff x="4485240" y="4351680"/>
                <a:chExt cx="1351080" cy="959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552200" y="4351680"/>
                  <a:ext cx="121752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Dinâ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85240" y="4351680"/>
                  <a:ext cx="135108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836680" y="4351680"/>
                <a:ext cx="1351080" cy="959760"/>
                <a:chOff x="5836680" y="4351680"/>
                <a:chExt cx="1351080" cy="959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903640" y="4351680"/>
                  <a:ext cx="121752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ilh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36680" y="4351680"/>
                  <a:ext cx="135108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88120" y="4351680"/>
                <a:ext cx="1794960" cy="959760"/>
                <a:chOff x="7188120" y="4351680"/>
                <a:chExt cx="1794960" cy="959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5080" y="4351680"/>
                  <a:ext cx="166140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LGOL 68, ADA, 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88120" y="4351680"/>
                  <a:ext cx="179496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35440" y="5311440"/>
                <a:ext cx="1437120" cy="779400"/>
                <a:chOff x="235440" y="5311440"/>
                <a:chExt cx="1437120" cy="779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1680" y="5311440"/>
                  <a:ext cx="13035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Dinâ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35440" y="5311440"/>
                  <a:ext cx="143712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672920" y="5311440"/>
                <a:ext cx="1324440" cy="779400"/>
                <a:chOff x="1672920" y="5311440"/>
                <a:chExt cx="1324440" cy="7794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739160" y="5311440"/>
                  <a:ext cx="119124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672920" y="5311440"/>
                  <a:ext cx="132444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997720" y="5311440"/>
                <a:ext cx="1486800" cy="779400"/>
                <a:chOff x="2997720" y="5311440"/>
                <a:chExt cx="1486800" cy="779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064680" y="5311440"/>
                  <a:ext cx="135324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ecu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997720" y="5311440"/>
                  <a:ext cx="148680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485240" y="5311440"/>
                <a:ext cx="1351080" cy="779400"/>
                <a:chOff x="4485240" y="5311440"/>
                <a:chExt cx="1351080" cy="7794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552200" y="5311440"/>
                  <a:ext cx="12175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Dinâ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85240" y="5311440"/>
                  <a:ext cx="13510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836680" y="5311440"/>
                <a:ext cx="1351080" cy="779400"/>
                <a:chOff x="5836680" y="5311440"/>
                <a:chExt cx="1351080" cy="779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903640" y="5311440"/>
                  <a:ext cx="12175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Mont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836680" y="5311440"/>
                  <a:ext cx="13510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188120" y="5311440"/>
                <a:ext cx="1794960" cy="779400"/>
                <a:chOff x="7188120" y="5311440"/>
                <a:chExt cx="1794960" cy="7794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255080" y="5311440"/>
                  <a:ext cx="16614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PL, PER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88120" y="5311440"/>
                  <a:ext cx="179496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228600" y="1828800"/>
              <a:ext cx="8762760" cy="4267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CD4-780B-462B-AD0E-7C196D9BCD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tegorias de Vetore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733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áticos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C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int x[10]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i-Estáticos (C)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[1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1905120"/>
            <a:ext cx="464832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idinâm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Padrão ISO - 1999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[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nâmicos (A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2  3 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2  3  4  15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939-CC71-4E5E-92FA-EE6A48D29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 Dinâm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ser implementados em C, C++ e JAV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avés do mo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alocar nova memória e copiar conteúdo quando vetor aumenta de tamanh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encargo do programador controlar alocação e cópia. Em C e C++, o programador deve controlar desalocação também. Iss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rna a programação mais complexa e suscetível a err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786-10BD-4390-9824-B96D280528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 Multidimensionai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ementos são acessados atravé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a aplicaçã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fórmul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posição mat [i] [j] =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endereço de mat [0][0] + i </a:t>
            </a:r>
            <a:r>
              <a:rPr b="0" lang="pt-BR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tamanho da linha + j </a:t>
            </a:r>
            <a:r>
              <a:rPr b="0" lang="pt-BR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tamanho do elemento =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endereço de mat [0][0] + (i </a:t>
            </a:r>
            <a:r>
              <a:rPr b="0" lang="pt-BR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número de colunas + j) </a:t>
            </a:r>
            <a:r>
              <a:rPr b="0" lang="pt-BR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tamanho do elemen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9FE-6CD4-4C9E-B098-B09778FB68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 Multidimensionai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 vetores multidimensionai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vetores unidimensionais cujos elementos são outros vetor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[] [] a = new int [5] [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nt i = 0; i &lt; a.length; 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[i] = new int [i + 1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smo efeito pode ser obtido em C com o uso de ponteiros para ponteiros</a:t>
            </a: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4E6-1708-416A-880A-EEFFA79818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 Multidimensionai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dinalida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t [5][4]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 de val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{0, …, 4} x {0, …, 3}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#int)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 # ({0, …, 4} x {0, .., 3})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=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#int)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(# {0, …, 4} x #{0, .., 3})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=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#int)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5 x 4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=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#int)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20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13E-F95B-4E8F-9F21-6D65FCA858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peamentos Através de Fun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a função implementa um mapeamento S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 através de um algoritm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S não necessita ser finit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de valores do tipo mapeamento S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 são todas as funções que mapeiam o conjunto S no conjunto T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es do mapeamento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[int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oolean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] em 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lean positivo (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n &gt;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tros valores do mapeamento: palindromo, impar, par, prim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EF2-736C-447F-86EB-D24B3C4441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peamentos Através de Fun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utiliza o conceito de ponteiros para manipular endereços de funções como val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mpar (int n){ return n%2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egativo (int n) { return n &lt; 0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ultiplo7 (int n) { return !(n%7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onta (int x[], int n, int (*p) (int)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j, s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j = 0; j &lt; n; j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(*p) (x[j]) ) s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D65-CDE5-4B95-81BF-E6A50C21EA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peamentos Através de Fun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828800"/>
            <a:ext cx="8001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et 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d\n"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 (vet, 10, impar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d\n"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 (vet, 10, negativ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d\n", conta (vet, 10, multiplo7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não trata funções (métodos) como valor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-s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pregar algoritmos diferentes para implementar um mesmo mape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gumas vezes, vetores e funções podem ser usados para implementar o mesmo mapeamento fin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274-17CE-4431-9FD6-9D2BCB1437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rimitiv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Não podem ser decompostos em valores mais simpl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Costumam ser 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efinidos na </a:t>
            </a:r>
            <a:r>
              <a:rPr b="0" lang="pt-BR" sz="28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implementa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 da LP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Sofrem i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fluência direta do hardwar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610-226D-4652-9924-CDF9062BD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Potênci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s de dados cujo conjunto de valores corresponde a todos os possíveis subconjuntos que podem ser definidos a partir de um tipo base 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= {s | s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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}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85800" y="4191120"/>
            <a:ext cx="7467480" cy="1828800"/>
            <a:chOff x="685800" y="4191120"/>
            <a:chExt cx="7467480" cy="1828800"/>
          </a:xfrm>
        </p:grpSpPr>
        <p:sp>
          <p:nvSpPr>
            <p:cNvPr id="382" name=""/>
            <p:cNvSpPr/>
            <p:nvPr/>
          </p:nvSpPr>
          <p:spPr>
            <a:xfrm>
              <a:off x="685800" y="4191120"/>
              <a:ext cx="7467480" cy="182880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38560" y="4775760"/>
              <a:ext cx="803880" cy="5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 b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4360" y="5114520"/>
              <a:ext cx="4244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59720" y="4436640"/>
              <a:ext cx="2830680" cy="127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{}  {a}  {b}  {c}  {a, b}  {a, c}  {b, c}  {a, b, c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85000" y="5083200"/>
              <a:ext cx="6847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</a:t>
              </a: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2CA-9445-4E09-9D2C-FC6B5C61AA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Potênci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dina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#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= 2</a:t>
            </a:r>
            <a:r>
              <a:rPr b="0" lang="pt-BR" sz="2400" spc="-1" strike="noStrike" baseline="30000">
                <a:solidFill>
                  <a:srgbClr val="0033cc"/>
                </a:solidFill>
                <a:latin typeface="Comic Sans MS"/>
                <a:ea typeface="Times New Roman"/>
              </a:rPr>
              <a:t>#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ões básic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tin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té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tá conti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i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ferenç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ferença simétri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94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rse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EF1-4632-4E20-8614-297CB59E31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Potênci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ucas LPs oferecem. Muitas vezes de forma restrit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s = (corsa, palio, go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juntoCarros = SET OF Carr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: Carr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sPequenos: ConjuntoCarr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:= cors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sPequen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= [palio, gol];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atribuicao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sPequenos:= CarrosPequenos + [corsa]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uniao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44B-B72B-4382-9BCF-69441AD7F8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Potênci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sPequenos:= CarrosPequenos * [gol]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intersecao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Carro in CarrosPequenos THE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pertinencia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 CarrosPequenos &gt;= [gol, corsa] THE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/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contem*/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-2192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trições de PASCAL visam permitir implementação efici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 S: SET OF [ 'a .. 'h' 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:= ['a', 'c', 'h'] + ['d']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19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71600" y="5029200"/>
            <a:ext cx="6324480" cy="769680"/>
            <a:chOff x="1371600" y="5029200"/>
            <a:chExt cx="6324480" cy="769680"/>
          </a:xfrm>
        </p:grpSpPr>
        <p:sp>
          <p:nvSpPr>
            <p:cNvPr id="394" name=""/>
            <p:cNvSpPr/>
            <p:nvPr/>
          </p:nvSpPr>
          <p:spPr>
            <a:xfrm>
              <a:off x="1725840" y="5359320"/>
              <a:ext cx="1552320" cy="358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 0 1 1 0 0 0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09800" y="5354640"/>
              <a:ext cx="1562040" cy="358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 0 1 0 0 0 0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71320" y="5368680"/>
              <a:ext cx="1547280" cy="358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0 0 0 1 0 0 0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91360" y="5383080"/>
              <a:ext cx="5461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71600" y="5368680"/>
              <a:ext cx="431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27640" y="5029200"/>
              <a:ext cx="21560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i="1" lang="pt-BR" sz="1600" spc="-1" strike="noStrike">
                  <a:solidFill>
                    <a:srgbClr val="0033cc"/>
                  </a:solidFill>
                  <a:latin typeface="Times New Roman"/>
                </a:rPr>
                <a:t>['a',  'c',          'h'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7680" y="5029200"/>
              <a:ext cx="1868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33cc"/>
                  </a:solidFill>
                  <a:latin typeface="Times New Roman"/>
                </a:rPr>
                <a:t>[        'd'             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40000" y="5316120"/>
              <a:ext cx="4309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15240" y="5029200"/>
              <a:ext cx="21560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i="1" lang="pt-BR" sz="1600" spc="-1" strike="noStrike">
                  <a:solidFill>
                    <a:srgbClr val="0033cc"/>
                  </a:solidFill>
                  <a:latin typeface="Times New Roman"/>
                </a:rPr>
                <a:t>['a', 'c','d',       'h'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6BC-3D45-4FD9-8C01-75E5FB9172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cursiv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recursivos são tipos de dados cujos valores são compostos por valores do mesmo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&lt; parte inicial &gt; R &lt; parte final &gt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Lista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ipo Lista Vazia | (Tipo Elemento x Tipo Lista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ardinalidade de um tipo recursivo é infinit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to é verdade mesmo qu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nd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tipo do elemento da list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fini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de valores do tipo listas é infinitamente grande (não podendo ser enumerado) embora toda lista individual seja finit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C25-9BE0-4B3E-8F1B-4697B6932A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cursiv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recursivos podem ser definidos a partir de ponteiros ou diretamen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2895480"/>
            <a:ext cx="3276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no {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 elem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no* prox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2895480"/>
            <a:ext cx="449568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n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* pro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3600" y="2895480"/>
            <a:ext cx="25909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n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pro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E7D-1465-4AC5-BAB3-DEC4867DFB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se restringe a implementação de tipos recursivos embora seja seu uso princip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nteiro é um conceito de baixo nível relacionado com a arquitetura dos computador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de valores de um tipo ponteiro são os endereços de memória e o valor </a:t>
            </a:r>
            <a:r>
              <a:rPr b="0" lang="pt-BR" sz="2800" spc="-1" strike="noStrike" u="sng">
                <a:solidFill>
                  <a:srgbClr val="0033cc"/>
                </a:solidFill>
                <a:uFillTx/>
                <a:latin typeface="Comic Sans MS"/>
                <a:ea typeface="Times New Roman"/>
              </a:rPr>
              <a:t>ni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iderados o goto das estruturas de dados</a:t>
            </a:r>
            <a:r>
              <a:rPr b="0" lang="pt-BR" sz="2800" spc="-1" strike="noStrike" u="sng">
                <a:solidFill>
                  <a:srgbClr val="00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498-7DBD-4AB3-ACEE-AAE11CB7B7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1752480"/>
            <a:ext cx="502920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define ni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no* lista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n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abe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int ca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int anexa (int cb, listaint c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int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= (listaint) malloc (sizeof (struct 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-&gt;cabeca = c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-&gt;cauda = 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C1D-F6EE-4614-A854-1375B84D68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1676520"/>
            <a:ext cx="784836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 (listaint 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\nlista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%d ",l-&gt;cabec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= l-&gt;ca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int palindromos, soma10, au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lindromos = anexa(343, anexa(262, anexa(181, nil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a10 = anexa(1234, palindrom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 (palindrom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 (soma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B63-70A9-4F15-95E1-F3A579C306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676520"/>
            <a:ext cx="7848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x = palindromos -&gt;ca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lindromos -&gt;cauda = palindromos -&gt;cauda-&gt;ca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ee(au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 (palindrom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ime (soma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3962520"/>
            <a:ext cx="8178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i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*p, *q, r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dois ponteiros para int e um in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 = &amp;r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tribui enderec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 a q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q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tribui endereco armazenado em q a p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c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p = (int*) malloc (sizeof(int))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23F-9860-4382-86B1-280FD100D4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Inteir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Corresponde a um intervalo do conjunto dos números inteiro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Vários tipos inteiros numa mesma LP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Normalmente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,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 intervalos são definidos na implementação do compilad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Em JAV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,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 o intervalo de cada tipo inteiro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é estabelecido n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 defini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ç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d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a própria LP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CC0-71FE-4C1F-BF0F-76206E580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78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aloc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430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ee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-1987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rreferenciamento explíci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430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GER, POINTER :: PT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430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R = 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430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R = PTR + 10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-1987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rreferenciamento implíci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*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p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p = *p + 10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198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CBC-9B6A-4F77-AB67-1FDD5D00E92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itmética (C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++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+p;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p + 1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--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p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p -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dexação (C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p[3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D44-2124-4C6F-8830-8D73B552B2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nteir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nér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apontar para qualquer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f, g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*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&amp;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 = *p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// erro: ilegal 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erenci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nteiro p/ void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vem para criação de funções genéricas para gerenciar memór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vem para criação de estruturas de dados heterogêneas (aquelas cujos elementos são de tipos distintos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29A-6E8A-48AF-93B0-E158D3B397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Pontei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ixa Le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-&gt;cauda = q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speção simples não permite determinar qual estrutura está sendo atualizada e qual o efeit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ibilitam viol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sistema de tip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 i, j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p = &amp;j;   // p aponta para a variavel inteira j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++;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// p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ao apon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is para um inteir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*p + 5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valor imprevisivel atribuido a 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F87-2488-4F11-85AB-7C4C7DA5A4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Pontei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Pendent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p = (int*) malloc (10*sizeof(int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q = (int*) malloc (5*sizeof(int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q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rea apontada por p torna-se inacessivel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voca vazamento de memór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ências Pendente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p = (int*) malloc(10*sizeof(int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q =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ee(p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q aponta agora para area de memoria desalocada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*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9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p = 0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83B-04C1-4AAF-9701-A320186055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Pontei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ências Pendente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*p,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&amp;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a apon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para 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o existe ma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BBD-F5A2-4CAC-80F3-A21657BD0B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Referênci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junto de valores desse tipo é formado pelos endereços das células de memór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as as variáveis que não são de tipos primitivos em JAVA são do tipo referênc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es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&amp; ref = res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ref passa a referenciar r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 = 100;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res passa a valer 10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3CC-2797-4677-A0C7-9D752DEA29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String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res correspondem a uma seqüência de caracter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existe consenso sobre como devem ser tratad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ser consideradas tipos primitivos, mapeamentos finitos ou tipo recursivo list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ês formas comuns de implement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át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i-Estát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nâm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976-AF62-4D72-A543-E702209361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ierarqu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93760" y="1771560"/>
            <a:ext cx="7035840" cy="3908160"/>
            <a:chOff x="1193760" y="1771560"/>
            <a:chExt cx="7035840" cy="3908160"/>
          </a:xfrm>
        </p:grpSpPr>
        <p:sp>
          <p:nvSpPr>
            <p:cNvPr id="437" name=""/>
            <p:cNvSpPr/>
            <p:nvPr/>
          </p:nvSpPr>
          <p:spPr>
            <a:xfrm>
              <a:off x="4253040" y="1771560"/>
              <a:ext cx="91692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Tip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11760" y="2553120"/>
              <a:ext cx="122292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Primi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75960" y="2553120"/>
              <a:ext cx="183528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Compo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99400" y="42728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Boole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93760" y="33350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Intei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6400" y="380376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Caract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76040" y="42728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Decim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29040" y="3803760"/>
              <a:ext cx="144792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Ponto Flutu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82040" y="3335040"/>
              <a:ext cx="122364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Enumer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64760" y="4741920"/>
              <a:ext cx="106992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Interva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11680" y="3803760"/>
              <a:ext cx="122364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Uni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58600" y="33350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Str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58680" y="33350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Recurs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64320" y="4272840"/>
              <a:ext cx="137664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Mapeam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46960" y="3803760"/>
              <a:ext cx="168228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Conjuntos Potê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4320" y="4272840"/>
              <a:ext cx="183528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Produtos Cartesi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23040" y="2865600"/>
              <a:ext cx="0" cy="18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70400" y="2865600"/>
              <a:ext cx="0" cy="140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17400" y="2865600"/>
              <a:ext cx="0" cy="9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4760" y="2865600"/>
              <a:ext cx="0" cy="46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6040" y="2865600"/>
              <a:ext cx="0" cy="140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29040" y="2865600"/>
              <a:ext cx="0" cy="9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82040" y="2865600"/>
              <a:ext cx="0" cy="46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23040" y="2396880"/>
              <a:ext cx="367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23040" y="2396880"/>
              <a:ext cx="0" cy="15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94320" y="2396880"/>
              <a:ext cx="0" cy="15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11680" y="2084040"/>
              <a:ext cx="0" cy="312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58600" y="2865600"/>
              <a:ext cx="0" cy="46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29680" y="2865600"/>
              <a:ext cx="0" cy="46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35320" y="2865600"/>
              <a:ext cx="0" cy="9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41320" y="2865600"/>
              <a:ext cx="0" cy="140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94320" y="2865600"/>
              <a:ext cx="0" cy="140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46960" y="2865600"/>
              <a:ext cx="0" cy="9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40680" y="4741920"/>
              <a:ext cx="918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Pontei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58680" y="3647520"/>
              <a:ext cx="0" cy="109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40680" y="53672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Liv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4320" y="536724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Disju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75960" y="489816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Fini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52960" y="4898160"/>
              <a:ext cx="1071000" cy="31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Fun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3040" y="5211000"/>
              <a:ext cx="106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711680" y="4116600"/>
              <a:ext cx="0" cy="109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53040" y="5211000"/>
              <a:ext cx="0" cy="155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23320" y="5211000"/>
              <a:ext cx="0" cy="155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35320" y="4741920"/>
              <a:ext cx="1375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88320" y="4585680"/>
              <a:ext cx="0" cy="155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35320" y="4741920"/>
              <a:ext cx="0" cy="15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1600" y="4741920"/>
              <a:ext cx="0" cy="15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D76-BA40-418E-86EB-F803A216B37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Inteiros em JAV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1676520"/>
            <a:ext cx="7390800" cy="4419000"/>
            <a:chOff x="990720" y="1676520"/>
            <a:chExt cx="7390800" cy="4419000"/>
          </a:xfrm>
        </p:grpSpPr>
        <p:grpSp>
          <p:nvGrpSpPr>
            <p:cNvPr id="94" name=""/>
            <p:cNvGrpSpPr/>
            <p:nvPr/>
          </p:nvGrpSpPr>
          <p:grpSpPr>
            <a:xfrm>
              <a:off x="996480" y="1681560"/>
              <a:ext cx="7378560" cy="4407480"/>
              <a:chOff x="996480" y="1681560"/>
              <a:chExt cx="7378560" cy="440748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996480" y="1681560"/>
                <a:ext cx="1033200" cy="1468800"/>
                <a:chOff x="996480" y="1681560"/>
                <a:chExt cx="1033200" cy="14688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081080" y="1681560"/>
                  <a:ext cx="864000" cy="14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Tip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6480" y="1681560"/>
                  <a:ext cx="1033200" cy="14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030040" y="1681560"/>
                <a:ext cx="1394280" cy="1468800"/>
                <a:chOff x="2030040" y="1681560"/>
                <a:chExt cx="1394280" cy="1468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113920" y="1681560"/>
                  <a:ext cx="1225800" cy="14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Tamanh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(bit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030040" y="1681560"/>
                  <a:ext cx="1394280" cy="14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425040" y="1681560"/>
                <a:ext cx="4950000" cy="734040"/>
                <a:chOff x="3425040" y="1681560"/>
                <a:chExt cx="4950000" cy="734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09640" y="1681560"/>
                  <a:ext cx="47808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terva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25040" y="1681560"/>
                  <a:ext cx="49500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425040" y="2415960"/>
                <a:ext cx="2509200" cy="734040"/>
                <a:chOff x="3425040" y="2415960"/>
                <a:chExt cx="2509200" cy="7340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509640" y="2415960"/>
                  <a:ext cx="2340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í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425040" y="2415960"/>
                  <a:ext cx="2509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934600" y="2415960"/>
                <a:ext cx="2440080" cy="734040"/>
                <a:chOff x="5934600" y="2415960"/>
                <a:chExt cx="2440080" cy="7340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18480" y="2415960"/>
                  <a:ext cx="227124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934600" y="2415960"/>
                  <a:ext cx="24400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996480" y="3150720"/>
                <a:ext cx="1033200" cy="734040"/>
                <a:chOff x="996480" y="3150720"/>
                <a:chExt cx="1033200" cy="734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81080" y="3150720"/>
                  <a:ext cx="864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by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6480" y="3150720"/>
                  <a:ext cx="1033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030040" y="3150720"/>
                <a:ext cx="1394280" cy="734040"/>
                <a:chOff x="2030040" y="3150720"/>
                <a:chExt cx="1394280" cy="734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113920" y="3150720"/>
                  <a:ext cx="12258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30040" y="3150720"/>
                  <a:ext cx="13942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425040" y="3150720"/>
                <a:ext cx="2509200" cy="734040"/>
                <a:chOff x="3425040" y="3150720"/>
                <a:chExt cx="2509200" cy="73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509640" y="3150720"/>
                  <a:ext cx="2340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-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25040" y="3150720"/>
                  <a:ext cx="2509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934600" y="3150720"/>
                <a:ext cx="2440080" cy="734040"/>
                <a:chOff x="5934600" y="3150720"/>
                <a:chExt cx="2440080" cy="7340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18480" y="3150720"/>
                  <a:ext cx="227124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1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934600" y="3150720"/>
                  <a:ext cx="24400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96480" y="3885120"/>
                <a:ext cx="1033200" cy="734040"/>
                <a:chOff x="996480" y="3885120"/>
                <a:chExt cx="1033200" cy="734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081080" y="3885120"/>
                  <a:ext cx="864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ho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996480" y="3885120"/>
                  <a:ext cx="1033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030040" y="3885120"/>
                <a:ext cx="1394280" cy="734040"/>
                <a:chOff x="2030040" y="3885120"/>
                <a:chExt cx="1394280" cy="734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113920" y="3885120"/>
                  <a:ext cx="12258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30040" y="3885120"/>
                  <a:ext cx="13942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425040" y="3885120"/>
                <a:ext cx="2509200" cy="734040"/>
                <a:chOff x="3425040" y="3885120"/>
                <a:chExt cx="2509200" cy="734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09640" y="3885120"/>
                  <a:ext cx="2340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-327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25040" y="3885120"/>
                  <a:ext cx="2509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934600" y="3885120"/>
                <a:ext cx="2440080" cy="734040"/>
                <a:chOff x="5934600" y="3885120"/>
                <a:chExt cx="2440080" cy="734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018480" y="3885120"/>
                  <a:ext cx="227124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327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934600" y="3885120"/>
                  <a:ext cx="24400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996480" y="4619880"/>
                <a:ext cx="1033200" cy="734400"/>
                <a:chOff x="996480" y="4619880"/>
                <a:chExt cx="1033200" cy="734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081080" y="4619880"/>
                  <a:ext cx="86400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6480" y="4619880"/>
                  <a:ext cx="1033200" cy="73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030040" y="4619880"/>
                <a:ext cx="1394280" cy="734400"/>
                <a:chOff x="2030040" y="4619880"/>
                <a:chExt cx="1394280" cy="7344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13920" y="4619880"/>
                  <a:ext cx="122580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030040" y="4619880"/>
                  <a:ext cx="1394280" cy="73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425040" y="4619880"/>
                <a:ext cx="2509200" cy="734400"/>
                <a:chOff x="3425040" y="4619880"/>
                <a:chExt cx="2509200" cy="734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509640" y="4619880"/>
                  <a:ext cx="234000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-2.147.483.6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25040" y="4619880"/>
                  <a:ext cx="2509200" cy="73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934600" y="4619880"/>
                <a:ext cx="2440080" cy="734400"/>
                <a:chOff x="5934600" y="4619880"/>
                <a:chExt cx="2440080" cy="734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018480" y="4619880"/>
                  <a:ext cx="227124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2.147.483.64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34600" y="4619880"/>
                  <a:ext cx="2440080" cy="73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996480" y="5355000"/>
                <a:ext cx="1033200" cy="734040"/>
                <a:chOff x="996480" y="5355000"/>
                <a:chExt cx="1033200" cy="734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081080" y="5355000"/>
                  <a:ext cx="864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96480" y="5355000"/>
                  <a:ext cx="1033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030040" y="5355000"/>
                <a:ext cx="1394280" cy="734040"/>
                <a:chOff x="2030040" y="5355000"/>
                <a:chExt cx="1394280" cy="734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113920" y="5355000"/>
                  <a:ext cx="12258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030040" y="5355000"/>
                  <a:ext cx="13942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425040" y="5355000"/>
                <a:ext cx="2509200" cy="734040"/>
                <a:chOff x="3425040" y="5355000"/>
                <a:chExt cx="2509200" cy="734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509640" y="5355000"/>
                  <a:ext cx="234000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-92233720368547758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425040" y="5355000"/>
                  <a:ext cx="250920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934600" y="5355000"/>
                <a:ext cx="2440080" cy="734040"/>
                <a:chOff x="5934600" y="5355000"/>
                <a:chExt cx="2440080" cy="734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018480" y="5355000"/>
                  <a:ext cx="2271240" cy="73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922337203685477580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934600" y="5355000"/>
                  <a:ext cx="2440080" cy="73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990720" y="1676520"/>
              <a:ext cx="7390800" cy="441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D86-6A50-450B-8143-8B284142C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Caracter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Armazenados como códigos numéric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abelas EBCDIC, ASCII e UNICO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PASCAL e MODULA 2 oferecem o tipo </a:t>
            </a: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cha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Em C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,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 o tipo primitivo </a:t>
            </a: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cha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 é classificado como um tipo </a:t>
            </a:r>
            <a:r>
              <a:rPr b="0" lang="pt-BR" sz="28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inteir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*p, *q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= 'a' +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*p) *q++ = *p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7E2-2648-4D19-98AC-C090264485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Boolean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Tipo 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ais simpl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Possui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apenas dois val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C 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ã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o possui o tipo de dado booleano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, 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as  q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ual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q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ue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Arial"/>
              </a:rPr>
              <a:t> expressão numérica pode ser usada como condicion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Valores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verdadeir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                         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Valores =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Comic Sans MS"/>
                <a:ea typeface="Arial"/>
              </a:rPr>
              <a:t>fals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Abordagem de C pode provocar err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=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Arial"/>
                <a:ea typeface="Arial"/>
              </a:rPr>
              <a:t>JAVA inclui o tipo de dado </a:t>
            </a:r>
            <a:r>
              <a:rPr b="0" i="1" lang="pt-BR" sz="2800" spc="-1" strike="noStrike">
                <a:solidFill>
                  <a:srgbClr val="0033cc"/>
                </a:solidFill>
                <a:latin typeface="Arial"/>
                <a:ea typeface="Arial"/>
              </a:rPr>
              <a:t>boolean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157-DA63-43E6-ACF2-AFCE75FD7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Decima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Arial"/>
                <a:ea typeface="Arial"/>
              </a:rPr>
              <a:t>Armazena um número fixo de dígitos decim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  <a:ea typeface="Arial"/>
              </a:rPr>
              <a:t>COBO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possui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90720" y="3048120"/>
            <a:ext cx="7009920" cy="1365120"/>
            <a:chOff x="990720" y="3048120"/>
            <a:chExt cx="7009920" cy="1365120"/>
          </a:xfrm>
        </p:grpSpPr>
        <p:sp>
          <p:nvSpPr>
            <p:cNvPr id="166" name=""/>
            <p:cNvSpPr/>
            <p:nvPr/>
          </p:nvSpPr>
          <p:spPr>
            <a:xfrm>
              <a:off x="2186280" y="3048120"/>
              <a:ext cx="1154520" cy="35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0010 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35040" y="3057840"/>
              <a:ext cx="1154880" cy="347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0011 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89920" y="3060720"/>
              <a:ext cx="1154520" cy="344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000 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44800" y="3053520"/>
              <a:ext cx="1154520" cy="345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0111 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1400" y="3053520"/>
              <a:ext cx="1154880" cy="345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0000 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99320" y="3053520"/>
              <a:ext cx="1154880" cy="345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000 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79720" y="3639600"/>
              <a:ext cx="2320920" cy="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6800" y="3604680"/>
              <a:ext cx="18990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2 by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4 casas decim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31400" y="3546000"/>
              <a:ext cx="4630320" cy="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1720" y="3540240"/>
              <a:ext cx="18990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4 by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7 casas intei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 s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9400" y="3798000"/>
              <a:ext cx="521280" cy="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3751200"/>
              <a:ext cx="72684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s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EFB-1BFF-4EA7-AC38-D74A1982E1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Ponto Flutuante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O tipo primitivo ponto flutuante modela os números reai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LPs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normalmente 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incluem dois tipos de ponto flutuante: </a:t>
            </a: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float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 e </a:t>
            </a: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double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9480" y="3809880"/>
            <a:ext cx="7414560" cy="2361600"/>
            <a:chOff x="609480" y="3809880"/>
            <a:chExt cx="7414560" cy="2361600"/>
          </a:xfrm>
        </p:grpSpPr>
        <p:sp>
          <p:nvSpPr>
            <p:cNvPr id="181" name=""/>
            <p:cNvSpPr/>
            <p:nvPr/>
          </p:nvSpPr>
          <p:spPr>
            <a:xfrm>
              <a:off x="660240" y="3828600"/>
              <a:ext cx="3428640" cy="401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    </a:t>
              </a: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expoente                         f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8000" y="3828600"/>
              <a:ext cx="0" cy="40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47880" y="3839400"/>
              <a:ext cx="0" cy="39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040" y="4936320"/>
              <a:ext cx="6857640" cy="399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        </a:t>
              </a: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expoente                                                      f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3640" y="3809880"/>
              <a:ext cx="4190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Padrão IEEE 754 - Precisão Si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64200" y="4106520"/>
              <a:ext cx="294840" cy="24696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2600" y="4033800"/>
              <a:ext cx="78840" cy="3646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4321800"/>
              <a:ext cx="120564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bit de s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5440" y="4317480"/>
              <a:ext cx="1203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8000" y="4132080"/>
              <a:ext cx="294840" cy="24696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48080" y="4343040"/>
              <a:ext cx="1203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23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5240" y="4936320"/>
              <a:ext cx="4680" cy="39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9840" y="5505840"/>
              <a:ext cx="1203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bit de s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2600" y="5192280"/>
              <a:ext cx="78840" cy="3646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93840" y="4947120"/>
              <a:ext cx="0" cy="38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98920" y="5224320"/>
              <a:ext cx="362160" cy="2858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14840" y="5444640"/>
              <a:ext cx="120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11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02120" y="5418720"/>
              <a:ext cx="120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52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6200" y="5207400"/>
              <a:ext cx="294840" cy="2476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36280" y="5751720"/>
              <a:ext cx="48222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cc"/>
                  </a:solidFill>
                  <a:latin typeface="Times New Roman"/>
                </a:rPr>
                <a:t>Padrão IEEE 754 - Precisão Dup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C41-0F3C-4BBC-B0F3-B670F7F45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20T09:37:55Z</dcterms:modified>
  <cp:revision>314</cp:revision>
  <dc:subject/>
  <dc:title>Curso de Qualidade 2004 - SBC</dc:title>
</cp:coreProperties>
</file>