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D26-9D9F-4A22-8D1D-715DD0D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758-67E9-4AF3-8670-3CEB9D4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9D7-CA22-4021-83BB-11B66780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0AF-ECB6-4921-92F1-C7B3856D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07A7-76BB-4D1E-9B52-D806EE16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B9D7-BDDD-43FB-83E2-BF9201F7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E35-F056-4FA5-B623-A665AD5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3595-692A-4A2D-9AB8-B13D699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1CE3-EB4E-417B-97DD-2F5F6C2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ED48-598E-4D79-8386-ED595E83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1560-135F-4394-9FDD-60B561C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AD6-4DA5-4BBC-A781-91B1F3A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A361-D87A-494F-B6CD-D18F400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6CA6-D190-473D-8441-CC32990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F30B-FA83-4D50-9988-8D6F492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EE1D-8DC8-4AA8-AAFA-9E06B73E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0CAD-4EA4-453D-AA64-A7549128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2CD-6714-483A-B8EE-3C1A781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C9E-053D-407A-BD84-165BFE7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7D6-0334-467F-8C4C-1A7E5B3B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060-12B1-4C9F-BDB6-3DE3E02C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A11-8143-48B3-B009-4CA851E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5E4-A63D-4C2D-814A-7FD6672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3F0-3CAD-400F-B5D5-AA0E748F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Variáveis e Cons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B3DD-D9B4-4659-B5A7-84855ACE7B81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A97F-3FF1-443E-A010-C483644784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Variáveis e Constantes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mazenamento de Variáveis e Consta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nsiente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ória Principal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istente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ória Principa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ória Secundária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9BF-839B-4F84-A077-89AC492512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ória Principa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orme sequência contígua e finita de bits - vetor de tamanho finito com elementos do tamanho da palavra do computado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ocação de Variáveis e Constant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po de Carga (FORTRAN)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per e subdimensionamento das variáve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is locais alocadas desnecessariament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edimento de uso de recursividad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ocação Dinâmica Contígua no Vetor de Memóri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gotamento Rápido do Veto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alocação e Realocação Pouco Eficiente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785-7639-4E55-86FB-1B573DA4E8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ilha e Mont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ALGOL-like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ilh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is Loc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gra de alocação bem defini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nte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is de Tamanho Dinâmic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gra de alocação indefinida 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82A-AB13-4264-B17E-6DCD0B11F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ilha e Mont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0720" y="1981080"/>
            <a:ext cx="6965640" cy="3276000"/>
            <a:chOff x="990720" y="1981080"/>
            <a:chExt cx="6965640" cy="3276000"/>
          </a:xfrm>
        </p:grpSpPr>
        <p:grpSp>
          <p:nvGrpSpPr>
            <p:cNvPr id="148" name=""/>
            <p:cNvGrpSpPr/>
            <p:nvPr/>
          </p:nvGrpSpPr>
          <p:grpSpPr>
            <a:xfrm>
              <a:off x="990720" y="1981080"/>
              <a:ext cx="2444400" cy="2917440"/>
              <a:chOff x="990720" y="1981080"/>
              <a:chExt cx="2444400" cy="2917440"/>
            </a:xfrm>
          </p:grpSpPr>
          <p:sp>
            <p:nvSpPr>
              <p:cNvPr id="149" name=""/>
              <p:cNvSpPr/>
              <p:nvPr/>
            </p:nvSpPr>
            <p:spPr>
              <a:xfrm>
                <a:off x="1660320" y="2834280"/>
                <a:ext cx="1763640" cy="186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71480" y="374544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1660320" y="1981080"/>
                <a:ext cx="0" cy="85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424320" y="2019600"/>
                <a:ext cx="0" cy="81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04080" y="2291040"/>
                <a:ext cx="0" cy="147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92480" y="3784320"/>
                <a:ext cx="0" cy="9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90720" y="3832560"/>
                <a:ext cx="36828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80000" y="2533680"/>
                <a:ext cx="3682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82640" y="4104000"/>
                <a:ext cx="3682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71480" y="3638880"/>
                <a:ext cx="3682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82640" y="3153960"/>
                <a:ext cx="36828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93800" y="2708280"/>
                <a:ext cx="3682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93800" y="2165040"/>
                <a:ext cx="36828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60320" y="4239720"/>
                <a:ext cx="17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1480" y="3309120"/>
                <a:ext cx="17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71480" y="2301120"/>
                <a:ext cx="176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9760" y="2301120"/>
                <a:ext cx="0" cy="240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19560" y="4181760"/>
                <a:ext cx="49104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20000" y="3754800"/>
                <a:ext cx="49104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41880" y="3251160"/>
                <a:ext cx="49104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42320" y="2863080"/>
                <a:ext cx="49104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53040" y="2359080"/>
                <a:ext cx="49104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172040" y="2271960"/>
              <a:ext cx="3784320" cy="2985120"/>
              <a:chOff x="4172040" y="2271960"/>
              <a:chExt cx="3784320" cy="29851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72040" y="2271960"/>
                <a:ext cx="3784320" cy="2985120"/>
              </a:xfrm>
              <a:custGeom>
                <a:avLst/>
                <a:gdLst/>
                <a:ahLst/>
                <a:rect l="l" t="t" r="r" b="b"/>
                <a:pathLst>
                  <a:path w="2904" h="1848">
                    <a:moveTo>
                      <a:pt x="0" y="372"/>
                    </a:moveTo>
                    <a:lnTo>
                      <a:pt x="204" y="1092"/>
                    </a:lnTo>
                    <a:lnTo>
                      <a:pt x="1260" y="1848"/>
                    </a:lnTo>
                    <a:lnTo>
                      <a:pt x="2892" y="1452"/>
                    </a:lnTo>
                    <a:lnTo>
                      <a:pt x="2904" y="276"/>
                    </a:lnTo>
                    <a:lnTo>
                      <a:pt x="1440" y="0"/>
                    </a:lnTo>
                    <a:lnTo>
                      <a:pt x="0" y="37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74240" y="2853360"/>
                <a:ext cx="502200" cy="619920"/>
              </a:xfrm>
              <a:prstGeom prst="rect">
                <a:avLst/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44200" y="4016520"/>
                <a:ext cx="502200" cy="61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46400" y="4016520"/>
                <a:ext cx="502200" cy="61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48600" y="4016520"/>
                <a:ext cx="502200" cy="61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24520" y="3163680"/>
                <a:ext cx="580320" cy="367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61880" y="2872800"/>
                <a:ext cx="580320" cy="367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1680" y="3706200"/>
                <a:ext cx="5803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04320" y="3182760"/>
                <a:ext cx="0" cy="34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52480" y="2892240"/>
                <a:ext cx="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521120" y="3725640"/>
                <a:ext cx="0" cy="34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404760" y="3027600"/>
                <a:ext cx="357120" cy="34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185960" y="3066840"/>
                <a:ext cx="66960" cy="63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576560" y="3783960"/>
                <a:ext cx="10044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39080" y="2853360"/>
                <a:ext cx="502200" cy="87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79000" y="2853360"/>
                <a:ext cx="502200" cy="87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09040" y="3725640"/>
                <a:ext cx="502200" cy="87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F58-ABD5-41C4-90A4-1920F5235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ilha e Mont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que não usar só o Monte?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nos Eficiente por causa de LED e LE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nteiro como Ligação entre Pilha e Monte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3886200"/>
            <a:ext cx="6553080" cy="2209680"/>
            <a:chOff x="1371600" y="3886200"/>
            <a:chExt cx="6553080" cy="2209680"/>
          </a:xfrm>
        </p:grpSpPr>
        <p:sp>
          <p:nvSpPr>
            <p:cNvPr id="192" name=""/>
            <p:cNvSpPr/>
            <p:nvPr/>
          </p:nvSpPr>
          <p:spPr>
            <a:xfrm>
              <a:off x="2315160" y="4397760"/>
              <a:ext cx="1008000" cy="122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56760" y="4198320"/>
              <a:ext cx="3088800" cy="1510560"/>
            </a:xfrm>
            <a:custGeom>
              <a:avLst/>
              <a:gdLst/>
              <a:ahLst/>
              <a:rect l="l" t="t" r="r" b="b"/>
              <a:pathLst>
                <a:path w="2868" h="1452">
                  <a:moveTo>
                    <a:pt x="0" y="456"/>
                  </a:moveTo>
                  <a:lnTo>
                    <a:pt x="1296" y="60"/>
                  </a:lnTo>
                  <a:lnTo>
                    <a:pt x="2868" y="0"/>
                  </a:lnTo>
                  <a:lnTo>
                    <a:pt x="2856" y="1092"/>
                  </a:lnTo>
                  <a:lnTo>
                    <a:pt x="1068" y="1452"/>
                  </a:lnTo>
                  <a:lnTo>
                    <a:pt x="0" y="4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315160" y="40860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323160" y="411048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15160" y="48099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27760" y="4984920"/>
              <a:ext cx="10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15160" y="5184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27760" y="53967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27760" y="4610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15160" y="4248000"/>
              <a:ext cx="10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5560" y="4672800"/>
              <a:ext cx="672120" cy="23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5040" y="4485240"/>
              <a:ext cx="672120" cy="23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4600" y="5022000"/>
              <a:ext cx="672120" cy="23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55120" y="4685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37560" y="44978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63800" y="503460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171760" y="4584960"/>
              <a:ext cx="4132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076080" y="4610160"/>
              <a:ext cx="77400" cy="41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528600" y="5072040"/>
              <a:ext cx="11592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1400" y="4522680"/>
              <a:ext cx="187416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4298040"/>
              <a:ext cx="47808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79600" y="5621400"/>
              <a:ext cx="891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il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07640" y="5646240"/>
              <a:ext cx="8917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Mo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1600" y="3886200"/>
              <a:ext cx="655308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B94-F4A5-42E4-A48D-196684DB46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mento da Pilh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Registros de Ativ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76520" y="2362320"/>
            <a:ext cx="4190400" cy="3305160"/>
            <a:chOff x="1676520" y="2362320"/>
            <a:chExt cx="4190400" cy="3305160"/>
          </a:xfrm>
        </p:grpSpPr>
        <p:sp>
          <p:nvSpPr>
            <p:cNvPr id="219" name=""/>
            <p:cNvSpPr/>
            <p:nvPr/>
          </p:nvSpPr>
          <p:spPr>
            <a:xfrm>
              <a:off x="1676520" y="2925000"/>
              <a:ext cx="4182120" cy="549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variáveis loc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475080"/>
              <a:ext cx="4182120" cy="55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arâmet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6520" y="4025160"/>
              <a:ext cx="4182120" cy="549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link dinâ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567320"/>
              <a:ext cx="4182120" cy="549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link está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76520" y="5117400"/>
              <a:ext cx="4182120" cy="55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endereço de reto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84800" y="2362320"/>
              <a:ext cx="4182120" cy="56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onstantes loc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B39-EFEF-4C1E-A711-6683F99A82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mento da Pilh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Principal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Sub1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, b, c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Sub2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, d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  --Sub2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:= b + 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:= 8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 1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&lt; d the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:= 6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2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 2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Sub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603-F57D-4EBB-8EE4-9220169C6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mento da Pilh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Sub3 (x: integer)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, e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Sub4 i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, e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 --Sub4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:= 6; e:= 7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2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 3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:= b + a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Sub4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  --Sub3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:= 4; e :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4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 4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:= a + b + e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Sub3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B42-6543-4D4A-8841-717AABE43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mento da Pilh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 --Sub1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:= 1; b:= 2; c: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3(19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 5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Sub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 --Principa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: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1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 6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Principal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E8C-AA0D-4D55-8C05-825FEB002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mento do Mont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D e LE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mento da Alocação sempre bem definid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mento da Desalocação definido po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: mais eficiente, menos confiável e mais trabalhos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: implementacão mais complexa, falta de controle sobre a desaloc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letor de Lixo de JAVA torna alocação no monte quase tão eficiente quanto na pilh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732-C7F6-46D1-8AB4-C28535EDD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“</a:t>
            </a:r>
            <a:r>
              <a:rPr b="0" i="1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a vez que o programador tenha entendido o uso de variáveis, ele entendeu a essência da programação”. 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[Dijkstra]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ão para uma ou mais células de memória responsáveis por armazenar o estado de uma entidade de computaçã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signed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7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x + 3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084-226A-4755-9766-B0C47F48A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ória Secundári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istência de D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quivos Seriais e Diret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ções de Abertura e Fechament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versão de Dados para Formato Sequencial Binári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dio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, m,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d = {7, 9, 1999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683-F5E0-44BB-85F8-00CC765147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ória Secundári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E *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str[3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\n\n Entre com o nome do arquivo:\n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s(st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(p = fopen(str,"w"))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Erro! Impossivel abrir o arquivo!\n"); exit(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write (&amp;d, sizeof(struct data), 1, p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close(p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fopen(str,"r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ead (&amp;e, sizeof(struct data), 1, p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close (p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%d/%d/%d\n", e.a, e.m, e.d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0C3-D611-4820-B4F0-ADEF4E915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dores de Bancos de D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dadeMaxima = 5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ement comando = conexao.createStatemen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ultSet resultados = comando.executeQuery 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SELECT nome, idade, nascimento FROM pessoa " +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WHERE idade &lt; " + idadeMaxim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resultados.next()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 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nome = resultados.getString("nome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dade = resultados.getInt("idade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e nascimento = resultados.getDate("nasciment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A7B-158B-4B8D-A2CE-4DE557FDEF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istência Ortogonal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smos tipos para variáveis persistentes e transient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nhuma distinção entre o código que lida com variáveis persistentes e o que lida com variáveis transient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entificação de persistência através da percepção da continuidade do us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iminação de Conversões de Entrada e Saída (30% do código)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existem ainda na prátic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583-ECC4-4772-BD42-2DE5D7CECE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ialização e Desserial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l transiente deve ser convertida de sua representação na memória primária para uma sequência de bytes na memória secundári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nteiros devem ser relativizados quando armazen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is anônimas apontadas também devem ser armazenadas e recuperad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3FF-B128-457A-BB3A-3F6BE1FA12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ialização e Desserial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o restaurar uma variável da memória secundária, os ponteiros devem ser ajustados de modo a respeitar as relações existentes anteriormente entre as variáveis anônim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oferece, C++ n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 de JAVA compensa diferenças entre diferentes ambientes computacionai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inda não é o ideal, mas facilita muito a vida do programador 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5B4-7590-4F67-850D-3134300CD8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ialização e Desserial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Impares implements Serializabl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static int j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i = j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 Impares pro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ares(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 = j +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(--n &gt; 0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x = new Impares(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ares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 = j +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x = new Impares(9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37A-F4A4-44E7-B98C-4861D71F78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ialização e Desserial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ring toString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s = ""  + 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(prox != null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+= " : " + prox.toString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ares w = new Impares(6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w = " + w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OutputStream out =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ObjectOutputStream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FileOutputStream("impares.dat")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Courier New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910-BA61-4ADB-8A3C-D0CC4E7DC1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ialização e Desserial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.writeObject("Armazena Impares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.writeObject(w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.clos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InputStream in =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ObjectInputStream(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FileInputStream("impares.dat"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s = (String)in.readObjec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ares z = (Impares)in.readObjec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s + ", z = " + z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.clos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printStackTrac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B11-95B5-4C60-8C6A-BADAB05AEA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240" y="-379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" y="6567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05120" y="1716120"/>
            <a:ext cx="4952880" cy="3979800"/>
            <a:chOff x="1905120" y="1716120"/>
            <a:chExt cx="4952880" cy="3979800"/>
          </a:xfrm>
        </p:grpSpPr>
        <p:sp>
          <p:nvSpPr>
            <p:cNvPr id="92" name=""/>
            <p:cNvSpPr/>
            <p:nvPr/>
          </p:nvSpPr>
          <p:spPr>
            <a:xfrm>
              <a:off x="5807160" y="1716120"/>
              <a:ext cx="1050840" cy="284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07160" y="2000160"/>
              <a:ext cx="1050840" cy="284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7160" y="2284560"/>
              <a:ext cx="1050840" cy="28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7160" y="2567160"/>
              <a:ext cx="1050840" cy="284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07040" y="2000160"/>
              <a:ext cx="75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07040" y="2284560"/>
              <a:ext cx="750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07040" y="1716120"/>
              <a:ext cx="7509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07040" y="2567160"/>
              <a:ext cx="7509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07040" y="2000160"/>
              <a:ext cx="0" cy="56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55840" y="2284560"/>
              <a:ext cx="150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56320" y="2141640"/>
              <a:ext cx="450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5120" y="1857240"/>
              <a:ext cx="210168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Passo 1 – Espaço de memória é alocado e associado à variável 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07160" y="3135240"/>
              <a:ext cx="1050840" cy="284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7160" y="3419640"/>
              <a:ext cx="1050840" cy="28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11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07160" y="3701880"/>
              <a:ext cx="1050840" cy="284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07160" y="3986280"/>
              <a:ext cx="1050840" cy="284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07040" y="3419640"/>
              <a:ext cx="750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7040" y="3701880"/>
              <a:ext cx="75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07040" y="3135240"/>
              <a:ext cx="75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07040" y="3986280"/>
              <a:ext cx="7509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7040" y="3419640"/>
              <a:ext cx="0" cy="56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55840" y="3701880"/>
              <a:ext cx="150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6320" y="3560760"/>
              <a:ext cx="450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2971800"/>
              <a:ext cx="210168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Passo 2 – Valor 7 atribuído a x é colocado no espaço de memória associado a 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07160" y="4554360"/>
              <a:ext cx="1050840" cy="28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07160" y="4836960"/>
              <a:ext cx="1050840" cy="284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101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07160" y="5121360"/>
              <a:ext cx="1050840" cy="284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07160" y="5405400"/>
              <a:ext cx="1050840" cy="284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00000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7040" y="4836960"/>
              <a:ext cx="75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07040" y="5121360"/>
              <a:ext cx="7509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07040" y="4554360"/>
              <a:ext cx="750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07040" y="5405400"/>
              <a:ext cx="7509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FF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07040" y="4836960"/>
              <a:ext cx="0" cy="56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055840" y="5121360"/>
              <a:ext cx="150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56320" y="4979880"/>
              <a:ext cx="450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5120" y="4419720"/>
              <a:ext cx="2101680" cy="12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cc"/>
                  </a:solidFill>
                  <a:latin typeface="Times New Roman"/>
                </a:rPr>
                <a:t>Passo 3 – Valor corrente de x é somado a 3 e resultado é colocado no espaço de memória associado a 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09E-A2B6-426F-A717-504124398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 Variáve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m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meadas ou Anôni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dereç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*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 = &amp;l +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&amp;l = %p\nm = %p\n*m = %c\n“, &amp;l, m, *m);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oním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&amp;s = 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10;</a:t>
            </a:r>
            <a:r>
              <a:rPr b="0" i="1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697-8C54-4433-8080-BFD3713D11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 Variáve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explícita (C), sintátic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FORTRAN) ou semântica (ML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iguração de Bits Corrente e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po de Vi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ocais, Globais e Anôni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nsientes ou Persistent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9F3-4761-4580-BB62-614668BB8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 Variáve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d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i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 = 1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x = %d\n“, x);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5B9-7C8C-4ED8-AB77-86884CFD2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ualização de Variáveis Composta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leta ou Seleti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{ int d, m, a;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f = {7, 9, 1965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g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 = f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mplet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.m = 17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seletiv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B63-2DA6-45E0-B5E6-0EED443E5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ta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definid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x = ‘g’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y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* z = “bola”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 int *w = &amp;3;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z = ‘c’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d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m 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float pi = 3.1416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raio, area, perimetr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io = 10.3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 = pi * raio * ra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imetro = 2 * pi * raio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E1E-F076-4A3C-AFA2-4B88FE2EF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ta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d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m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int y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int*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 y = 4;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 y++;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 x = &amp;y;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= &amp;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D89-7ED9-4E24-92DE-8CFE65BCFD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20T09:49:04Z</dcterms:modified>
  <cp:revision>243</cp:revision>
  <dc:subject/>
  <dc:title>Curso de Qualidade 2004 - SBC</dc:title>
</cp:coreProperties>
</file>